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875E-E370-48BC-81E6-0EADAB98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9839-AF26-4430-8428-20E7700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ECED-0645-433F-8550-364E365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8689-4787-4A1E-9D01-76E225FF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D8A9-F254-49DA-9F2C-06F8B0D7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FE3-366C-4396-B855-FF2500E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1438-5C05-466E-9C46-136E6873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E29-0D9F-4331-B250-775E7A28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731-2A3A-49E5-BCB2-11250B7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5BC-431C-4520-B6C7-1D616DCA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167D-BB0D-4A3A-96F0-7D42B19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DAB2-05E8-4FBA-B2ED-1D3A944E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F69F-D0B7-4DA4-9378-129BED6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AE6B-117E-4A00-9AB9-0D0EBAD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97A-5C34-44D7-91E3-A6088E4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E27-E13C-4C11-9A0B-06BDDFFD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0930-96C3-4DCB-A5F5-FF70027A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2F2F-5592-4846-A4CC-C4BA199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DF83-EB93-41A0-A22F-901D010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6053-5EAC-41F3-9425-394744BB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520B-7498-4152-ACB7-8E222655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2FD1-FD77-4A15-905E-B14CBE4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5F74-A914-4499-8812-ADD8B7E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A04F-3977-4AC9-929D-1CF2A20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DE10-64AC-4544-953E-2482A0673C8B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301-0E75-40DB-9DDA-5A8AC5EC5094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1487;&#25490;&#24207;&#24207;&#21015;.java" TargetMode="External"/><Relationship Id="rId2" Type="http://schemas.openxmlformats.org/officeDocument/2006/relationships/hyperlink" Target="file:///&#21487;&#25490;&#24207;&#24207;&#21015;.java" TargetMode="External"/><Relationship Id="rId3" Type="http://schemas.openxmlformats.org/officeDocument/2006/relationships/hyperlink" Target="file:///&#21487;&#25490;&#24207;&#24207;&#21015;&#28204;&#35430;.java" TargetMode="External"/><Relationship Id="rId4" Type="http://schemas.openxmlformats.org/officeDocument/2006/relationships/hyperlink" Target="file:///&#21487;&#25490;&#24207;&#24207;&#21015;&#28204;&#35430;.java" TargetMode="External"/><Relationship Id="rId5" Type="http://schemas.openxmlformats.org/officeDocument/2006/relationships/hyperlink" Target="file:///&#21487;&#25490;&#24207;&#24207;&#21015;&#28204;&#35430;&#22519;&#34892;&#32080;&#26524;.txt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BubbleSor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所謂排序是指將一序列的資料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(a sequence of data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依「由小而大」或「由大到小」的次序排列的過程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orting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排序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所需要的額外空間為     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僅需要在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swap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資料時的一個可容納資料的額外空間即可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(1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與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不相關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，是一個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in place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排序法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佳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be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佳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壞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wor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壞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平均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average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平均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程式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可排序序列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可排序序列測試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可排序序列測試執行結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小程式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(applet)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展示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實例展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說明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的做法為將相鄰的兩個資料加以比較，若左邊資料的值大於右邊資料的值，則將此二筆資料互相交換，否則資料的位置即維持不動。上述的比較及交換過程一直持續進行到最後一個資料為止，這稱為一個</a:t>
            </a:r>
            <a:r>
              <a:rPr b="0" lang="zh-TW" sz="3600" spc="-1" strike="noStrike">
                <a:solidFill>
                  <a:srgbClr val="ff0000"/>
                </a:solidFill>
                <a:latin typeface="Garamond"/>
              </a:rPr>
              <a:t>回合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(pass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。第一個回合的比對進行到最後一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次比對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而第二回合的比對進行到倒數第二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因為具最大值的資料已經調換至最後一個位置了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餘依此類推。當進行完第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回合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比較編號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與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資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後，則所有的資料均已依由小到大的次序排列好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演算法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Algorithm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A, n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In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具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整數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Out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依整數值由小到大排列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  <a:ea typeface="MS Hei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←n-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j←0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[j]&gt;A[j+1]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wap(A[j], A[j+1]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retur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//i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代表每回合比較到的最後一對資料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的右邊資料的編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PASS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 3        4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i=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8       5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 j+1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8’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1 end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2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8        6        8’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2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3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6        7        8        8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3 end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4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4 ending; sorting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4+3+2+1=10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(n-1)+(n-2)+….+2+1=n(n-1)/2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氣泡排序法是屬於</a:t>
            </a:r>
            <a:r>
              <a:rPr b="0" lang="zh-TW" sz="4400" spc="-1" strike="noStrike">
                <a:solidFill>
                  <a:srgbClr val="ff0000"/>
                </a:solidFill>
                <a:latin typeface="Garamond"/>
              </a:rPr>
              <a:t>穩定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(stable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排序法嗎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若資料之值相同則其相對位置未改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(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如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’)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，因此氣泡排序法是一種穩定排序法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1-12-25T21:32:49Z</dcterms:modified>
  <cp:revision>25</cp:revision>
  <dc:subject/>
  <dc:title>Bubble Sort(泡泡排序法)</dc:title>
</cp:coreProperties>
</file>