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EE99-A6F0-4140-A2A7-E2E528EF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8B43-BB88-4C14-873A-BFD4AB8C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480C-14DB-41FB-972B-205C701E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93BC-DF56-45E7-B31C-3904155F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2030-B32C-4E62-A275-451B24A7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35FF-1746-4D66-A379-290F1398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9F4-14BF-429E-B3AA-BE41EDB2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801C-7F13-4DBC-BADD-68577C25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5599-2DEB-4346-A5B7-174A39F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765D-DD2E-4430-842C-4F837BF9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02F5-DD0C-4DD3-9C25-80767D5E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9CED-8D11-4097-BF54-C0BAB8C5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C1CB-3A43-47A8-AD13-C62F9A11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49D5-B5CA-4D62-B33A-F7034AA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8969-E190-49F2-B333-80C5045D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B893-DD6C-46AC-8029-96535071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CA5B-85BF-4F90-BE80-76378302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B493-BB7D-4C89-A8B6-7C092BFC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D73A-8114-4D73-A5B2-F18CCE07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CFE9-A88D-4DF7-B8C1-31D91862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9C53-855F-4163-A66E-6F33FAAB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6EE6-3779-41EB-9BB8-DC6D69E6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F1503-1054-400D-9242-369B966D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9DCA-499D-4D50-BEA2-34B7DD2C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16F1-83C7-41EF-9568-03AF45D94F2B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B879-D162-4442-BDE3-CD5E95C512DC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1487;&#25490;&#24207;&#24207;&#21015;.java" TargetMode="External"/><Relationship Id="rId2" Type="http://schemas.openxmlformats.org/officeDocument/2006/relationships/hyperlink" Target="file:///&#21487;&#25490;&#24207;&#24207;&#21015;.java" TargetMode="External"/><Relationship Id="rId3" Type="http://schemas.openxmlformats.org/officeDocument/2006/relationships/hyperlink" Target="file:///&#21487;&#25490;&#24207;&#24207;&#21015;&#28204;&#35430;.java" TargetMode="External"/><Relationship Id="rId4" Type="http://schemas.openxmlformats.org/officeDocument/2006/relationships/hyperlink" Target="file:///&#21487;&#25490;&#24207;&#24207;&#21015;&#28204;&#35430;.java" TargetMode="External"/><Relationship Id="rId5" Type="http://schemas.openxmlformats.org/officeDocument/2006/relationships/hyperlink" Target="file:///&#21487;&#25490;&#24207;&#24207;&#21015;&#28204;&#35430;&#22519;&#34892;&#32080;&#26524;.txt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BubbleSort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所謂排序是指將一序列的資料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(a sequence of data)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依「由小而大」或「由大到小」的次序排列的過程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orting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排序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所需要的額外空間為     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僅需要在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swap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資料時的一個可容納資料的額外空間即可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(1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與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不相關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)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，是一個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in place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排序法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在最佳狀況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best case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下的</a:t>
            </a:r>
            <a:r>
              <a:rPr b="0" lang="zh-TW" sz="4000" spc="-1" strike="noStrike">
                <a:solidFill>
                  <a:srgbClr val="ff0000"/>
                </a:solidFill>
                <a:latin typeface="Garamond"/>
              </a:rPr>
              <a:t>時間複雜度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(time complexity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為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法在最佳狀況下的時間複雜度為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(n-1)/2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在最壞狀況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worst case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下的</a:t>
            </a:r>
            <a:r>
              <a:rPr b="0" lang="zh-TW" sz="4000" spc="-1" strike="noStrike">
                <a:solidFill>
                  <a:srgbClr val="ff0000"/>
                </a:solidFill>
                <a:latin typeface="Garamond"/>
              </a:rPr>
              <a:t>時間複雜度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(time complexity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為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法在最壞狀況下的時間複雜度為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(n-1)/2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在平均狀況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average case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下的</a:t>
            </a:r>
            <a:r>
              <a:rPr b="0" lang="zh-TW" sz="4000" spc="-1" strike="noStrike">
                <a:solidFill>
                  <a:srgbClr val="ff0000"/>
                </a:solidFill>
                <a:latin typeface="Garamond"/>
              </a:rPr>
              <a:t>時間複雜度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(time complexity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為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法在平均狀況下的時間複雜度為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(n-1)/2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  <a:ea typeface="細明體"/>
              </a:rPr>
              <a:t>Java</a:t>
            </a: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程式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可排序序列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.jav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可排序序列測試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.jav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可排序序列測試執行結果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  <a:ea typeface="細明體"/>
              </a:rPr>
              <a:t>Java</a:t>
            </a: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小程式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  <a:ea typeface="細明體"/>
              </a:rPr>
              <a:t>(applet)</a:t>
            </a: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展示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實例展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說明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氣泡排序法的做法為將相鄰的兩個資料加以比較，若左邊資料的值大於右邊資料的值，則將此二筆資料互相交換，否則資料的位置即維持不動。上述的比較及交換過程一直持續進行到最後一個資料為止，這稱為一個</a:t>
            </a:r>
            <a:r>
              <a:rPr b="0" lang="zh-TW" sz="3600" spc="-1" strike="noStrike">
                <a:solidFill>
                  <a:srgbClr val="ff0000"/>
                </a:solidFill>
                <a:latin typeface="Garamond"/>
              </a:rPr>
              <a:t>回合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(pass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。第一個回合的比對進行到最後一個資料為止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n-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次比對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；而第二回合的比對進行到倒數第二個資料為止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因為具最大值的資料已經調換至最後一個位置了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；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；餘依此類推。當進行完第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-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個回合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比較編號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與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之資料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之後，則所有的資料均已依由小到大的次序排列好了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演算法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Algorithm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氣泡排序法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A, n)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Input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  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具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個整數的陣列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Output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依整數值由小到大排列的陣列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  <a:ea typeface="MS Hei"/>
              </a:rPr>
              <a:t>for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←n-1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1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d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   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for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j←0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-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i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A[j]&gt;A[j+1]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the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wap(A[j], A[j+1]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retur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A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//i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代表每回合比較到的最後一對資料對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的右邊資料的編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PASS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 3        4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i=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8       5       8’       7 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8’       7 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8’       7 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  j+1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8’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 j+1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6        8’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1 endin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PASS2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3        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i=3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6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6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 j+1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8        6        8’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6        8        8’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             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2 end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PASS3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3        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i=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6        8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6        8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6        7        8        8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3 end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PASS4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3        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i=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6       7        8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6       7        8        8’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4 ending; sorting end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細明體"/>
              </a:rPr>
              <a:t>5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  <a:ea typeface="細明體"/>
              </a:rPr>
              <a:t>筆資料之比較次數：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5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筆資料需要比較的次數為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4+3+2+1=10(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次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細明體"/>
              </a:rPr>
              <a:t>n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  <a:ea typeface="細明體"/>
              </a:rPr>
              <a:t>筆資料之比較次數：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n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筆資料需要比較的次數為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(n-1)+(n-2)+….+2+1=n(n-1)/2(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次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氣泡排序法是屬於</a:t>
            </a:r>
            <a:r>
              <a:rPr b="0" lang="zh-TW" sz="4400" spc="-1" strike="noStrike">
                <a:solidFill>
                  <a:srgbClr val="ff0000"/>
                </a:solidFill>
                <a:latin typeface="Garamond"/>
              </a:rPr>
              <a:t>穩定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(stable)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排序法嗎？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若資料之值相同則其相對位置未改變</a:t>
            </a: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(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如</a:t>
            </a: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8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及</a:t>
            </a: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8’)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，因此氣泡排序法是一種穩定排序法。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5:07:38Z</dcterms:created>
  <dc:creator>JEHN-RUEY JAING</dc:creator>
  <dc:description/>
  <dc:language>en-US</dc:language>
  <cp:lastModifiedBy>江振瑞</cp:lastModifiedBy>
  <dcterms:modified xsi:type="dcterms:W3CDTF">2001-12-25T21:32:49Z</dcterms:modified>
  <cp:revision>25</cp:revision>
  <dc:subject/>
  <dc:title>Bubble Sort(泡泡排序法)</dc:title>
</cp:coreProperties>
</file>