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8EE-7E6C-4B17-953F-7AE9D35A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DE7-D64C-41A8-BC6B-0075738D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550-70CD-45B4-988B-FE1F816B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B29-D527-4E81-A329-FDC04AA3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B49-0E79-4C4C-B398-4D915D8A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E21D-A250-4AA3-8B5F-81DE702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D15E-08B5-489E-8CB3-D0409333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FFEE-DC02-4561-BBBD-78FA448F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1FD-6A66-4233-BB90-36B87DF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3A8-57A3-4F37-8DE0-1FE1FD2E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83AC-115E-4313-BCF2-1E38433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704-DBB3-4ACD-88A9-5F79618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8957-C6B4-48A1-893E-8BEBA698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4359-ADE4-4DD7-AC4D-FEFC8AF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4228-452A-4D75-97B2-AB6A858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6BF-4A37-499B-8053-7CC640CA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AB9-50B4-4C60-A706-FF4AD78F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212-BA31-4DA9-9809-5EFC317E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94D-6619-4FD9-AD8D-CBEE601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24A-4FC8-4D53-8E73-3F79468F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B7A-90B9-4EB9-B006-D23BB139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626-DA0C-4E50-875E-4109AD1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FFC-0176-41C0-BAA2-03AB62AF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C43-FC38-41ED-84BB-7145FD6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7BB-A455-4FA4-AD2C-EB37ECFC6534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EFB3-F920-4C88-81E8-481ED8160E65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hash table consists of two compon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cket arra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提桶陣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cket array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rray B: B[0], B[1],…,B[n-1] of size n , where n is the capacit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容量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tem (e, k) with element e and key k is inserted into the bucke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D, so search B[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7]==5, claim find key 5 at bucke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2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4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2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3]!=24, so search B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4]==empty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4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8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419720" y="304920"/>
            <a:ext cx="4038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3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4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1]!=34, so search 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3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0]!=34, so search B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has gone a full round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62720" y="4572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buckets with slot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457200"/>
          <a:ext cx="4953240" cy="6229440"/>
        </p:xfrm>
        <a:graphic>
          <a:graphicData uri="http://schemas.openxmlformats.org/drawingml/2006/table">
            <a:tbl>
              <a:tblPr/>
              <a:tblGrid>
                <a:gridCol w="1371600"/>
                <a:gridCol w="1219320"/>
                <a:gridCol w="1219320"/>
                <a:gridCol w="11430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nction mapping key k into the range [0 , n-1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function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k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has better be a prime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質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h(k)s are not unique, then the collision (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碰撞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occurr. Collision handling is requir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19360" y="30492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buckets with linked-list slot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鏈結串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題目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使用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buckets with linked-list slots 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設計一個雜湊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繳交日期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月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4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日期末考試開始前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ect Hash T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that has no colli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used in static table in which all items are known in advance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=16, 25, 18, 11, 28, 7, 5, 38 with h(k)=k%8 and capacity 8 is a perfect hash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hash function 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(ak +b)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is a prime , a ≠ 0 and b are nonnegative inte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d square 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假設桶陣列大小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81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平方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660156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取百位至萬位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156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壓縮一半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lision – handling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probing 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線性探測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] is already occupied, where i =h(k) ,then we try B[i+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+1] is also occupied , then we try B[i+2]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oval :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activated i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indicate that search must contin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2-01-07T08:19:49Z</dcterms:modified>
  <cp:revision>39</cp:revision>
  <dc:subject/>
  <dc:title>Bubble Sort(泡泡排序法)</dc:title>
</cp:coreProperties>
</file>