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2E0-B5D7-49DE-A1AE-41CA825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F9B1-C59D-477B-AC8A-0D9FD0B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E29A-7061-4DCA-94C3-8DAA8F5B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49C-CF64-4A2A-9011-DC6D0EA3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AF81-5121-469F-98D1-B9682299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9F40-A029-45D1-9A03-68FF9793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85A1-59F2-4A94-B456-74BC773E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CF8F-152E-4A24-9209-FDE05859C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2B5C-6D2C-4991-BC9F-E742CDBF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0950-6CDF-41F0-86F1-AB8DECB5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4D16-861D-40C8-A318-4AE15CFD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B9A3-BCA0-4BEE-9B79-52EA5072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9CA5-910B-4A11-8BA7-C3AF1C61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A632-9952-4B07-A7B8-8077211F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DC5A-83F6-446A-942F-FEBDAF56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2B2B-35C2-48B7-B85B-F26E7B62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105E-8A51-4380-9712-2E1EC4A6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54B6-52CD-4596-885F-F88D88D2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AD6-C241-4A58-AAEB-1D9DFDC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D5C-7A84-4E11-8765-C635E13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7D2-8127-47B7-8738-74665FC6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6EF7-A797-4409-8F01-C7866D47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322-C5B5-4252-9588-66E192CD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ED7E-EFE2-431C-AFB4-CAC6CB6B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1C8F-8D13-45DD-8232-3412D2135F7A}" type="slidenum">
              <a:rPr b="0" lang="zh-TW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C4E7-4FF5-4DFA-A549-BC866AD1F8CC}" type="slidenum">
              <a:rPr b="0" lang="zh-TW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22096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hash table consists of two component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ucket arra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提桶陣列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38)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2209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cket array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array B: B[0], B[1],…,B[n-1] of size n , where n is the capacity (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容量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item (e, k) with element e and key k is inserted into the bucket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419720" y="30492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Remove 3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38, so remov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5]!=38 so search B[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6]==D, so search B[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7]==5, claim find key 5 at bucket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*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4419720" y="304920"/>
            <a:ext cx="40384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2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4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2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3]!=24, so search B[4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4]==empty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*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48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8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(5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4419720" y="304920"/>
            <a:ext cx="4038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nsert 59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9 % 11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4419720" y="304920"/>
            <a:ext cx="40384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Search 34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4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1]!=34, so search B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2]!=34, so search B[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[0]!=34, so search B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arch has gone a full round, so claim No_Such_key(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找不到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562720" y="4572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ing buckets with slot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80880" y="457200"/>
          <a:ext cx="4953240" cy="6229440"/>
        </p:xfrm>
        <a:graphic>
          <a:graphicData uri="http://schemas.openxmlformats.org/drawingml/2006/table">
            <a:tbl>
              <a:tblPr/>
              <a:tblGrid>
                <a:gridCol w="1371600"/>
                <a:gridCol w="1219320"/>
                <a:gridCol w="1219320"/>
                <a:gridCol w="114300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槽</a:t>
                      </a:r>
                      <a:r>
                        <a:rPr b="0" lang="zh-TW" sz="20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h function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function mapping key k into the range [0 , n-1]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function 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k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has better be a prime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質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h(k)s are not unique, then the collision (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碰撞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ill occurr. Collision handling is requir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419360" y="30492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buckets with linked-list slots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0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0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0880" y="457200"/>
          <a:ext cx="3733920" cy="621360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鏈結串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0880" y="0"/>
            <a:ext cx="8534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題目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使用</a:t>
            </a: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buckets with linked-list slots 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設計一個雜湊表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</a:rPr>
              <a:t>繳交日期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月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14</a:t>
            </a:r>
            <a:r>
              <a:rPr b="0" lang="zh-TW" sz="5400" spc="-1" strike="noStrike">
                <a:solidFill>
                  <a:srgbClr val="000000"/>
                </a:solidFill>
                <a:latin typeface="Tahoma"/>
                <a:ea typeface="新細明體"/>
              </a:rPr>
              <a:t>日期末考試開始前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erfect Hash Tab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that has no collis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t is used in static table in which all items are known in advance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=16, 25, 18, 11, 28, 7, 5, 38 with h(k)=k%8 and capacity 8 is a perfect hash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ther hash function exam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(k) = (ak +b) mod 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is a prime , a ≠ 0 and b are nonnegative integ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d square 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假設桶陣列大小為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br>
              <a:rPr sz="3200"/>
            </a:b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81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平方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66015625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取百位至萬位數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156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壓縮一半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7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llision – handling examp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probing (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線性探測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] is already occupied, where i =h(k) ,then we try B[i+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B[i+1] is also occupied , then we try B[i+2]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moval : using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activated it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indicate that search must continu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ear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8284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hash table with capacity 11. We choose hashing function h(k)= k mod 11 with linear probing collision – handling. Write down the hash table when we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ert 68 , 32 , 44 , 58 , 27 , 19 , 23 , 42 , 38 ,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remove 3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insert 48 , 5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ash Table (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雜湊表</a:t>
            </a:r>
            <a:r>
              <a:rPr b="0" lang="zh-TW" sz="5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80880" y="457200"/>
          <a:ext cx="3733920" cy="6210360"/>
        </p:xfrm>
        <a:graphic>
          <a:graphicData uri="http://schemas.openxmlformats.org/drawingml/2006/table">
            <a:tbl>
              <a:tblPr/>
              <a:tblGrid>
                <a:gridCol w="13716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桶編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鍵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4419720" y="304920"/>
            <a:ext cx="40384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</a:rPr>
              <a:t>I</a:t>
            </a:r>
            <a:r>
              <a:rPr b="1" lang="en-US" sz="24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nsert 68 , 32 , 44 , 58 , 27 , 19 , 23 , 42 , 38 , 5</a:t>
            </a:r>
            <a:r>
              <a:rPr b="0" lang="en-US" sz="24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68 % 1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2 % 1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4 % 11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8 % 11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7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19 % 11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23 % 1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42 % 11 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38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Tahoma"/>
              </a:rPr>
              <a:t>5 % 11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6T15:07:38Z</dcterms:created>
  <dc:creator>JEHN-RUEY JAING</dc:creator>
  <dc:description/>
  <dc:language>en-US</dc:language>
  <cp:lastModifiedBy>江振瑞</cp:lastModifiedBy>
  <dcterms:modified xsi:type="dcterms:W3CDTF">2002-01-07T08:19:49Z</dcterms:modified>
  <cp:revision>39</cp:revision>
  <dc:subject/>
  <dc:title>Bubble Sort(泡泡排序法)</dc:title>
</cp:coreProperties>
</file>