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F11-FC0D-4D8B-BFF4-1D2409A6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792-A926-4607-A4DE-6E855BE5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402-2D67-40AF-8EB6-95DA1185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305-5A5E-402D-A2AF-B44307D4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440-A7CF-463D-A36C-9DFD317C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8B33-4B6A-4AC4-816E-8436499A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0478-4A02-479C-A584-C2039023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51F1-438A-4373-A0B0-F07F019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439F-7E0E-4E7D-942E-E0E39671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D71D-F93D-4454-B163-3F9AA43B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C3F2-81D0-432C-9759-2C452358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B65-03C2-4862-8165-BEBF92B0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8F74-CDE1-4CDC-BAE3-A527871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6742-DB71-4F87-BA03-665B17C6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D4BD-4FCC-4D88-B531-8C449525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440-D7E1-4F3A-BFAB-8792A425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CDF8-9199-482F-9078-3B82F142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388-A300-496F-BE7E-887E82E3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228-AF06-4FE4-A101-9AF3B6C5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598-09E3-45F1-B64C-0FE6918C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453-0A5A-42CE-9A6F-5CDE2673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F8F-A35E-449E-83A9-9B6315D9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85F-D7D5-49C3-A89A-83E3B8F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CFB-A28A-4DAA-9281-6BDC94E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79D6-7C12-48DE-8254-1C01FC8FEF66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18F-B043-47F8-94EB-8343F0638478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hash table consists of two compon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cket array (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提桶陣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457200"/>
          <a:ext cx="373392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4419720" y="30492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Remove 3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38, so remov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cket array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rray B: B[0], B[1],…,B[n-1] of size n , where n is the capacity (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容量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tem (e, k) with element e and key k is inserted into the bucke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419720" y="30492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Remove 3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38, so remov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*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4419720" y="3049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D, so search B[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7]==5, claim find key 5 at bucke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*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419720" y="3049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24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4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2]!=24, so search B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3]!=24, so search B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4]==empty, so claim No_Such_Key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找不到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4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8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4419720" y="304920"/>
            <a:ext cx="4038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34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4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1]!=34, so search 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2]!=34, so search B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0]!=34, so search B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arch has gone a full round, so claim No_Such_key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找不到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62720" y="4572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buckets with slot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457200"/>
          <a:ext cx="4953240" cy="6229440"/>
        </p:xfrm>
        <a:graphic>
          <a:graphicData uri="http://schemas.openxmlformats.org/drawingml/2006/table">
            <a:tbl>
              <a:tblPr/>
              <a:tblGrid>
                <a:gridCol w="1371600"/>
                <a:gridCol w="1219320"/>
                <a:gridCol w="1219320"/>
                <a:gridCol w="11430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h function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unction mapping key k into the range [0 , n-1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function 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(k) = k mod 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has better be a prime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質數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h(k)s are not unique, then the collision (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碰撞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ll occurr. Collision handling is requir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419360" y="30492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ing buckets with linked-list slot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457200"/>
          <a:ext cx="373392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鏈結串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</a:rPr>
              <a:t>題目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使用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buckets with linked-list slots 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設計一個雜湊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</a:rPr>
              <a:t>繳交日期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月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14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日期末考試開始前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fect Hash Tab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that has no colli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used in static table in which all items are known in advance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=16, 25, 18, 11, 28, 7, 5, 38 with h(k)=k%8 and capacity 8 is a perfect hash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hash function exam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(k) = (ak +b) mod 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is a prime , a ≠ 0 and b are nonnegative inte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d square 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假設桶陣列大小為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8125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平方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66015625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取百位至萬位數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156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壓縮一半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lision – handling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probing 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線性探測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[i] is already occupied, where i =h(k) ,then we try B[i+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[i+1] is also occupied , then we try B[i+2]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oval :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activated i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indicate that search must continu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with capacity 11. We choose hashing function h(k)= k mod 11 with linear probing collision – handling. Write down the hash table when w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 68 , 32 , 44 , 58 , 27 , 19 , 23 , 42 , 38 ,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remove 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earch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insert 48 ,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ear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with capacity 11. We choose hashing function h(k)= k mod 11 with linear probing collision – handling. Write down the hash table when w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 68 , 32 , 44 , 58 , 27 , 19 , 23 , 42 , 38 ,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remove 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insert 48 ,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5:07:38Z</dcterms:created>
  <dc:creator>JEHN-RUEY JAING</dc:creator>
  <dc:description/>
  <dc:language>en-US</dc:language>
  <cp:lastModifiedBy>江振瑞</cp:lastModifiedBy>
  <dcterms:modified xsi:type="dcterms:W3CDTF">2002-01-07T08:19:49Z</dcterms:modified>
  <cp:revision>39</cp:revision>
  <dc:subject/>
  <dc:title>Bubble Sort(泡泡排序法)</dc:title>
</cp:coreProperties>
</file>