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0A49F-5799-4422-A39D-6CB2175B9A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2908E-FC5D-4533-A897-9668F7410D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410A5-93D5-4DF7-82DC-6535F1B210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DEF27-F7C7-41B6-B02F-F3BD4CA61D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7ABA-9EF4-4886-90D1-E12EA2E450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1D3E-BBC4-4F3A-BF0E-BDB18CF69F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180D-A350-48AC-BFC8-7867A41478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0729-6713-4FE6-BFD7-4E731B22B9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6AE8-1F83-4478-9F24-1B34469595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9F61-2F21-4D89-90DB-E1BDE15851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CD3E-180E-47D7-8555-1EF4A0D955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DA569-735A-48B5-B4F9-F8D1C606F3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E57D-C74D-41F7-8352-1E857E410D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8A67-BB98-4CBB-8DAE-1192F61414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42EA-9EB4-40F0-A2B3-DCAAFC084E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9457-3036-41F8-838E-C859F0BFC5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8768-5648-4654-ABE7-2980966EC4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C7B2A-9830-4E6E-BCED-0B559E1A5C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C5E7C-CB8B-4234-A0F6-668B9262FA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374D4-B32D-4275-B022-E5FAC426A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08B32-D280-455F-9C42-D5141E122D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C5A98-75CD-47A6-B3CC-D58187DBE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9927A-F67E-4AF5-8959-57EDC662B0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A605D-F5CD-4F1F-8914-A79EF7B36F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e4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2487-70D2-4ADA-AD64-3D87DC7EFC54}" type="slidenum">
              <a:rPr b="0" lang="en-US" sz="1400" spc="-1" strike="noStrike">
                <a:solidFill>
                  <a:srgbClr val="00e4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7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8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0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1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3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2"/>
          </p:nvPr>
        </p:nvSpPr>
        <p:spPr>
          <a:xfrm>
            <a:off x="236232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e4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A0B3-5807-4FE0-A65B-6E03BBC43B7B}" type="slidenum">
              <a:rPr b="0" lang="en-US" sz="1400" spc="-1" strike="noStrike">
                <a:solidFill>
                  <a:srgbClr val="00e4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71EA-09D7-4CF2-B3B8-15B78BB6EB83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356840"/>
            <a:ext cx="7772400" cy="16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he Lower Bound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f</a:t>
            </a: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5FD0-5356-4A43-B441-C33BFDEB4242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log n!=O(n log n)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rling approxim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!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g n!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lo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 log n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log 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02444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5"/>
              <p:cNvSpPr txBox="1"/>
              <p:nvPr/>
            </p:nvSpPr>
            <p:spPr>
              <a:xfrm>
                <a:off x="2590920" y="2362320"/>
                <a:ext cx="1095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pn</m:t>
                        </m:r>
                      </m:e>
                    </m:rad>
                    <m:r>
                      <m:t xml:space="preserve">(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1" name="Rectangle 6"/>
          <p:cNvSpPr/>
          <p:nvPr/>
        </p:nvSpPr>
        <p:spPr>
          <a:xfrm>
            <a:off x="340524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7"/>
              <p:cNvSpPr txBox="1"/>
              <p:nvPr/>
            </p:nvSpPr>
            <p:spPr>
              <a:xfrm>
                <a:off x="3352680" y="3048120"/>
                <a:ext cx="2333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p</m:t>
                        </m:r>
                      </m:e>
                    </m:ra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33" name="Object 8" descr=""/>
          <p:cNvPicPr/>
          <p:nvPr/>
        </p:nvPicPr>
        <p:blipFill>
          <a:blip r:embed="rId1"/>
          <a:stretch/>
        </p:blipFill>
        <p:spPr>
          <a:xfrm>
            <a:off x="1828800" y="3733920"/>
            <a:ext cx="54100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B142-3592-42BB-A2EE-700A1F2DA8B3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verage case lower bound of sor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decision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verage time complexity of a sorting algorith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the external path length of the binary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external path length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minimized if the tree is 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ll leaf nodes on level d or level 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投影片編號版面配置區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33F3-B15B-49DB-BC06-5163E5A39DBA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Object 2" descr=""/>
          <p:cNvPicPr/>
          <p:nvPr/>
        </p:nvPicPr>
        <p:blipFill>
          <a:blip r:embed="rId1"/>
          <a:stretch/>
        </p:blipFill>
        <p:spPr>
          <a:xfrm>
            <a:off x="1219320" y="2031840"/>
            <a:ext cx="7543800" cy="48261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verage case lower bound of sor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4621-12CF-4B8E-9535-DDD6B7515CC0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mpute the min external path lengt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14400" y="1828800"/>
            <a:ext cx="7467480" cy="52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Depth of balanced binary tree with c leaf no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 c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f nodes can appear only on level d or 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af nodes on level d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af nodes on level 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新細明體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+ 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=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     =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d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(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4"/>
              <p:cNvSpPr txBox="1"/>
              <p:nvPr/>
            </p:nvSpPr>
            <p:spPr>
              <a:xfrm>
                <a:off x="2514600" y="4648320"/>
                <a:ext cx="4716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DC03-1A0B-4ECE-8EE5-E5F28CB24BA0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xternal path l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= 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1) + x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)(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1) + (2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c + c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 c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log 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log c + 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 + c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 + c(log c) -2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 log 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c log 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us M &gt;  c log 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 = n! log n!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/n!  &gt; log n! -1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 log n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verage case lower bound of sorting: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n log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303200" y="77004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verage case lower bound of sor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3E03-FBB7-48D6-9A19-CB02D1A3EDD3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inding lower bound by problem transform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1928880"/>
            <a:ext cx="89550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lower bound of Problem A is kn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A reduces to problem B (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f A can be solved by using any algorithm whi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ves 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It is required that T(tr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+ T(tr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&lt; T(AL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(A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(AL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(tr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+ T(tr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+ T(AL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T(AL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, B is more difficult. So, the lower bound of A is also the lower bound of B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1357200" y="3643200"/>
          <a:ext cx="7077240" cy="171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3643200"/>
                    <a:ext cx="707724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Line 9"/>
          <p:cNvSpPr/>
          <p:nvPr/>
        </p:nvSpPr>
        <p:spPr>
          <a:xfrm>
            <a:off x="3605040" y="3890880"/>
            <a:ext cx="2057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7072200" y="3929040"/>
            <a:ext cx="0" cy="838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Line 12"/>
          <p:cNvSpPr/>
          <p:nvPr/>
        </p:nvSpPr>
        <p:spPr>
          <a:xfrm flipH="1">
            <a:off x="3681360" y="4881600"/>
            <a:ext cx="1905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13"/>
          <p:cNvSpPr/>
          <p:nvPr/>
        </p:nvSpPr>
        <p:spPr>
          <a:xfrm>
            <a:off x="2500200" y="3857760"/>
            <a:ext cx="0" cy="809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4BB4-472B-4123-AFF6-CF72E0412852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lower bound of the convex hull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8284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rt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vex h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nstance of A: 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↓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ransform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nstance of B: {(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(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ume: 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 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 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 G. A: (2, 8, 3, 5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: {(2, 4), (8, 64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3, 9), (5, 25)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nswer of B: {(2, 4), (3, 9), (5, 25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8, 64)}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nswer of A: 2, 3, 5, 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30430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6238800" y="4191120"/>
            <a:ext cx="2905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0ED9-76EC-43A6-8FE1-F76D8ADC290A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lower bound of the convex hull proble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he convex hull problem can be solved, we can also solve the sorting probl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lower bound of sorting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 log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us, the lower bound of the convex hull proble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n log 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FC44-C211-4FD8-A8DC-2ACEA4A666F4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ternal Path Length of a tre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sum of the lengths of paths from the root to each of the leaf node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AutoShape 4">
            <a:hlinkClick r:id="" action="ppaction://hlinkshowjump?jump=previousslide"/>
          </p:cNvPr>
          <p:cNvSpPr/>
          <p:nvPr/>
        </p:nvSpPr>
        <p:spPr>
          <a:xfrm>
            <a:off x="7885080" y="260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投影片編號版面配置區 1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2101-D0E2-4411-9C20-A6AA2A15FFDA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P-complet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cidabl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the algorithm for a problem the bes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al (algorith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80880" y="617400"/>
            <a:ext cx="87631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Measure the difficulty of a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proble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8B3A-752F-4592-980B-2D28358E785F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60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ower bou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ef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ower bou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least time complexity required for any algorithm which can be used to solve this probl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orst case lower bou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verage case lower b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D3D2-A0EB-4B08-8418-0207E2386688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ower bound for a problem is not uniq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1)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)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 log n) are all lower bounds for sor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1)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) are trivi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present, if the highest lower bound of a problem 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 log n) and  the time complexity of the best algorithm is O(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may try to find a higher lower boun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may try to find a better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of the lower bound and the algorithm may be improv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the present lower bound is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(n log n) and there is an algorithm with time complexity O(n log n), then the algorithm is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optimal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60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ower bou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34C0-1239-4371-9699-15B92679D748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 permutations for 3 data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09600" y="685800"/>
            <a:ext cx="844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worst case lower bound of sort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7B6B-3AC4-43B2-BC2A-B88B45DFA095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raight insertion sort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 data: (2, 3, 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2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3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 data: (2, 1,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)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2)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a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B4CD-D357-41A7-BED5-60F65C0A2166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Decision tree for straight insertion sort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93356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1066680" y="1795320"/>
            <a:ext cx="678204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4945-C16B-4CEA-8518-0DF0910A2BD2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Decision tree for bubble sort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93356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990720" y="1820880"/>
            <a:ext cx="708660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投影片編號版面配置區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CF9C-29F9-4177-9002-3CF9052E6F02}" type="slidenum">
              <a:rPr b="0" lang="en-US" sz="1400" spc="-1" strike="noStrike">
                <a:solidFill>
                  <a:srgbClr val="00e4a8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wer bound of sortin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ind the lower bound, we have to find th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mallest dep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a binary tre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!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istinct permu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! leaf nodes in the binary decision tre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alanced tre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s the smallest dep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(n!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 log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bound for sorting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 log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7T09:23:55Z</dcterms:created>
  <dc:creator>caleb</dc:creator>
  <dc:description/>
  <dc:language>en-US</dc:language>
  <cp:lastModifiedBy>Bob</cp:lastModifiedBy>
  <dcterms:modified xsi:type="dcterms:W3CDTF">2009-09-28T08:58:50Z</dcterms:modified>
  <cp:revision>113</cp:revision>
  <dc:subject/>
  <dc:title>Chapter 2</dc:title>
</cp:coreProperties>
</file>