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A2D4-B2A9-4386-A3F9-34237D284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3CEC-F798-4721-A42D-3F77F1F90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33AA-F3DD-4FA7-B065-9A2A27039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189F-014D-4C0F-B3E6-98BF9C68D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9CA-D09B-48C9-9744-519EA76617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695-5082-4AB5-99FB-3BC430799C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152-AD68-46F7-9F5F-2D284E842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A0C-4430-4B35-A15D-2EE4E67A1A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2DD-F5C7-408F-B97C-B97391EC23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7CF-C2DB-4CA7-B6C5-0E1EE7803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4A4-1F32-456F-8069-EBFF48B93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7DDD-3082-4079-A621-7497C3C41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721-B698-4311-8822-EE7063B0D0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026-609F-4C43-A85A-58039ED2B4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7B7-A77C-4AAE-9197-377E3896E0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0B8-ACE4-4FEB-8CEC-BC2D1F01FB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48D-5D31-4335-8A02-211F7DF2E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FB11-0161-45CF-A08B-D9D49125A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C65C-B3E7-4B70-A189-8B87124B7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1332-18EF-4A06-B3A6-0B30114B0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5430-F744-45B7-AB41-B8818CE16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F009-9185-4DB5-9A7F-15D8D53ED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0303-4282-4E57-975A-F86028FD4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44FF-C11C-4775-AF13-7A99FA34A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191D-2DFC-4B68-BBDC-9F9CC32C1140}" type="slidenum">
              <a:rPr b="0" lang="en-US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2A82-33C0-445D-816D-73D05D43E7EA}" type="slidenum">
              <a:rPr b="0" lang="en-US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B4AF-E353-48E4-B92C-A72D39F3C64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356840"/>
            <a:ext cx="777240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e Lower Bound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5431-72CB-4017-A5CC-0203CDD4B26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log n!=O(n log n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rling approxim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!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 n!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 log n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og 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0244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590920" y="2362320"/>
                <a:ext cx="109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pn</m:t>
                        </m:r>
                      </m:e>
                    </m:rad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34052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3352680" y="3048120"/>
                <a:ext cx="233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3" name="Object 8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541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D712-A645-4284-9713-EE8283DE7FC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erage case lower bound of sor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decision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verage time complexity of a sorting 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 external path length of the binary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external path length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minimized if the tree is 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ll leaf nodes on level d or level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0719-980B-4D72-A186-EA3221E5151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1219320" y="2031840"/>
            <a:ext cx="7543800" cy="4826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erage case lower bound of sor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391C-A6CD-48FB-BA51-3DC31DC7D939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ute the min external path lengt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1828800"/>
            <a:ext cx="746748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epth of balanced binary tree with c leaf no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nodes can appear only on level d or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f nodes on level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f nodes on level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新細明體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   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d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(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514600" y="4648320"/>
                <a:ext cx="471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A7E5-6690-417B-91A4-F49D07E965F1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ternal path l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) +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)(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) + (2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c + 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g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g c +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+ c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+ c(log c) -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 log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c log 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 M &gt;  c log 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= n! log n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n!  &gt; log n! -1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 log 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verage case lower bound of sorting: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303200" y="7700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erage case lower bound of sor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881B-6CEB-4164-B6B0-0923DC418E98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ing lower bound by problem transform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928880"/>
            <a:ext cx="89550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wer bound of Problem A is kn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A reduces to problem B (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f A can be solved by using any algorithm whi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ves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It is required that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&lt;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(A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, B is more difficult. So, the lower bound of A is also the lower bound of B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357200" y="3643200"/>
          <a:ext cx="7077240" cy="17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643200"/>
                    <a:ext cx="70772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Line 9"/>
          <p:cNvSpPr/>
          <p:nvPr/>
        </p:nvSpPr>
        <p:spPr>
          <a:xfrm>
            <a:off x="3605040" y="38908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7072200" y="392904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2"/>
          <p:cNvSpPr/>
          <p:nvPr/>
        </p:nvSpPr>
        <p:spPr>
          <a:xfrm flipH="1">
            <a:off x="3681360" y="488160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500200" y="3857760"/>
            <a:ext cx="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CC35-F5E0-4270-8482-92A73D5ED7F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lower bound of the convex hull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rt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vex h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of A: 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↓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of B: {(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(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: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 G. A: (2, 8, 3, 5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: {(2, 4), (8, 64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, 9), (5, 25)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swer of B: {(2, 4), (3, 9), (5, 25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8, 64)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swer of A: 2, 3, 5,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043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6238800" y="4191120"/>
            <a:ext cx="290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45C2-FCA6-47C6-AAAC-CCE64DC99AC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lower bound of the convex hull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convex hull problem can be solved, we can also solve the sorting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wer bound of sorting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us, the lower bound of the convex hull 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000A-4E15-474F-AA4B-3ABC7A62033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ternal Path Length of a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um of the lengths of paths from the root to each of the leaf node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4">
            <a:hlinkClick r:id="" action="ppaction://hlinkshowjump?jump=previousslide"/>
          </p:cNvPr>
          <p:cNvSpPr/>
          <p:nvPr/>
        </p:nvSpPr>
        <p:spPr>
          <a:xfrm>
            <a:off x="7885080" y="260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5CC-DE82-430D-8C47-71562FA5C3D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P-comple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cidab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algorithm for a problem the bes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al (algorith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17400"/>
            <a:ext cx="87631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easure the difficulty of a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F03B-2288-4731-AEBF-AB37481100E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ower b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wer b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least time complexity required for any algorithm which can be used to solve this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rst case lower bo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erage case lower b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437-F0AE-47E2-AE77-CA3877C2D0E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ower bound for a problem is not uniq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 log n) are all lower bounds for sor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) are triv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present, if the highest lower bound of a problem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 log n) and  the time complexity of the best algorithm is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y try to find a higher lower b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y try to find a better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of the lower bound and the algorithm may be impro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the present lower bound i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n log n) and there is an algorithm with time complexity O(n log n), then the algorithm i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optimal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ower b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3C3C-FEED-44DF-80D6-2A07960BFEC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 permutations for 3 data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09600" y="685800"/>
            <a:ext cx="84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orst case lower bound of sort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991D-0242-4741-9395-2F93C7A0E9B4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raight insertion sor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data: (2, 3, 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data: (2, 1,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9A81-8F78-4C9A-B5F3-4AB42E0B202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cision tree for straight insertion sor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93356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066680" y="1795320"/>
            <a:ext cx="67820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78AD-EDAC-4298-BF73-D9ABC2ACCEC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cision tree for bubble sor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93356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90720" y="1820880"/>
            <a:ext cx="7086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15D-5684-4D86-8899-0DD8EBBE9E9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wer bound of sor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ind the lower bound, we have to find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mallest dep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binary tre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!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stinct perm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! leaf nodes in the binary decision tre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lanced tr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s the smallest dep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(n!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bound for sorting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09:23:55Z</dcterms:created>
  <dc:creator>caleb</dc:creator>
  <dc:description/>
  <dc:language>en-US</dc:language>
  <cp:lastModifiedBy>Bob</cp:lastModifiedBy>
  <dcterms:modified xsi:type="dcterms:W3CDTF">2009-09-28T08:58:50Z</dcterms:modified>
  <cp:revision>113</cp:revision>
  <dc:subject/>
  <dc:title>Chapter 2</dc:title>
</cp:coreProperties>
</file>