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3B8D-BA4B-46B8-8868-7D6C42E9C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A3DC-BC2E-4802-8180-D8FD2B80C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E0D1-5BD6-4456-9C63-112EB5650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D686-AD94-4EDA-B836-603CD11CD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A69-66C7-43FA-9EA5-9719480099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09B-2A5E-4B8C-9753-4D3CD86E6A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95E-4D05-4B7C-A93C-857488AA9A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CF7-E8A9-4B40-9F9B-201A5A2820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8C1-B673-4DE6-BBC7-3CBFB86A9A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07E-911A-4CCC-BE70-C062947E21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818-521B-470E-B4F8-9B709FB808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AB08-8D0D-466A-A8E4-FCC0587E3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293-47DB-4EA4-860B-89132441C8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5B4-D3A0-4C4E-BFF5-2E9EEE4C6D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068-FF41-4901-AB01-CED639AE2D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5AC-F383-4C4B-B239-86A32CCC84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C30-2F03-4694-A85D-0773428E8E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3178-12C3-46CF-9F55-268DDBA64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003A-A3D7-4C52-B1E4-5A9BC2BCB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A616-4F4E-4A03-BB43-9A85A59CC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2C91-7B94-4B61-A443-119FC2188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431D-2E78-4EDF-9686-0529A0D7B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A933-0207-4C63-81D2-6B993595C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4082-3936-4636-80AA-184DDCF84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CD33-71A0-4C4C-B288-F28164BBC824}" type="slidenum">
              <a:rPr b="0" lang="en-US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DA1B-DA2B-4ACA-8A13-E7B7AAA46C9D}" type="slidenum">
              <a:rPr b="0" lang="en-US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D5DC-83F3-4BE9-B700-7379780D4B36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356840"/>
            <a:ext cx="7772400" cy="16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he Lower Bound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E96F-CEBC-4869-B0EC-173975E7E027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log n!=O(n log n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rling approxim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!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 n!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 log n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og 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0244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2590920" y="2362320"/>
                <a:ext cx="109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pn</m:t>
                        </m:r>
                      </m:e>
                    </m:rad>
                    <m:r>
                      <m:t xml:space="preserve">(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34052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7"/>
              <p:cNvSpPr txBox="1"/>
              <p:nvPr/>
            </p:nvSpPr>
            <p:spPr>
              <a:xfrm>
                <a:off x="3352680" y="3048120"/>
                <a:ext cx="233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3" name="Object 8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541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E220-00FF-4365-A077-0F959AA57ED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verage case lower bound of sor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decision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verage time complexity of a sorting algorith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the external path length of the binary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external path length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minimized if the tree is 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ll leaf nodes on level d or level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2109-0707-485E-8F76-1924F25D85A4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Object 2" descr=""/>
          <p:cNvPicPr/>
          <p:nvPr/>
        </p:nvPicPr>
        <p:blipFill>
          <a:blip r:embed="rId1"/>
          <a:stretch/>
        </p:blipFill>
        <p:spPr>
          <a:xfrm>
            <a:off x="1219320" y="2031840"/>
            <a:ext cx="7543800" cy="48261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verage case lower bound of sor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3AD6-D94C-4F66-83FB-EAA898EFC75D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ute the min external path lengt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1828800"/>
            <a:ext cx="746748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epth of balanced binary tree with c leaf no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f nodes can appear only on level d or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f nodes on level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f nodes on level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新細明體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    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d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(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514600" y="4648320"/>
                <a:ext cx="471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3387-0AD1-409E-826C-F13BCE13D65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ternal path l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=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) +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)(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) + (2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c + c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 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og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og c +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 + c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 + c(log c) -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 log 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c log 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 M &gt;  c log 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 = n! log n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n!  &gt; log n! -1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 log 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verage case lower bound of sorting: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 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303200" y="7700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verage case lower bound of sor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ABCE-94E1-4E00-A479-40722FFF4CD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inding lower bound by problem transform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928880"/>
            <a:ext cx="89550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ower bound of Problem A is kn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A reduces to problem B (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f A can be solved by using any algorithm whi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ves 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It is required that T(t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T(t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&lt; T(AL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(A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(AL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(t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T(t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T(AL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T(AL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, B is more difficult. So, the lower bound of A is also the lower bound of B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1357200" y="3643200"/>
          <a:ext cx="7077240" cy="171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643200"/>
                    <a:ext cx="70772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Line 9"/>
          <p:cNvSpPr/>
          <p:nvPr/>
        </p:nvSpPr>
        <p:spPr>
          <a:xfrm>
            <a:off x="3605040" y="389088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7072200" y="392904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2"/>
          <p:cNvSpPr/>
          <p:nvPr/>
        </p:nvSpPr>
        <p:spPr>
          <a:xfrm flipH="1">
            <a:off x="3681360" y="488160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2500200" y="3857760"/>
            <a:ext cx="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5E51-B030-4407-9E8A-33DE3462B39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lower bound of the convex hull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rt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vex h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ance of A: 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↓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ance of B: {(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(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: 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 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 G. A: (2, 8, 3, 5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: {(2, 4), (8, 64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, 9), (5, 25)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swer of B: {(2, 4), (3, 9), (5, 25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8, 64)}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swer of A: 2, 3, 5,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043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6238800" y="4191120"/>
            <a:ext cx="2905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8591-AB82-477D-AB15-FBFCD5C03A8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lower bound of the convex hull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convex hull problem can be solved, we can also solve the sorting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ower bound of sorting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us, the lower bound of the convex hull 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62CF-259C-45D3-9908-19826B08B23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ternal Path Length of a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um of the lengths of paths from the root to each of the leaf node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4">
            <a:hlinkClick r:id="" action="ppaction://hlinkshowjump?jump=previousslide"/>
          </p:cNvPr>
          <p:cNvSpPr/>
          <p:nvPr/>
        </p:nvSpPr>
        <p:spPr>
          <a:xfrm>
            <a:off x="7885080" y="260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FD03-311D-49DA-8E68-983536DCEC0F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P-comple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cidab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algorithm for a problem the bes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al (algorith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617400"/>
            <a:ext cx="87631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easure the difficulty of a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roble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85BA-0987-42D3-8691-AFA6379F96DF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ower b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ower bou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least time complexity required for any algorithm which can be used to solve this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orst case lower bou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verage case lower b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831F-8E9C-4C9E-B9A8-73FF80486299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ower bound for a problem is not uniq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 log n) are all lower bounds for sor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) are triv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present, if the highest lower bound of a problem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 log n) and  the time complexity of the best algorithm is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ay try to find a higher lower b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ay try to find a better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of the lower bound and the algorithm may be impro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the present lower bound i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n log n) and there is an algorithm with time complexity O(n log n), then the algorithm i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optimal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ower b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ADEE-8CE3-4CBB-9BBD-F8A1BAE724C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 permutations for 3 data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09600" y="685800"/>
            <a:ext cx="84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worst case lower bound of sort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9720-0FAE-4C92-A8D9-1644E79FCD2F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raight insertion sort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 data: (2, 3, 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 data: (2, 1,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0F46-3DF1-469B-8AE4-F2910552F2AB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ecision tree for straight insertion sort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93356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066680" y="1795320"/>
            <a:ext cx="67820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B9BA-BDD4-420C-858D-FB90190ED865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ecision tree for bubble sort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93356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990720" y="1820880"/>
            <a:ext cx="7086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B998-DD5C-4922-9C1D-79C44B1239B9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wer bound of sor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ind the lower bound, we have to find 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mallest dep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binary tre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!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istinct perm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! leaf nodes in the binary decision tre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alanced tr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s the smallest dep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(n!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bound for sorting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7T09:23:55Z</dcterms:created>
  <dc:creator>caleb</dc:creator>
  <dc:description/>
  <dc:language>en-US</dc:language>
  <cp:lastModifiedBy>Bob</cp:lastModifiedBy>
  <dcterms:modified xsi:type="dcterms:W3CDTF">2009-09-28T08:58:50Z</dcterms:modified>
  <cp:revision>113</cp:revision>
  <dc:subject/>
  <dc:title>Chapter 2</dc:title>
</cp:coreProperties>
</file>