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21CE-71C7-4CCB-BB7F-F167D125B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AE0B-FC80-4865-B994-FCAEC0CEB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409A-5929-4444-8E21-FB0730814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6363-7788-44D2-A795-455B3481F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CDBF-F9CE-4B73-8FEE-F349E02E1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4416-A811-4351-8746-1FC000CCA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8277-B6AA-4CF0-9BE2-18EBD2D2D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D06F-D11E-4330-8CAA-E62758DFF1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FAC5-DEFC-4096-A101-282B685FBC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F69A-049F-4F93-8554-264CDDFD6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4E33-A26D-40C4-BBC2-C2A7E7611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D01B-10E1-415C-8397-B26CA5098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1E09-A49E-4E98-9E7B-3F2542A91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7190-7F07-4416-A850-48C697C411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6CE5-4554-4E6F-A67E-9BC4240AD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37F8-547A-40DF-840B-A8949D9C7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5594-244D-4CA9-9006-06831BB8C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99AE-1B1B-4743-B287-1D7E249A7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12D8-8895-4F52-B8C7-24F20FA7D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5317-0A61-4A70-A2B4-C46B6162C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8EB2-EC82-47E5-8FC0-031890BB9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016A-167F-4F63-87A7-C1DCE139A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D7A8-1D1D-4A1D-A884-965F63F14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9882-49A0-4D52-ABE0-E211A72E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8630-D461-461A-9EE7-2008E89282A3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716-A12E-44BE-B897-C1AB93FB59C3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B4F-CBA9-451B-AC02-C3C2AFF0AF8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C16-1E77-42A6-A1E1-0FE8C62750C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(April 15, 1707 - September 18, 1783) (pronounced "oiler") was a Swiss mathematician and physicist. He is considered (together with Gauss) to be the greatest mathematician 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stated and solved the problem of Seven Bridges of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sberg in 1736, which is the first formally discussed problem in graph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C62B-CC95-41F7-8151-1B2DBFCCE72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ds51-2"/>
          <p:cNvPicPr/>
          <p:nvPr/>
        </p:nvPicPr>
        <p:blipFill>
          <a:blip r:embed="rId1"/>
          <a:stretch/>
        </p:blipFill>
        <p:spPr>
          <a:xfrm>
            <a:off x="971640" y="2357280"/>
            <a:ext cx="5187960" cy="217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521160" y="457524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lerian Cycle exists be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1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2)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3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4) =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D75E-8325-44AB-83E7-B72AB8754BB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s51-3"/>
          <p:cNvPicPr/>
          <p:nvPr/>
        </p:nvPicPr>
        <p:blipFill>
          <a:blip r:embed="rId1"/>
          <a:stretch/>
        </p:blipFill>
        <p:spPr>
          <a:xfrm>
            <a:off x="1042920" y="2387520"/>
            <a:ext cx="5116680" cy="214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263840" y="473724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Euler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CB9-D8D6-4180-9F04-2251EEE2E01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eable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a path that visits each vertex exactly o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tex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 cycl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ycle that visits each vertex exactly once, except for the starting vert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A2F-C291-4EE7-9FC1-1DED6D12973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al Euclidean Weighted Match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set of points in the plane, the minimal Euclidean weighted matching problem is to join the points in pairs by line segments such that the total length is minimu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1EC-472A-4443-A84C-57E28E44676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042920" y="3276720"/>
          <a:ext cx="676908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76720"/>
                    <a:ext cx="676908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FC7D-877B-4C5D-900E-7EED88C349C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692360" y="3284640"/>
          <a:ext cx="57592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84640"/>
                    <a:ext cx="57592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2:The number of points with odd degrees must be even.             , which is e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867280" y="2438280"/>
                <a:ext cx="1524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Text Box 7"/>
          <p:cNvSpPr/>
          <p:nvPr/>
        </p:nvSpPr>
        <p:spPr>
          <a:xfrm>
            <a:off x="5540400" y="299736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ne edge contributes 2 degr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363-ADD1-4EF7-88F4-A0ACD6FCEFC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24000" y="2276640"/>
          <a:ext cx="6553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6553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324000" y="4365720"/>
          <a:ext cx="6335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365720"/>
                    <a:ext cx="633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6443640" y="21448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3 and P4 are visited tw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bypassing P3 and P4 and connecting P6 to P1 directly, we obtain a Hamilton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419640" y="386064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6683-D237-4222-9FA3-31A9FCBC079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log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the approximate solution to an optimal solu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29B-1E9C-41FC-B087-3CF655AD88E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6200" y="190512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roximate tour is within 3/2 of the optimal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: optimal ETSP tour, T: MST, Lp: a path derived by removing one edge from L (Lp is also a spanning tre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Lp=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{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is the set of odd-degree vertices in T where indices of vertices in the set are arranged in the same order as they are in the optimal ETSP tour 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942-7E9D-4794-BF67-201FB98BEB6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 to now, the best algorithm for solving an NP-complete problem requires exponential time in the worst case. It is too time-consu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duce the time required for solving a problem, we can relax the problem, and obtain a feasible solu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n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BDB0-1AB7-4386-953B-0AD1D772D9E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7596360" y="3043080"/>
          <a:ext cx="13809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3043080"/>
                    <a:ext cx="13809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M be the minimal Euclidean weighted mat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wo matching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 and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. We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triangular inequalit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length(M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M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/2 length(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= T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 + length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L) + 1/2 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/2 length(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8458200" y="5257800"/>
            <a:ext cx="228600" cy="38088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8381880" y="5638680"/>
            <a:ext cx="304920" cy="4572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7924680" y="5181480"/>
            <a:ext cx="5335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7620120" y="5257800"/>
            <a:ext cx="304560" cy="53352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9"/>
          <p:cNvSpPr/>
          <p:nvPr/>
        </p:nvSpPr>
        <p:spPr>
          <a:xfrm>
            <a:off x="7924680" y="6095880"/>
            <a:ext cx="457200" cy="15264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7620120" y="5791320"/>
            <a:ext cx="304560" cy="3808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C9D-F2DC-471F-916C-ECC23D495CA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1332000" y="404640"/>
          <a:ext cx="944856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94485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1D40-2589-4D2C-8B02-113EAA07EFB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192320" y="907920"/>
          <a:ext cx="7118280" cy="56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907920"/>
                    <a:ext cx="711828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AAA-5024-4B7F-B5A5-756D9D3E2F8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826920" y="2060640"/>
          <a:ext cx="761076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1076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2FE-77EC-455D-8636-73A3DAAE963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182600" y="692280"/>
          <a:ext cx="7637400" cy="62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692280"/>
                    <a:ext cx="763740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1864-128F-4C07-8E91-80DC470C5C3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n items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for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, which have to be placed in bins of unit capability, the bin packing problem is to determine the minimum number of bins to accommodate all i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regard the items of different sizes to be the lengths of time of executing different jobs on a standard processor, the problem becomes to use minimum number of processors which can finish all of the jobs within a fixed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D165-2D1C-47E5-96A3-05072451FD6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5688000" cy="384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Bin Pack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Given n = 5, {0.3, 0.5, 0.8, 0.2 0.4}, the optimal solution is 3 bi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87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in packing problem is NP-har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F5F-DB0A-4427-9CE8-B79DAE0097A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pproximation algorithm: (first-fit) plac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the lowest-indexed bin which can accommodat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ize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: the size of an optimal solution of an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: the size of bins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um of the sizes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packed in b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55C-0B83-4ECF-AF99-5132B180953D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, ceiling of sum of sizes of all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 nonempty bi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 = m &lt; 2          = 2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 OPT(I) FF(I) &lt; 2 OPT(I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568600" y="1947960"/>
                <a:ext cx="172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3780000" y="5445000"/>
                <a:ext cx="1066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508720" y="5445000"/>
                <a:ext cx="99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EA6-70B5-4497-86EA-0A6DB3C98CF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tex Cover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G=(V, E). The subset S of V that meets every edge of E is called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tex Cover problem is to find a vertex cover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ze. It is the optimization version of an NP-Complete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B21-6AF1-493C-8945-2EBBFE92702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38200" y="2003400"/>
          <a:ext cx="804240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03400"/>
                    <a:ext cx="80424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2C0-A91C-45C0-8964-268C3EAF404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vertex c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6" descr="vimg915"/>
          <p:cNvPicPr/>
          <p:nvPr/>
        </p:nvPicPr>
        <p:blipFill>
          <a:blip r:embed="rId1"/>
          <a:stretch/>
        </p:blipFill>
        <p:spPr>
          <a:xfrm>
            <a:off x="324000" y="2895480"/>
            <a:ext cx="842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486E-88B0-4537-8B9F-77F3EE8CE8B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826920" y="1941480"/>
          <a:ext cx="772812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41480"/>
                    <a:ext cx="772812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B69E-752C-462E-AE7B-C067987C91E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332000" y="1787400"/>
          <a:ext cx="6072120" cy="52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87400"/>
                    <a:ext cx="607212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F405-0E2B-46F4-BE39-38618F469AF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826920" y="1996920"/>
          <a:ext cx="765180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96920"/>
                    <a:ext cx="7651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40B-9296-4CBD-AA97-1A872BBE7AC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vex hull of n points in the plane can be computed in O(nlogn) time in the worst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5B6-472D-4A7F-B5F4-AD0F8A04CB0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proximation algorith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1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2133720" y="3657600"/>
          <a:ext cx="5410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657600"/>
                    <a:ext cx="5410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DA29-11B4-4864-B1BC-FB9E9013372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vide the points into K strips. Find the highest and lowest points in each stri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90920" y="3505320"/>
          <a:ext cx="4267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2670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BFB-C36C-4DEA-8F4F-F78FFDB10D7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3879720" y="4237200"/>
          <a:ext cx="472464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4237200"/>
                    <a:ext cx="472464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3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Andr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Monotone Chain Scan, which similar to Graham scan, to those highest and lowest points to construct an approximate convex hull. (The highest and lowest points are already sorted by their x-coordinate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C58-BC34-4028-84D1-818F308C1D9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of 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 An approximate convex hull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the leftmost and right most points of S, denoted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spectively. (with minimum and maximum x-coordinates respectivel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vide the area bounded by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k equally spaced strips and for each strip, select the points with the minimum and maximum y-coordinates. Denote the set of points selected in this step together with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et 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9F5-7013-4699-B824-7E39C3B0314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the convex hull of P and use that as the approximate convex hull of 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+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0786-642D-4C04-B3F8-1EBAC25F7E2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39640" y="1909800"/>
          <a:ext cx="8004240" cy="53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9800"/>
                    <a:ext cx="80042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ximation ratio b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27D-3FF0-4547-AD9D-2FE8E41DD4E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far away the points outside are from the approximate convex hull? L/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: the distance between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676520" y="3762360"/>
          <a:ext cx="6029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62360"/>
                    <a:ext cx="602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5"/>
          <p:cNvSpPr/>
          <p:nvPr/>
        </p:nvSpPr>
        <p:spPr>
          <a:xfrm>
            <a:off x="4241520" y="40053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utside poi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5866920" y="5445000"/>
            <a:ext cx="505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222960" y="52293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e approximate Convex Hu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4716360" y="4584600"/>
            <a:ext cx="1065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688640" y="4595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10E-FC05-4BDF-8578-B6EBCB1623D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480960" y="2205000"/>
          <a:ext cx="828036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05000"/>
                    <a:ext cx="828036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777600" y="476280"/>
            <a:ext cx="75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-approximation algorith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368-9188-4615-A492-82CDCB110EB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 approximation algorithm for Euclidean traveling salesperson problem (ETSP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to find a shortest closed path through a set S of n points in the pl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NP-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B75-8B54-425C-B5E5-2B97FEB1A12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S of n points in the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An approximate traveling salesperson tour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spanning tree T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Euclidean weighted matching M on the set of vertices of odd degrees in T. Let G=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n Eulerian cycle of G and then traverse it to find a Hamiltonian cycle as an approximate tour of ETSP by bypassing all previously visited vert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04E-FF2C-49A6-89E3-2672F2D6617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ulerian Cycle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tr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wal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path that uses each edge precisely once. If such a path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vers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cycle with uses each edge precisely once. If such a cycle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A04-6192-465F-840B-CB3A80383EF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showed that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 if and only if all vertices in the graph are of even degree and all edges are contained in the same com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also showed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, if and only if at most two vertices in the graph are of odd degree and all edges are contained in the same compon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jiang</cp:lastModifiedBy>
  <dcterms:modified xsi:type="dcterms:W3CDTF">2007-12-25T05:49:31Z</dcterms:modified>
  <cp:revision>24</cp:revision>
  <dc:subject/>
  <dc:title>PowerPoint Presentation</dc:title>
</cp:coreProperties>
</file>