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8D16-E3F8-4B14-A24D-B569A882B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4402-0E75-4E64-A8D4-E684C644A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DD45-831F-4E50-B9FA-6BFE7BBBF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E814-22DB-411B-AA32-CBCBEFEF4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4548-D57D-422B-B660-2E9B029194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3457-B772-4CC4-AD3C-79BF08E5D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60CE-8E20-4EC3-BB8E-91A6896576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E5EB-D2DE-45DA-9373-F569486360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35A1-11FF-489D-BBB4-6030124907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C2B0-C58B-4B9A-BC92-5542EA082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D189-296E-4036-ABD2-8943F1AAD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A6BE-5709-49F7-954F-ECDD49BF7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EC88-042F-4F0D-BD36-0285AC0CE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F681-95B9-4A8E-8845-42362990D1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298C-2E86-4BF1-8D6D-C9A1B47EE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DA7F-8A1F-4FD3-8849-508C81B596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F7C9-0D6D-43E3-AC6E-CF804F610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BE5B-2018-4D27-BE96-329A6A395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62F9-AF25-4F57-B2A7-5C61E1810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D56C-5CE1-47CB-8EA9-376DA9BFE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6402-C1E7-404D-ADAF-D6938677B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A01A-4FB7-4684-B086-8F57569DC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62F7-B989-4841-A872-80B8CA17F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14C5-6E8E-445D-8EE4-9E225863B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208C-8152-40AA-B536-851F3A26FEB7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D31-C8BC-41F4-A242-4FDD203ADE7E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6C5-099C-42DA-85EC-AAD2B975B68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2060-E8A8-403A-A32B-E9AB95E933A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(April 15, 1707 - September 18, 1783) (pronounced "oiler") was a Swiss mathematician and physicist. He is considered (together with Gauss) to be the greatest mathematician 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stated and solved the problem of Seven Bridges of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sberg in 1736, which is the first formally discussed problem in graph theo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891-DC32-4D03-9676-A0B80BEBDE6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ds51-2"/>
          <p:cNvPicPr/>
          <p:nvPr/>
        </p:nvPicPr>
        <p:blipFill>
          <a:blip r:embed="rId1"/>
          <a:stretch/>
        </p:blipFill>
        <p:spPr>
          <a:xfrm>
            <a:off x="971640" y="2357280"/>
            <a:ext cx="5187960" cy="217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521160" y="457524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lerian Cycle exists beca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1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2)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3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4) = 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AF4-15D3-4548-B9CC-394B92638A9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ds51-3"/>
          <p:cNvPicPr/>
          <p:nvPr/>
        </p:nvPicPr>
        <p:blipFill>
          <a:blip r:embed="rId1"/>
          <a:stretch/>
        </p:blipFill>
        <p:spPr>
          <a:xfrm>
            <a:off x="1042920" y="2387520"/>
            <a:ext cx="5116680" cy="2144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263840" y="473724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Euler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6AB-AED0-41A5-BB2C-9C54F02C7D7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eable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a path that visits each vertex exactly o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rtex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 cycl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ycle that visits each vertex exactly once, except for the starting vertex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71E-8BDD-4B39-BDCB-7496B4CA86C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nimal Euclidean Weighted Match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set of points in the plane, the minimal Euclidean weighted matching problem is to join the points in pairs by line segments such that the total length is minimu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E8AF-B11B-45EC-8640-C0082A7D7EC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042920" y="3276720"/>
          <a:ext cx="676908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76720"/>
                    <a:ext cx="676908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015-DBE2-4E66-8F3B-FD63AB64DDD9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692360" y="3284640"/>
          <a:ext cx="57592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84640"/>
                    <a:ext cx="57592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2:The number of points with odd degrees must be even.             , which is e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867280" y="2438280"/>
                <a:ext cx="15242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Text Box 7"/>
          <p:cNvSpPr/>
          <p:nvPr/>
        </p:nvSpPr>
        <p:spPr>
          <a:xfrm>
            <a:off x="5540400" y="299736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ne edge contributes 2 degr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6D03-8D4D-4938-91DD-4C21A624A8B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24000" y="2276640"/>
          <a:ext cx="6553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6553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324000" y="4365720"/>
          <a:ext cx="6335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365720"/>
                    <a:ext cx="633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6443640" y="21448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3 and P4 are visited tw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bypassing P3 and P4 and connecting P6 to P1 directly, we obtain a Hamilton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419640" y="386064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AD8A-94C6-44C6-89BB-7C509A9AAB7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log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ose the approximate solution to an optimal solu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3A7F-E5B9-46CE-B94E-7DFD1481ED6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6200" y="1905120"/>
            <a:ext cx="752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roximate tour is within 3/2 of the optimal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: optimal ETSP tour, T: MST, Lp: a path derived by removing one edge from L (Lp is also a spanning tre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Lp=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{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is the set of odd-degree vertices in T where indices of vertices in the set are arranged in the same order as they are in the optimal ETSP tour 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4A0-164C-47A2-9B7F-D6390056CF2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 to now, the best algorithm for solving an NP-complete problem requires exponential time in the worst case. It is too time-consu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duce the time required for solving a problem, we can relax the problem, and obtain a feasible solu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n optimal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73D6-4A0C-48D1-BAE0-7FF8BE064D5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7596360" y="3043080"/>
          <a:ext cx="13809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3043080"/>
                    <a:ext cx="13809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M be the minimal Euclidean weighted matc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wo matching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 and 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. We h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triangular inequalit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length(M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M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/2 length(L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= T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 + length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L) + 1/2 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/2 length(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8458200" y="5257800"/>
            <a:ext cx="228600" cy="38088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8381880" y="5638680"/>
            <a:ext cx="304920" cy="4572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7924680" y="5181480"/>
            <a:ext cx="533520" cy="76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7620120" y="5257800"/>
            <a:ext cx="304560" cy="53352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9"/>
          <p:cNvSpPr/>
          <p:nvPr/>
        </p:nvSpPr>
        <p:spPr>
          <a:xfrm>
            <a:off x="7924680" y="6095880"/>
            <a:ext cx="457200" cy="15264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7620120" y="5791320"/>
            <a:ext cx="304560" cy="3808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2489-7A9B-4DA2-8A80-2CC9266CC14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1332000" y="404640"/>
          <a:ext cx="944856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94485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87F0-9B74-470C-833F-943D6D34EE8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192320" y="907920"/>
          <a:ext cx="7118280" cy="56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907920"/>
                    <a:ext cx="711828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CD5-B1C8-4DC2-B71F-BEAF0511335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826920" y="2060640"/>
          <a:ext cx="761076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61076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5877-1C29-4EAE-853E-07F7F8A81BA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182600" y="692280"/>
          <a:ext cx="7637400" cy="62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692280"/>
                    <a:ext cx="763740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DE2-75A5-437D-B442-9BFF8B293A80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n items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for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, which have to be placed in bins of unit capability, the bin packing problem is to determine the minimum number of bins to accommodate all i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regard the items of different sizes to be the lengths of time of executing different jobs on a standard processor, the problem becomes to use minimum number of processors which can finish all of the jobs within a fixed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E7B7-289A-4A8B-A713-019E0C100D09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5688000" cy="3844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Bin Pack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Given n = 5, {0.3, 0.5, 0.8, 0.2 0.4}, the optimal solution is 3 bi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187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in packing problem is NP-har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4A6-3EEF-4663-8F37-314E8A25E6D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pproximation algorithm: (first-fit) plac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the lowest-indexed bin which can accommodat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(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ize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: the size of an optimal solution of an instanc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: the size of bins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um of the sizes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packed in b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F5DB-54DD-4380-AFD2-F88BC737A59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, ceiling of sum of sizes of all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 nonempty bi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 = m &lt; 2          = 2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 OPT(I) FF(I) &lt; 2 OPT(I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2568600" y="1947960"/>
                <a:ext cx="1722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3780000" y="5445000"/>
                <a:ext cx="1066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508720" y="5445000"/>
                <a:ext cx="99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633-B5A7-4A63-BBD7-A1261D31EB7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tex Cover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G=(V, E). The subset S of V that meets every edge of E is called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tex Cover problem is to find a vertex cover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ze. It is the optimization version of an NP-Complete decision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3F4-C2BA-4F36-A4CC-C80AF3B0DFF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538200" y="2003400"/>
          <a:ext cx="804240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003400"/>
                    <a:ext cx="80424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3B3-86B7-4763-B9D8-1FA8F654D4A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vertex c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6" descr="vimg915"/>
          <p:cNvPicPr/>
          <p:nvPr/>
        </p:nvPicPr>
        <p:blipFill>
          <a:blip r:embed="rId1"/>
          <a:stretch/>
        </p:blipFill>
        <p:spPr>
          <a:xfrm>
            <a:off x="324000" y="2895480"/>
            <a:ext cx="8424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4E7-9161-4FFB-8882-36A5EB3B96B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826920" y="1941480"/>
          <a:ext cx="7728120" cy="51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41480"/>
                    <a:ext cx="772812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3304-4676-41AC-88F4-7E7908C88A7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332000" y="1787400"/>
          <a:ext cx="6072120" cy="52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87400"/>
                    <a:ext cx="607212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6DC-DEEB-4ADD-8BF0-59A66864BF9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826920" y="1996920"/>
          <a:ext cx="765180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96920"/>
                    <a:ext cx="76518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ABE-C91C-4F4B-9BAE-1BE611D5B26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vex hull of n points in the plane can be computed in O(nlogn) time in the worst c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EEA-9536-4F60-BE13-5F616542E00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proximation algorith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1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2133720" y="3657600"/>
          <a:ext cx="5410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657600"/>
                    <a:ext cx="5410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F938-A284-42F8-82D3-D0AD3DEBCDE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vide the points into K strips. Find the highest and lowest points in each stri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90920" y="3505320"/>
          <a:ext cx="42670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42670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3DD-EAEE-4793-B738-7E589CB8663D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3879720" y="4237200"/>
          <a:ext cx="472464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4237200"/>
                    <a:ext cx="472464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3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Andr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Monotone Chain Scan, which similar to Graham scan, to those highest and lowest points to construct an approximate convex hull. (The highest and lowest points are already sorted by their x-coordinate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00C-0D2A-4E11-9336-45E8E67C394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of n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 An approximate convex hull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the leftmost and right most points of S, denoted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respectively. (with minimum and maximum x-coordinates respectivel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vide the area bounded by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k equally spaced strips and for each strip, select the points with the minimum and maximum y-coordinates. Denote the set of points selected in this step together with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et 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D1E-DABD-448E-AB14-4843EC22E1B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the convex hull of P and use that as the approximate convex hull of 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+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99CB-4B5C-4078-9E64-626E416E801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539640" y="1909800"/>
          <a:ext cx="8004240" cy="53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09800"/>
                    <a:ext cx="80042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ximation ratio b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ECE-79B8-44DF-85EC-9790B90766F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far away the points outside are from the approximate convex hull? L/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: the distance between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676520" y="3762360"/>
          <a:ext cx="6029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762360"/>
                    <a:ext cx="6029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5"/>
          <p:cNvSpPr/>
          <p:nvPr/>
        </p:nvSpPr>
        <p:spPr>
          <a:xfrm>
            <a:off x="4241520" y="40053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outside poi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5866920" y="5445000"/>
            <a:ext cx="505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222960" y="52293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he approximate Convex Hu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4716360" y="4584600"/>
            <a:ext cx="10656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688640" y="45957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E9A-6A99-4848-B8B5-10B27BFB379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480960" y="2205000"/>
          <a:ext cx="828036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2205000"/>
                    <a:ext cx="828036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777600" y="476280"/>
            <a:ext cx="75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-approximation algorith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0AEF-8F06-44A1-9EDD-9DB6BE6002F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 approximation algorithm for Euclidean traveling salesperson problem (ETSP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to find a shortest closed path through a set S of n points in the pl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NP-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7EE-6301-4A88-B27E-6EEB418B708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S of n points in the pl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An approximate traveling salesperson tour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spanning tree T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Euclidean weighted matching M on the set of vertices of odd degrees in T. Let G=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n Eulerian cycle of G and then traverse it to find a Hamiltonian cycle as an approximate tour of ETSP by bypassing all previously visited vert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5E9-D173-4C69-A4F7-E0DDD3E490A1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ulerian Cycle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tr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wal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path that uses each edge precisely once. If such a path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vers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cycle with uses each edge precisely once. If such a cycle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2BE-2292-4F8F-91E2-241CB68189F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showed that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 if and only if all vertices in the graph are of even degree and all edges are contained in the same compon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also showed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, if and only if at most two vertices in the graph are of odd degree and all edges are contained in the same compon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jiang</cp:lastModifiedBy>
  <dcterms:modified xsi:type="dcterms:W3CDTF">2007-12-25T05:49:31Z</dcterms:modified>
  <cp:revision>24</cp:revision>
  <dc:subject/>
  <dc:title>PowerPoint Presentation</dc:title>
</cp:coreProperties>
</file>