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6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7C69-741D-40DB-93D5-3B958D345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B898-38ED-405F-BAC1-9CF7FD681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6413-DB04-4846-9193-D78C388F3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28D4-1DB9-460A-8295-74DBD2364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28AC-A185-47E9-9CA2-0032F317AC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F610-3B82-4CF7-A4A4-7E30571FB2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64BE-5D86-4EAA-B1A4-7F0F59866A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C671-73D5-4C92-B7CB-F7F8196388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F4360-ED0B-44CA-9404-02FCD8BB91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0CF3-6F40-4351-AD63-34500F024A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4851-5319-42A5-B127-61E039766B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A234-E355-49DA-8D44-6548E4685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2C7A-9871-4807-8C69-D706936649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AE4C-C017-4571-AF14-7134BF7224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49E3-4CD2-4F9B-B031-15A659CAF0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178C-7D2F-4167-9840-52F971AF33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12BC-2471-44F4-BAF1-1D617C7B12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5339-BADD-46B2-8084-554536AE2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64A0-F26D-435F-9798-B9D7ABF57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2EA3-2E29-43A6-9417-A55BB85D3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6A00-93BE-4135-BA07-EA04582BD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2534-A0F7-4F48-810F-887CED7AD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D063-8EC7-4980-9924-4EA47368C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6651-D42F-4ED6-850B-54CE13981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DDB7-5EFE-4FF2-AD84-ED91873D52B5}" type="slidenum">
              <a:rPr b="0" lang="zh-TW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E465-180B-4D4D-AE5B-9D9A118D5890}" type="slidenum">
              <a:rPr b="0" lang="zh-TW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AB4A-2C59-4228-9975-43E8663EB502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Approxima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176E-4DA8-457F-A7D2-96324C5CC75B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hard Euler (April 15, 1707 - September 18, 1783) (pronounced "oiler") was a Swiss mathematician and physicist. He is considered (together with Gauss) to be the greatest mathematician e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onhard Euler stated and solved the problem of Seven Bridges of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gsberg in 1736, which is the first formally discussed problem in graph theo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9818-4080-49EB-9D03-3FF85517E6D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ds51-2"/>
          <p:cNvPicPr/>
          <p:nvPr/>
        </p:nvPicPr>
        <p:blipFill>
          <a:blip r:embed="rId1"/>
          <a:stretch/>
        </p:blipFill>
        <p:spPr>
          <a:xfrm>
            <a:off x="971640" y="2357280"/>
            <a:ext cx="5187960" cy="217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521160" y="4575240"/>
            <a:ext cx="433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lerian Cycle exists beca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1)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2)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3)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(V4) = 4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B9D3-54B9-4327-9EE4-8134B9E1AF3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Picture 4" descr="ds51-3"/>
          <p:cNvPicPr/>
          <p:nvPr/>
        </p:nvPicPr>
        <p:blipFill>
          <a:blip r:embed="rId1"/>
          <a:stretch/>
        </p:blipFill>
        <p:spPr>
          <a:xfrm>
            <a:off x="1042920" y="2387520"/>
            <a:ext cx="5116680" cy="21448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4263840" y="4737240"/>
            <a:ext cx="37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Eulerian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FB0D-FA4F-492C-B3B3-1ECF54005722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ceable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a path that visits each vertex exactly o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lso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miltonian circu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rtex 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ph cycl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ycle that visits each vertex exactly once, except for the starting vertex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4311-8FFC-433D-AE65-AB90A111E7A9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inimal Euclidean Weighted Matching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set of points in the plane, the minimal Euclidean weighted matching problem is to join the points in pairs by line segments such that the total length is minimu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1925-4EEE-4237-9602-6F6692A1B5C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042920" y="3276720"/>
          <a:ext cx="676908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276720"/>
                    <a:ext cx="676908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DEC7-E867-4E6D-8E1D-5D72EA2C14B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692360" y="3284640"/>
          <a:ext cx="57592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84640"/>
                    <a:ext cx="57592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2:The number of points with odd degrees must be even.             , which is e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867280" y="2438280"/>
                <a:ext cx="15242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2" name="Text Box 7"/>
          <p:cNvSpPr/>
          <p:nvPr/>
        </p:nvSpPr>
        <p:spPr>
          <a:xfrm>
            <a:off x="5540400" y="299736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ne edge contributes 2 degre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D809-E261-4B8C-8CFD-D6536BD5AAE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3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324000" y="2276640"/>
          <a:ext cx="65530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6553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5"/>
          <p:cNvGraphicFramePr/>
          <p:nvPr/>
        </p:nvGraphicFramePr>
        <p:xfrm>
          <a:off x="324000" y="4365720"/>
          <a:ext cx="63356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365720"/>
                    <a:ext cx="6335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6"/>
          <p:cNvSpPr/>
          <p:nvPr/>
        </p:nvSpPr>
        <p:spPr>
          <a:xfrm>
            <a:off x="6443640" y="2144880"/>
            <a:ext cx="27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3 and P4 are visited tw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bypassing P3 and P4 and connecting P6 to P1 directly, we obtain a Hamiltonian cyc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3419640" y="386064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1691-FA8E-469A-B540-2DAC11F375F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O(nlog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lose the approximate solution to an optimal solu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A0FE-FE01-4891-91AA-561E55F3E8D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6200" y="1905120"/>
            <a:ext cx="752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pproximate tour is within 3/2 of the optimal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: optimal ETSP tour, T: MST, Lp: a path derived by removing one edge from L (Lp is also a spanning tre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T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Lp=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{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is the set of odd-degree vertices in T where indices of vertices in the set are arranged in the same order as they are in the optimal ETSP tour 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8EF7-C3FB-4A8D-AE67-00B26B1B94A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Approxima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 to now, the best algorithm for solving an NP-complete problem requires exponential time in the worst case. It is too time-consum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reduce the time required for solving a problem, we can relax the problem, and obtain a feasible solu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n optimal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5A0D-BDC8-4776-B09F-B7CB93F25F7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7596360" y="3043080"/>
          <a:ext cx="13809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3043080"/>
                    <a:ext cx="13809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734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M be the minimal Euclidean weighted match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wo matching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} and 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{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[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}. We ha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L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ngth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length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triangular inequalit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 length(M 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M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/2 length(L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= T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(T) + length(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ngth(L) + 1/2 length(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3/2 length(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5"/>
          <p:cNvSpPr/>
          <p:nvPr/>
        </p:nvSpPr>
        <p:spPr>
          <a:xfrm>
            <a:off x="8458200" y="5257800"/>
            <a:ext cx="228600" cy="38088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8381880" y="5638680"/>
            <a:ext cx="304920" cy="45720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7924680" y="5181480"/>
            <a:ext cx="533520" cy="76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7620120" y="5257800"/>
            <a:ext cx="304560" cy="53352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9"/>
          <p:cNvSpPr/>
          <p:nvPr/>
        </p:nvSpPr>
        <p:spPr>
          <a:xfrm>
            <a:off x="7924680" y="6095880"/>
            <a:ext cx="457200" cy="152640"/>
          </a:xfrm>
          <a:prstGeom prst="pi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10"/>
          <p:cNvSpPr/>
          <p:nvPr/>
        </p:nvSpPr>
        <p:spPr>
          <a:xfrm>
            <a:off x="7620120" y="5791320"/>
            <a:ext cx="304560" cy="3808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02E3-91D6-41E2-BF22-7AED1588B7A3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1332000" y="404640"/>
          <a:ext cx="944856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04640"/>
                    <a:ext cx="94485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58A7-A469-4114-B8F3-B17B73C41CA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192320" y="907920"/>
          <a:ext cx="7118280" cy="56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907920"/>
                    <a:ext cx="7118280" cy="56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1798-EC0E-4FC5-9472-EF8F7BD6F2C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826920" y="2060640"/>
          <a:ext cx="761076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60640"/>
                    <a:ext cx="761076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DBAB-2AEB-431D-A04F-1CE74D7617E0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1182600" y="692280"/>
          <a:ext cx="7637400" cy="629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692280"/>
                    <a:ext cx="7637400" cy="62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D39-3F57-4180-8306-7999934EECE9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n items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for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, which have to be placed in bins of unit capability, the bin packing problem is to determine the minimum number of bins to accommodate all i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regard the items of different sizes to be the lengths of time of executing different jobs on a standard processor, the problem becomes to use minimum number of processors which can finish all of the jobs within a fixed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C786-EE6E-463C-A4EA-F4C57E50BB9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5688000" cy="3844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Bin Packing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Given n = 5, {0.3, 0.5, 0.8, 0.2 0.4}, the optimal solution is 3 bi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187280" y="61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in packing problem is NP-har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483A-DECB-46DB-8D54-06217EF5EA75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the 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pproximation algorithm: (first-fit) place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the lowest-indexed bin which can accommodate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(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the size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(I): the size of an optimal solution of an instanc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(I): the size of bins in the first-fi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the sum of the sizes of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packed in b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first-fit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9933-D7A1-472A-A2F6-7814A8BA1F3D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the bin packing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, ceiling of sum of sizes of all i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+ 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(Otherwise, the items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+1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be put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+ 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 (Otherwise, the items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ll be put in 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m nonempty bin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+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C(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F(I) = m &lt; 2          = 2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 OPT(I) FF(I) &lt; 2 OPT(I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2568600" y="1947960"/>
                <a:ext cx="1722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3780000" y="5445000"/>
                <a:ext cx="1066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5508720" y="5445000"/>
                <a:ext cx="99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04A-8115-4C58-A840-C06B7EE60FA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tex Cover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G=(V, E). The subset S of V that meets every edge of E is called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ertex co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tex Cover problem is to find a vertex cover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inimu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ze. It is the optimization version of an NP-Complete decision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AB56-87A3-47B7-81DE-C53BD1DD348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538200" y="2003400"/>
          <a:ext cx="8042400" cy="53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2003400"/>
                    <a:ext cx="804240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0478-34EA-405F-B403-D73C68A4DA8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vertex c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Picture 6" descr="vimg915"/>
          <p:cNvPicPr/>
          <p:nvPr/>
        </p:nvPicPr>
        <p:blipFill>
          <a:blip r:embed="rId1"/>
          <a:stretch/>
        </p:blipFill>
        <p:spPr>
          <a:xfrm>
            <a:off x="324000" y="2895480"/>
            <a:ext cx="8424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8A66-5996-404B-B941-89A48EC56A8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826920" y="1941480"/>
          <a:ext cx="7728120" cy="51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41480"/>
                    <a:ext cx="772812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FCEE-6F95-4F0B-A963-0C97A7C1B0E2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332000" y="1787400"/>
          <a:ext cx="6072120" cy="52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87400"/>
                    <a:ext cx="607212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2904-BBAA-417E-991C-5BD2B3E1D39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1" name="Object 2"/>
          <p:cNvGraphicFramePr/>
          <p:nvPr/>
        </p:nvGraphicFramePr>
        <p:xfrm>
          <a:off x="826920" y="1996920"/>
          <a:ext cx="765180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96920"/>
                    <a:ext cx="76518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1FCA-AE81-4DCA-B763-1EAC3BA49ECE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nvex hull of n points in the plane can be computed in O(nlogn) time in the worst c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2E8F-74D8-4BE3-89FD-D6516FD86C1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pproximation algorithm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1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leftmost and rightmost poin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2133720" y="3657600"/>
          <a:ext cx="5410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657600"/>
                    <a:ext cx="5410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E287-E98C-4DD3-BDDE-6E2BFE96725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2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vide the points into K strips. Find the highest and lowest points in each strip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2590920" y="3505320"/>
          <a:ext cx="42670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505320"/>
                    <a:ext cx="42670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9EEB-97D4-4020-8E7A-59B8CEFBD847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3879720" y="4237200"/>
          <a:ext cx="472464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9720" y="4237200"/>
                    <a:ext cx="472464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3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Andr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Monotone Chain Scan, which similar to Graham scan, to those highest and lowest points to construct an approximate convex hull. (The highest and lowest points are already sorted by their x-coordinates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roximation algorithm for convex hull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B585-0F7E-4F97-9F99-264FD154073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lgorithm 9-1 An approximation Algorithm for Convex Hull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 A set of n poi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 An approximate convex hull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the leftmost and right most points of S, denoted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zh-TW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respectively. (with minimum and maximum x-coordinates respectivel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vide the area bounded by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k equally spaced strips and for each strip, select the points with the minimum and maximum y-coordinates. Denote the set of points selected in this step together with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set 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EFCE-D76A-4B85-A7D2-5ECB4FDC8A7B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lgorithm 9-1 An approximation Algorithm for Convex Hull.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ep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 the convex hull of P and use that as the approximate convex hull of 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+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1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2: O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3: O(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7EC6-556A-40C9-AA57-BAA80AC8D3A8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539640" y="1909800"/>
          <a:ext cx="8004240" cy="53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09800"/>
                    <a:ext cx="800424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roximation ratio bou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50E-0211-4A2D-9CF4-9F14488D831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good is the solu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far away the points outside are from the approximate convex hull? L/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: the distance between the leftmost and rightmost poin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1676520" y="3762360"/>
          <a:ext cx="6029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762360"/>
                    <a:ext cx="6029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5"/>
          <p:cNvSpPr/>
          <p:nvPr/>
        </p:nvSpPr>
        <p:spPr>
          <a:xfrm>
            <a:off x="4241520" y="400536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outside poi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5866920" y="5445000"/>
            <a:ext cx="505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222960" y="522936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The approximate Convex Hu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8"/>
          <p:cNvSpPr/>
          <p:nvPr/>
        </p:nvSpPr>
        <p:spPr>
          <a:xfrm flipH="1">
            <a:off x="4716360" y="4584600"/>
            <a:ext cx="106560" cy="357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688640" y="45957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059-9C19-4C94-94AA-E7CE298B52FA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480960" y="2205000"/>
          <a:ext cx="828036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2205000"/>
                    <a:ext cx="828036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"/>
          <p:cNvSpPr/>
          <p:nvPr/>
        </p:nvSpPr>
        <p:spPr>
          <a:xfrm>
            <a:off x="777600" y="476280"/>
            <a:ext cx="758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-approximation algorith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B146-89F8-48C8-A41D-43CF60C551E6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 approximation algorithm for Euclidean traveling salesperson problem (ETSP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SP is to find a shortest closed path through a set S of n points in the pl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TSP is NP-h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5A25-C9A0-4DBA-AB16-E9098C779404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pproximation Algorithm for E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 A set S of n points in the pl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An approximate traveling salesperson tour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 minimal spanning tree T of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 minimal Euclidean weighted matching M on the set of vertices of odd degrees in T. Let G=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ep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nd an Eulerian cycle of G and then traverse it to find a Hamiltonian cycle as an approximate tour of ETSP by bypassing all previously visited vert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1033-EF8F-496D-9253-9A51E95C9B92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ulerian Cycle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tr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 wal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n a graph is a path that uses each edge precisely once. If such a path exists, the graph is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vers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ircu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 t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n a graph is a cycle with uses each edge precisely once. If such a cycle exists, the graph is call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C1B-4DE6-4BEE-9E6F-EFB4B668F98C}" type="slidenum">
              <a:rPr b="0" lang="zh-TW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. Euler showed that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 cyc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ists if and only if all vertices in the graph are of even degree and all edges are contained in the same compon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. Euler also showed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uler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ists, if and only if at most two vertices in the graph are of odd degree and all edges are contained in the same compone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jiang</cp:lastModifiedBy>
  <dcterms:modified xsi:type="dcterms:W3CDTF">2007-12-25T05:49:31Z</dcterms:modified>
  <cp:revision>24</cp:revision>
  <dc:subject/>
  <dc:title>PowerPoint Presentation</dc:title>
</cp:coreProperties>
</file>