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whoosh.wav" ContentType="audio/x-wav"/>
  <Override PartName="/ppt/media/image4.wmf" ContentType="image/x-wmf"/>
  <Override PartName="/ppt/media/image10.png" ContentType="image/png"/>
  <Override PartName="/ppt/media/image5.wmf" ContentType="image/x-wmf"/>
  <Override PartName="/ppt/media/camera.wav" ContentType="audio/x-wav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AF98-EB1B-4182-9881-3CE355543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24A7-869F-41F8-86E6-65614C31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74BF-081B-4495-9EC6-361C326B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5C60-25A6-43E2-BF75-8875A3F1E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73C1-540A-495A-A818-51AF2401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A54E-F691-44A5-8AAE-B8801A93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5CE7-6151-42C2-BC78-6CBA440E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356D-53F5-4623-B7A1-704EE072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5844-A5CA-490B-9832-E424789E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457200"/>
            <a:ext cx="7792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28AC-7D9C-4846-B06A-FD6B6FE0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3F9F-509C-49D8-BDE7-93DA04B0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7A79-8D95-4065-AF0C-A44B1276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1B2A-1684-43E8-905F-803BB8BD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39A6-4000-42F9-88B8-E9E82746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8AF1-EC57-499B-AC76-881ED262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DBAC-1978-47D3-89B4-0185FCCB2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6E14-C985-4D7A-BC24-0A140CA8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0B81-8674-440C-BD86-5353AEE3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0870-CA92-4B2D-9C59-8CF3BC2D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460A-E639-4D33-A3D2-0E9F5049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57200"/>
            <a:ext cx="7792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9CA7-F892-4F8E-97CB-E18FB3E7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B7FC-D243-4362-8A90-A228C666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9103-9E0A-412E-942E-CBEFDB5E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3372-818D-44D8-AD25-0526DF36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e4a8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85F4-768C-4280-BB61-48F55D7AB19A}" type="datetime">
              <a:rPr b="0" lang="zh-TW" sz="1400" spc="-1" strike="noStrike">
                <a:solidFill>
                  <a:srgbClr val="00e4a8"/>
                </a:solidFill>
                <a:latin typeface="Tahoma"/>
              </a:rPr>
              <a:t>115/0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680" y="632448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e4a8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e4a8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D589-0E97-4611-A025-0267D5B8E03F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e4a8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7B3B-0963-42AB-82E1-3DF3C1A021DE}" type="datetime">
              <a:rPr b="0" lang="zh-TW" sz="1400" spc="-1" strike="noStrike">
                <a:solidFill>
                  <a:srgbClr val="00e4a8"/>
                </a:solidFill>
                <a:latin typeface="Tahoma"/>
              </a:rPr>
              <a:t>115/0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437920" y="624852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e4a8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e4a8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e4a8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88E0-E1B5-4F92-B258-1EDD510F05AB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29332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333399"/>
                </a:solidFill>
                <a:latin typeface="Tahoma"/>
              </a:rPr>
              <a:t>The Theory of</a:t>
            </a:r>
            <a:br>
              <a:rPr sz="6200"/>
            </a:br>
            <a:r>
              <a:rPr b="1" lang="en-US" sz="6200" spc="-1" strike="noStrike">
                <a:solidFill>
                  <a:srgbClr val="333399"/>
                </a:solidFill>
                <a:latin typeface="Tahoma"/>
              </a:rPr>
              <a:t> NP-Completeness</a:t>
            </a:r>
            <a:endParaRPr b="0" lang="en-US" sz="6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7271-052F-4BD1-8CFD-3DC3284C4D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617040"/>
            <a:ext cx="89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Nondeterministic searching Algorithm :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2017800"/>
            <a:ext cx="796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j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←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choice(1 : n)  </a:t>
            </a:r>
            <a:r>
              <a:rPr b="0" lang="zh-TW" sz="2400" spc="-1" strike="noStrike">
                <a:solidFill>
                  <a:srgbClr val="ff0000"/>
                </a:solidFill>
                <a:latin typeface="Tahoma"/>
              </a:rPr>
              <a:t>/* gu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if A(j) = x then success </a:t>
            </a:r>
            <a:r>
              <a:rPr b="0" lang="zh-TW" sz="2400" spc="-1" strike="noStrike">
                <a:solidFill>
                  <a:srgbClr val="ff0000"/>
                </a:solidFill>
                <a:latin typeface="Tahoma"/>
              </a:rPr>
              <a:t>/* che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else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A </a:t>
            </a:r>
            <a:r>
              <a:rPr b="0" lang="zh-TW" sz="2400" spc="-1" strike="noStrike">
                <a:solidFill>
                  <a:srgbClr val="000000"/>
                </a:solidFill>
                <a:latin typeface="TimesNewRoman"/>
              </a:rPr>
              <a:t>nondeterministic algorithm terminates unsuccessfully iff there exist no set of choices leading to a success signal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NewRoman"/>
              </a:rPr>
              <a:t>The time required for choice(1 : n) is O(1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NewRoman"/>
              </a:rPr>
              <a:t>A deterministic interpretation of a non-deterministic algorithm can be made by allowing </a:t>
            </a:r>
            <a:r>
              <a:rPr b="0" lang="zh-TW" sz="2400" spc="-1" strike="noStrike">
                <a:solidFill>
                  <a:srgbClr val="ff0000"/>
                </a:solidFill>
                <a:latin typeface="TimesNewRoman"/>
              </a:rPr>
              <a:t>unbounded parallelism</a:t>
            </a:r>
            <a:r>
              <a:rPr b="0" lang="zh-TW" sz="2400" spc="-1" strike="noStrike">
                <a:solidFill>
                  <a:srgbClr val="000000"/>
                </a:solidFill>
                <a:latin typeface="TimesNewRoman"/>
              </a:rPr>
              <a:t> in computatio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FD90-CA0A-4465-BD13-AD131BEBAA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oblem Reduc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Problem A reduces to problem B (A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B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iff A can be solved by using any algorithm which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solves 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If A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B, B is more difficult (B is at least </a:t>
            </a:r>
            <a:r>
              <a:rPr b="0" lang="zh-TW" sz="2400" spc="-1" strike="noStrike">
                <a:solidFill>
                  <a:srgbClr val="ff0000"/>
                </a:solidFill>
                <a:latin typeface="Tahoma"/>
              </a:rPr>
              <a:t>as hard as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Note: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T(tr</a:t>
            </a:r>
            <a:r>
              <a:rPr b="0" lang="zh-TW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) + T(tr</a:t>
            </a:r>
            <a:r>
              <a:rPr b="0" lang="zh-TW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) &lt; T(B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T(A) 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T(tr</a:t>
            </a:r>
            <a:r>
              <a:rPr b="0" lang="zh-TW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) + T(tr</a:t>
            </a:r>
            <a:r>
              <a:rPr b="0" lang="zh-TW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) + T(B) 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O(T(B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974960" y="3882960"/>
          <a:ext cx="5868720" cy="177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4960" y="3882960"/>
                    <a:ext cx="5868720" cy="17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3352680" y="4221000"/>
            <a:ext cx="20574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246560"/>
            <a:ext cx="0" cy="838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429000" y="5157720"/>
            <a:ext cx="19051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56000" y="4487760"/>
            <a:ext cx="0" cy="3812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A739-A541-4402-8145-5BC0B69F0D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7993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ynomial-time Redu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We want to solve a problem </a:t>
            </a:r>
            <a:r>
              <a:rPr b="1" i="1" lang="zh-TW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; we already have an algorithm for </a:t>
            </a:r>
            <a:r>
              <a:rPr b="1" i="1" lang="zh-TW" sz="3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We have a transformation function </a:t>
            </a:r>
            <a:r>
              <a:rPr b="0" i="1" lang="zh-TW" sz="32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Correct answer for </a:t>
            </a:r>
            <a:r>
              <a:rPr b="1" i="1" lang="zh-TW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on </a:t>
            </a:r>
            <a:r>
              <a:rPr b="0" i="1" lang="zh-TW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is “yes”, iff the correct answer for </a:t>
            </a:r>
            <a:r>
              <a:rPr b="1" i="1" lang="zh-TW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on </a:t>
            </a:r>
            <a:r>
              <a:rPr b="0" i="1" lang="zh-TW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zh-TW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) is “ye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Problem </a:t>
            </a:r>
            <a:r>
              <a:rPr b="1" i="1" lang="zh-TW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i="1" lang="zh-TW" sz="3200" spc="-1" strike="noStrike">
                <a:solidFill>
                  <a:srgbClr val="3333ff"/>
                </a:solidFill>
                <a:latin typeface="Tahoma"/>
              </a:rPr>
              <a:t>polynomially reducible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1" i="1" lang="zh-TW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if such a transformation </a:t>
            </a:r>
            <a:r>
              <a:rPr b="0" i="1" lang="zh-TW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can be computed in polynomial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The point of reducibility: </a:t>
            </a:r>
            <a:r>
              <a:rPr b="1" i="1" lang="zh-TW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is at least as hard to solve as </a:t>
            </a:r>
            <a:r>
              <a:rPr b="1" i="1" lang="zh-TW" sz="32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38D9-3007-4D2B-A012-0D8F1B0C28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ynomial-time Redu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We use </a:t>
            </a:r>
            <a:r>
              <a:rPr b="0" i="1" lang="zh-TW" sz="2800" spc="-1" strike="noStrike">
                <a:solidFill>
                  <a:srgbClr val="3333ff"/>
                </a:solidFill>
                <a:latin typeface="Tahoma"/>
              </a:rPr>
              <a:t>reductions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(or </a:t>
            </a:r>
            <a:r>
              <a:rPr b="0" i="1" lang="zh-TW" sz="2800" spc="-1" strike="noStrike">
                <a:solidFill>
                  <a:srgbClr val="3333ff"/>
                </a:solidFill>
                <a:latin typeface="Tahoma"/>
              </a:rPr>
              <a:t>transformations)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to prove that a problem is </a:t>
            </a:r>
            <a:r>
              <a:rPr b="1" lang="zh-TW" sz="2800" spc="-1" strike="noStrike">
                <a:solidFill>
                  <a:srgbClr val="000000"/>
                </a:solidFill>
                <a:latin typeface="Garamond"/>
              </a:rPr>
              <a:t>NP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-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is an input for </a:t>
            </a:r>
            <a:r>
              <a:rPr b="1" i="1" lang="zh-TW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i="1" lang="zh-TW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zh-TW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) is an input for </a:t>
            </a:r>
            <a:r>
              <a:rPr b="1" i="1" lang="zh-TW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(R 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350532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3429000"/>
            <a:ext cx="2590920" cy="762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3809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3352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62920" y="3809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91520" y="38098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 or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3809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2895480"/>
            <a:ext cx="586728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4800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9D05-F417-47B0-ADE9-25C5616517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NPC and NP-hard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 problem A is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NP-hard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if every NP problem reduces to A.</a:t>
            </a:r>
            <a:r>
              <a:rPr b="0" lang="en-US" sz="4400" spc="-1" strike="noStrike">
                <a:solidFill>
                  <a:srgbClr val="000000"/>
                </a:solidFill>
                <a:latin typeface="Symbol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 problem A is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NP-complete (NPC)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if A</a:t>
            </a:r>
            <a:r>
              <a:rPr b="0" lang="en-US" sz="4400" spc="-1" strike="noStrike">
                <a:solidFill>
                  <a:srgbClr val="000000"/>
                </a:solidFill>
                <a:latin typeface="SymbolMT"/>
                <a:ea typeface="SymbolMT"/>
              </a:rPr>
              <a:t>∈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P and every NP problem reduces to A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r we can say a problem A is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NPC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if A</a:t>
            </a:r>
            <a:r>
              <a:rPr b="0" lang="en-US" sz="4000" spc="-1" strike="noStrike">
                <a:solidFill>
                  <a:srgbClr val="000000"/>
                </a:solidFill>
                <a:latin typeface="SymbolMT"/>
                <a:ea typeface="SymbolMT"/>
              </a:rPr>
              <a:t>∈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P and A is NP-hard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238D-28CF-4031-8B4C-BC5A2A2DC5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Garamond"/>
              </a:rPr>
              <a:t>NP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-Complete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Garamond"/>
              </a:rPr>
              <a:t>NP</a:t>
            </a:r>
            <a:r>
              <a:rPr b="0" i="1" lang="en-US" sz="3200" spc="-1" strike="noStrike">
                <a:solidFill>
                  <a:srgbClr val="009900"/>
                </a:solidFill>
                <a:latin typeface="Tahoma"/>
              </a:rPr>
              <a:t>-complete problem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”: the hardest problems in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esting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y </a:t>
            </a:r>
            <a:r>
              <a:rPr b="0" i="1" lang="en-US" sz="2800" spc="-1" strike="noStrike">
                <a:solidFill>
                  <a:srgbClr val="3333ff"/>
                </a:solidFill>
                <a:latin typeface="Tahoma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complete problem can be solved in polynomial time, then </a:t>
            </a:r>
            <a:r>
              <a:rPr b="0" i="1" lang="en-US" sz="2800" spc="-1" strike="noStrike">
                <a:solidFill>
                  <a:srgbClr val="3333ff"/>
                </a:solidFill>
                <a:latin typeface="Tahoma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blem in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N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solved similarly (i.e., P=N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believe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≠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ED97-9CF1-4F0A-A8A6-947B58A7BF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mportance of </a:t>
            </a:r>
            <a:r>
              <a:rPr b="1" lang="en-US" sz="4000" spc="-1" strike="noStrike">
                <a:solidFill>
                  <a:srgbClr val="333399"/>
                </a:solidFill>
                <a:latin typeface="Garamond"/>
              </a:rPr>
              <a:t>NP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-Completenes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70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complete problems: considered “intractabl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ant for algorithm designers &amp; engine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se you have a problem to sol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r colleagues have spent a lot of time to solve it exactly but in v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whether you can prove that it is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es, then spend your time developing an </a:t>
            </a:r>
            <a:r>
              <a:rPr b="0" i="1" lang="en-US" sz="2400" spc="-1" strike="noStrike">
                <a:solidFill>
                  <a:srgbClr val="3333ff"/>
                </a:solidFill>
                <a:latin typeface="Tahoma"/>
              </a:rPr>
              <a:t>approximation 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3333ff"/>
                </a:solidFill>
                <a:latin typeface="Tahoma"/>
              </a:rPr>
              <a:t>heuristic</a:t>
            </a: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3333ff"/>
                </a:solidFill>
                <a:latin typeface="Tahoma"/>
              </a:rPr>
              <a:t>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natural problems can be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F61A-82C5-4931-9C6A-E4943245B8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47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lationship Between </a:t>
            </a:r>
            <a:r>
              <a:rPr b="1" lang="en-US" sz="4400" spc="-1" strike="noStrike">
                <a:solidFill>
                  <a:srgbClr val="333399"/>
                </a:solidFill>
                <a:latin typeface="Garamond"/>
              </a:rPr>
              <a:t>NP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333399"/>
                </a:solidFill>
                <a:latin typeface="Garamond"/>
              </a:rPr>
              <a:t>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It is not known whether </a:t>
            </a:r>
            <a:r>
              <a:rPr b="1" lang="zh-TW" sz="32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zh-TW" sz="3200" spc="-1" strike="noStrike">
                <a:solidFill>
                  <a:srgbClr val="000000"/>
                </a:solidFill>
                <a:latin typeface="Garamond"/>
              </a:rPr>
              <a:t>NP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or whether </a:t>
            </a:r>
            <a:r>
              <a:rPr b="1" lang="zh-TW" sz="32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is a proper subset of </a:t>
            </a:r>
            <a:r>
              <a:rPr b="1" lang="zh-TW" sz="3200" spc="-1" strike="noStrike">
                <a:solidFill>
                  <a:srgbClr val="000000"/>
                </a:solidFill>
                <a:latin typeface="Garamond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It is believed </a:t>
            </a:r>
            <a:r>
              <a:rPr b="1" lang="zh-TW" sz="3200" spc="-1" strike="noStrike">
                <a:solidFill>
                  <a:srgbClr val="000000"/>
                </a:solidFill>
                <a:latin typeface="Garamond"/>
              </a:rPr>
              <a:t>NP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is much larger than </a:t>
            </a:r>
            <a:r>
              <a:rPr b="1" lang="zh-TW" sz="32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But no problem in </a:t>
            </a:r>
            <a:r>
              <a:rPr b="1" lang="zh-TW" sz="2800" spc="-1" strike="noStrike">
                <a:solidFill>
                  <a:srgbClr val="000000"/>
                </a:solidFill>
                <a:latin typeface="Garamond"/>
              </a:rPr>
              <a:t>NP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has been proved as not in </a:t>
            </a:r>
            <a:r>
              <a:rPr b="1" lang="zh-TW" sz="28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No known deterministic algorithms that are polynomially bounded for many problems in </a:t>
            </a:r>
            <a:r>
              <a:rPr b="1" lang="zh-TW" sz="2800" spc="-1" strike="noStrike">
                <a:solidFill>
                  <a:srgbClr val="000000"/>
                </a:solidFill>
                <a:latin typeface="Garamond"/>
              </a:rPr>
              <a:t>N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Tahoma"/>
              </a:rPr>
              <a:t>So, “does </a:t>
            </a:r>
            <a:r>
              <a:rPr b="1" lang="zh-TW" sz="2800" spc="-1" strike="noStrike">
                <a:solidFill>
                  <a:srgbClr val="ff0000"/>
                </a:solidFill>
                <a:latin typeface="Garamond"/>
              </a:rPr>
              <a:t>P</a:t>
            </a:r>
            <a:r>
              <a:rPr b="0" lang="zh-TW" sz="2800" spc="-1" strike="noStrike">
                <a:solidFill>
                  <a:srgbClr val="ff0000"/>
                </a:solidFill>
                <a:latin typeface="Tahoma"/>
              </a:rPr>
              <a:t> = </a:t>
            </a:r>
            <a:r>
              <a:rPr b="1" lang="zh-TW" sz="2800" spc="-1" strike="noStrike">
                <a:solidFill>
                  <a:srgbClr val="ff0000"/>
                </a:solidFill>
                <a:latin typeface="Garamond"/>
              </a:rPr>
              <a:t>NP</a:t>
            </a:r>
            <a:r>
              <a:rPr b="0" lang="zh-TW" sz="2800" spc="-1" strike="noStrike">
                <a:solidFill>
                  <a:srgbClr val="ff0000"/>
                </a:solidFill>
                <a:latin typeface="Tahoma"/>
              </a:rPr>
              <a:t>?” is still an open question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CA8C-33C7-4582-B919-286E8C04AB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ok’s theorem (197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4000" spc="-1" strike="noStrike">
                <a:solidFill>
                  <a:srgbClr val="ff0000"/>
                </a:solidFill>
                <a:latin typeface="Tahoma"/>
              </a:rPr>
              <a:t>NP = P iff SAT</a:t>
            </a:r>
            <a:r>
              <a:rPr b="0" lang="zh-TW" sz="4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zh-TW" sz="4000" spc="-1" strike="noStrike">
                <a:solidFill>
                  <a:srgbClr val="ff0000"/>
                </a:solidFill>
                <a:latin typeface="Tahoma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NewRoman"/>
              </a:rPr>
              <a:t>SAT (</a:t>
            </a:r>
            <a:r>
              <a:rPr b="0" lang="zh-TW" sz="4000" spc="-1" strike="noStrike">
                <a:solidFill>
                  <a:srgbClr val="ff0000"/>
                </a:solidFill>
                <a:latin typeface="Tahoma"/>
              </a:rPr>
              <a:t>the satisfiability problem</a:t>
            </a:r>
            <a:r>
              <a:rPr b="0" lang="zh-TW" sz="4000" spc="-1" strike="noStrike">
                <a:solidFill>
                  <a:srgbClr val="000000"/>
                </a:solidFill>
                <a:latin typeface="TimesNewRoman"/>
              </a:rPr>
              <a:t>) is NP-complet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NewRoman"/>
              </a:rPr>
              <a:t>It is the first NP-complete problem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NewRoman"/>
              </a:rPr>
              <a:t>Every NP problem reduces to S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B1C4-ABD0-40E3-AFF7-1B3701502B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T is NP-comple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Every NP problem can be solved by an NP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Every NP algorithm can be transformed in </a:t>
            </a:r>
            <a:r>
              <a:rPr b="0" lang="zh-TW" sz="2800" spc="-1" strike="noStrike">
                <a:solidFill>
                  <a:srgbClr val="ff0000"/>
                </a:solidFill>
                <a:latin typeface="Tahoma"/>
              </a:rPr>
              <a:t>polynomial time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to an SAT problem (a Boolean formula 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Such that the SAT problem is satisfiable iff the answer for the original NP problem is “ye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That is, every NP problem 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S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SAT is NP-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305F-4219-4320-A5AD-98E6140901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333360"/>
            <a:ext cx="8424720" cy="3743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67000" y="47304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06560" y="1631880"/>
            <a:ext cx="1944720" cy="15843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91280" y="1415880"/>
            <a:ext cx="2376360" cy="136692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P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9258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P: Non-deterministic Poly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550224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: Poly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607860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PC: Non-deterministic Polynomial 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26320" y="4365720"/>
            <a:ext cx="9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=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63560" y="4365720"/>
            <a:ext cx="3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80720" y="21337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85200" y="549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36280" y="2060640"/>
            <a:ext cx="49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25B2-611A-4EA6-BFD2-533E3B62991A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2847 0.02084 E">
                                      <p:cBhvr>
                                        <p:cTn id="63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1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e4a8"/>
                                      </p:to>
                                    </p:animClr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611 0.02107 L 0.28681 -0.24005 E">
                                      <p:cBhvr>
                                        <p:cTn id="82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Definition of the </a:t>
            </a:r>
            <a:r>
              <a:rPr b="0" lang="zh-TW" sz="3200" spc="-1" strike="noStrike" u="sng">
                <a:solidFill>
                  <a:srgbClr val="ff0000"/>
                </a:solidFill>
                <a:uFillTx/>
                <a:latin typeface="Tahoma"/>
              </a:rPr>
              <a:t>satisfiability problem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: Given a Boolean formula, determine whether this formula is satisfiable or no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zh-TW" sz="3200" spc="-1" strike="noStrike" u="sng">
                <a:solidFill>
                  <a:srgbClr val="ff0000"/>
                </a:solidFill>
                <a:uFillTx/>
                <a:latin typeface="Tahoma"/>
              </a:rPr>
              <a:t>literal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: x</a:t>
            </a:r>
            <a:r>
              <a:rPr b="0" lang="zh-TW" sz="32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or -x</a:t>
            </a:r>
            <a:r>
              <a:rPr b="0" lang="zh-TW" sz="32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zh-TW" sz="3200" spc="-1" strike="noStrike" u="sng">
                <a:solidFill>
                  <a:srgbClr val="ff0000"/>
                </a:solidFill>
                <a:uFillTx/>
                <a:latin typeface="Tahoma"/>
              </a:rPr>
              <a:t>clause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: x</a:t>
            </a:r>
            <a:r>
              <a:rPr b="0" lang="zh-TW" sz="32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v x</a:t>
            </a:r>
            <a:r>
              <a:rPr b="0" lang="zh-TW" sz="3200" spc="-1" strike="noStrike" baseline="-30000">
                <a:solidFill>
                  <a:srgbClr val="000000"/>
                </a:solidFill>
                <a:latin typeface="Tahoma"/>
              </a:rPr>
              <a:t>2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v -x</a:t>
            </a:r>
            <a:r>
              <a:rPr b="0" lang="zh-TW" sz="32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zh-TW" sz="3200" spc="-1" strike="noStrike" baseline="-30000">
                <a:solidFill>
                  <a:srgbClr val="000000"/>
                </a:solidFill>
                <a:latin typeface="Tahoma"/>
              </a:rPr>
              <a:t>i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zh-TW" sz="3200" spc="-1" strike="noStrike" u="sng">
                <a:solidFill>
                  <a:srgbClr val="ff0000"/>
                </a:solidFill>
                <a:uFillTx/>
                <a:latin typeface="Tahoma"/>
              </a:rPr>
              <a:t>formula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: conjunctive normal for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zh-TW" sz="32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&amp; C</a:t>
            </a:r>
            <a:r>
              <a:rPr b="0" lang="zh-TW" sz="3200" spc="-1" strike="noStrike" baseline="-30000">
                <a:solidFill>
                  <a:srgbClr val="000000"/>
                </a:solidFill>
                <a:latin typeface="Tahoma"/>
              </a:rPr>
              <a:t>2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&amp;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&amp; C</a:t>
            </a:r>
            <a:r>
              <a:rPr b="0" lang="zh-TW" sz="3200" spc="-1" strike="noStrike" baseline="-30000">
                <a:solidFill>
                  <a:srgbClr val="000000"/>
                </a:solidFill>
                <a:latin typeface="Tahoma"/>
              </a:rPr>
              <a:t>m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16DA-4184-4FD1-97C1-1BB35047C5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The Satisfiability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zh-TW" sz="2800" spc="-1" strike="noStrike" u="sng">
                <a:solidFill>
                  <a:srgbClr val="ff0000"/>
                </a:solidFill>
                <a:uFillTx/>
                <a:latin typeface="Tahoma"/>
              </a:rPr>
              <a:t>satisfiability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A logical formul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v 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&amp; - 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&amp; - 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the assignment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zh-TW" sz="2800" spc="-1" strike="noStrike" baseline="-30000">
                <a:solidFill>
                  <a:srgbClr val="000000"/>
                </a:solidFill>
                <a:latin typeface="Tahoma"/>
              </a:rPr>
              <a:t>1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←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F , x</a:t>
            </a:r>
            <a:r>
              <a:rPr b="0" lang="zh-TW" sz="2800" spc="-1" strike="noStrike" baseline="-30000">
                <a:solidFill>
                  <a:srgbClr val="000000"/>
                </a:solidFill>
                <a:latin typeface="Tahoma"/>
              </a:rPr>
              <a:t>2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←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F , x</a:t>
            </a:r>
            <a:r>
              <a:rPr b="0" lang="zh-TW" sz="2800" spc="-1" strike="noStrike" baseline="-30000">
                <a:solidFill>
                  <a:srgbClr val="000000"/>
                </a:solidFill>
                <a:latin typeface="Tahoma"/>
              </a:rPr>
              <a:t>3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←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will make the above formula tr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(-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, -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, 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) represents  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←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F , 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←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F , 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3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←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C91A-6F9D-4383-945C-6F2A805B55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If there is </a:t>
            </a:r>
            <a:r>
              <a:rPr b="0" lang="zh-TW" sz="2800" spc="-1" strike="noStrike" u="sng">
                <a:solidFill>
                  <a:srgbClr val="ff0000"/>
                </a:solidFill>
                <a:uFillTx/>
                <a:latin typeface="Tahoma"/>
              </a:rPr>
              <a:t>at least one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assignment which satisfies a formula, then we say that this formula is </a:t>
            </a:r>
            <a:r>
              <a:rPr b="0" lang="zh-TW" sz="2800" spc="-1" strike="noStrike" u="sng">
                <a:solidFill>
                  <a:srgbClr val="ff0000"/>
                </a:solidFill>
                <a:uFillTx/>
                <a:latin typeface="Tahoma"/>
              </a:rPr>
              <a:t>satisfiable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; otherwise, it is </a:t>
            </a:r>
            <a:r>
              <a:rPr b="0" lang="zh-TW" sz="2800" spc="-1" strike="noStrike" u="sng">
                <a:solidFill>
                  <a:srgbClr val="ff0000"/>
                </a:solidFill>
                <a:uFillTx/>
                <a:latin typeface="Tahoma"/>
              </a:rPr>
              <a:t>unsatisfiable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An unsatisfiable formul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&amp; 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-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&amp; -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&amp; -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-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CD5D-2CD7-4407-8F0C-5EF5671CB1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Resolution principl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: -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-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v 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: 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4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: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-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3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v 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zh-TW" sz="2400" spc="-1" strike="noStrike">
                <a:solidFill>
                  <a:srgbClr val="ff0000"/>
                </a:solidFill>
                <a:latin typeface="Tahoma"/>
              </a:rPr>
              <a:t>resolvent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If no new clauses can be deduc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satisf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-x</a:t>
            </a:r>
            <a:r>
              <a:rPr b="0" lang="zh-TW" sz="20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  v  -x</a:t>
            </a:r>
            <a:r>
              <a:rPr b="0" lang="zh-TW" sz="2000" spc="-1" strike="noStrike" baseline="-30000">
                <a:solidFill>
                  <a:srgbClr val="000000"/>
                </a:solidFill>
                <a:latin typeface="Tahoma"/>
              </a:rPr>
              <a:t>2 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 v  x</a:t>
            </a:r>
            <a:r>
              <a:rPr b="0" lang="zh-TW" sz="20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              (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zh-TW" sz="20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                               (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zh-TW" sz="20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                               (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(1) &amp; (2)         -x</a:t>
            </a:r>
            <a:r>
              <a:rPr b="0" lang="zh-TW" sz="2000" spc="-1" strike="noStrike" baseline="-30000">
                <a:solidFill>
                  <a:srgbClr val="000000"/>
                </a:solidFill>
                <a:latin typeface="Tahoma"/>
              </a:rPr>
              <a:t>2 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 v  x</a:t>
            </a:r>
            <a:r>
              <a:rPr b="0" lang="zh-TW" sz="20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            (4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(4) &amp; (3)         x</a:t>
            </a:r>
            <a:r>
              <a:rPr b="0" lang="zh-TW" sz="20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                     (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(1) &amp; (3)         -x</a:t>
            </a:r>
            <a:r>
              <a:rPr b="0" lang="zh-TW" sz="20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  v  x</a:t>
            </a:r>
            <a:r>
              <a:rPr b="0" lang="zh-TW" sz="20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            (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The satisfiability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32C2-6E78-42DE-A776-66F6CA7F61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The satisfiability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If an empty clause is deduc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unsatisf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- 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 -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 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          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 -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                   (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                           (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- 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                           (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     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dedu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 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(1) &amp; (2)         -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v  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(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(4) &amp; (5)         -x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      (6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(6) &amp; (3)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□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       (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6ADA-22EA-4D76-AF63-13918C32706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deterministic SAT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Guessing     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for i = 1 to n d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x</a:t>
            </a:r>
            <a:r>
              <a:rPr b="0" lang="zh-TW" sz="2800" spc="-1" strike="noStrike" baseline="-25000">
                <a:solidFill>
                  <a:srgbClr val="000000"/>
                </a:solidFill>
                <a:latin typeface="TimesNewRoman"/>
              </a:rPr>
              <a:t>i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← 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choice( true, false 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if E(x</a:t>
            </a:r>
            <a:r>
              <a:rPr b="0" lang="zh-TW" sz="2800" spc="-1" strike="noStrike" baseline="-25000">
                <a:solidFill>
                  <a:srgbClr val="000000"/>
                </a:solidFill>
                <a:latin typeface="TimesNewRoman"/>
              </a:rPr>
              <a:t>1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, x</a:t>
            </a:r>
            <a:r>
              <a:rPr b="0" lang="zh-TW" sz="2800" spc="-1" strike="noStrike" baseline="-25000">
                <a:solidFill>
                  <a:srgbClr val="000000"/>
                </a:solidFill>
                <a:latin typeface="TimesNewRoman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, 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… ,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x</a:t>
            </a:r>
            <a:r>
              <a:rPr b="0" lang="zh-TW" sz="2800" spc="-1" strike="noStrike" baseline="-25000">
                <a:solidFill>
                  <a:srgbClr val="000000"/>
                </a:solidFill>
                <a:latin typeface="TimesNewRoman"/>
              </a:rPr>
              <a:t>n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) is tru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Checking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then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else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766960" y="1989000"/>
            <a:ext cx="597960" cy="685080"/>
            <a:chOff x="2766960" y="1989000"/>
            <a:chExt cx="597960" cy="685080"/>
          </a:xfrm>
        </p:grpSpPr>
        <p:sp>
          <p:nvSpPr>
            <p:cNvPr id="167" name=""/>
            <p:cNvSpPr/>
            <p:nvPr/>
          </p:nvSpPr>
          <p:spPr>
            <a:xfrm flipH="1" flipV="1">
              <a:off x="3066120" y="2560320"/>
              <a:ext cx="298800" cy="11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66120" y="2388960"/>
              <a:ext cx="1080" cy="23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66960" y="2331720"/>
              <a:ext cx="298800" cy="11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766960" y="2217240"/>
              <a:ext cx="298800" cy="11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66120" y="2045880"/>
              <a:ext cx="1080" cy="23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066120" y="1989000"/>
              <a:ext cx="298800" cy="11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983680" y="3284640"/>
            <a:ext cx="303480" cy="1142280"/>
            <a:chOff x="2983680" y="3284640"/>
            <a:chExt cx="303480" cy="1142280"/>
          </a:xfrm>
        </p:grpSpPr>
        <p:sp>
          <p:nvSpPr>
            <p:cNvPr id="174" name=""/>
            <p:cNvSpPr/>
            <p:nvPr/>
          </p:nvSpPr>
          <p:spPr>
            <a:xfrm flipH="1" flipV="1">
              <a:off x="3135240" y="4236120"/>
              <a:ext cx="151920" cy="1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35240" y="3950640"/>
              <a:ext cx="360" cy="382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83680" y="3856320"/>
              <a:ext cx="151200" cy="1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983680" y="3664440"/>
              <a:ext cx="151200" cy="1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35240" y="3380040"/>
              <a:ext cx="360" cy="382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135240" y="3284640"/>
              <a:ext cx="151920" cy="1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6D97-9A1B-4C8A-8F01-B97DBB0B701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NewRoman"/>
              </a:rPr>
              <a:t>Transforming Searching to SAT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Does there exist a number in { x(1), x(2), …,  x(n) }, which is equal to 7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Assume n = 2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7010280" cy="146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6DAA-8599-49FB-A8D3-76BDF1E037C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NewRoman"/>
              </a:rPr>
              <a:t>Transforming Search to SAT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Does there exist a number in { x(1), x(2), …, x(n) }, which is equal to 7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Assume n = 2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nondeterministic algorith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1219320" y="4038480"/>
            <a:ext cx="4643280" cy="2552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i = choice(1,2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if x(i)=7 then     </a:t>
            </a: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SU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else   </a:t>
            </a: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FAIL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FD66-2959-40CF-A9D9-54FC38917EE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i=1 v i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&amp; i=1 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&amp; i=2 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&amp; x(1)=7 &amp; i=1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SUCC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&amp; x(2)=7 &amp; i=2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SUCC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&amp; x(1)</a:t>
            </a:r>
            <a:r>
              <a:rPr b="0" lang="en-US" sz="28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7 &amp; i=1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FAILU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&amp; x(2)</a:t>
            </a:r>
            <a:r>
              <a:rPr b="0" lang="en-US" sz="28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7 &amp; i=2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FAILU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&amp; FAILURE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-SUCC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&amp; SUCCESS   (Guarantees a successful terminatio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&amp; x(1)=7    (Input data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&amp; x(2)</a:t>
            </a:r>
            <a:r>
              <a:rPr b="0" lang="en-US" sz="2800" spc="-1" strike="noStrike">
                <a:solidFill>
                  <a:srgbClr val="000000"/>
                </a:solidFill>
                <a:latin typeface="SymbolMT"/>
                <a:ea typeface="SymbolMT"/>
              </a:rPr>
              <a:t>≠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00FD-B9A8-4BCE-A262-AD5009232CE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CNF (conjunctive normal form)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i=1 v i=2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(1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1 v i</a:t>
            </a:r>
            <a:r>
              <a:rPr b="0" lang="en-US" sz="24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(2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x(1)</a:t>
            </a:r>
            <a:r>
              <a:rPr b="0" lang="en-US" sz="24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7 v i</a:t>
            </a:r>
            <a:r>
              <a:rPr b="0" lang="en-US" sz="24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1 v SUCCESS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(3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x(2)</a:t>
            </a:r>
            <a:r>
              <a:rPr b="0" lang="en-US" sz="24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7 v i</a:t>
            </a:r>
            <a:r>
              <a:rPr b="0" lang="en-US" sz="24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2 v SUCCESS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(4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x(1)=7 v i</a:t>
            </a:r>
            <a:r>
              <a:rPr b="0" lang="en-US" sz="24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1 v FAILURE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(5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x(2)=7 v i</a:t>
            </a:r>
            <a:r>
              <a:rPr b="0" lang="en-US" sz="24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2 v FAILURE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(6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-FAILURE v -SUCCESS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(7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SUCCESS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(8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x(1)=7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(9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x(2)</a:t>
            </a:r>
            <a:r>
              <a:rPr b="0" lang="en-US" sz="24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7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(10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B75C-4BF9-462E-9CCF-9607A3B681B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2514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he class of problems which can be solved by a deterministic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lynomial algorith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N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he class of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ecision proble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hich can be solved by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-deterministic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lynomial algorith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NP-har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he class of problems to which every NP problem redu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NP-complete (NPC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he class of problems which are NP-hard and belong to N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78136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4038480" cy="203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3292-31AB-436C-9D27-34D03BEEBA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3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NewRoman"/>
              </a:rPr>
              <a:t>Satisfiable with the following assignment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i=1 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satisfying 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(1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i</a:t>
            </a:r>
            <a:r>
              <a:rPr b="0" lang="zh-TW" sz="28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2 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satisfying 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(2), (4) and (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SUCCESS 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satisfying 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(3), (4) and (8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SymbolMT"/>
                <a:ea typeface="SymbolMT"/>
              </a:rPr>
              <a:t>-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FAILURE 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satisfying 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(7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x(1)=7 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satisfying 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(5) and (9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x(2)</a:t>
            </a:r>
            <a:r>
              <a:rPr b="0" lang="zh-TW" sz="28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7 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satisfying 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(4) and (1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D7CF-041E-4921-A08C-A6CF2890AE4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earching for 7, but x(1)</a:t>
            </a:r>
            <a:r>
              <a:rPr b="0" lang="en-US" sz="40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7, x(2)</a:t>
            </a:r>
            <a:r>
              <a:rPr b="0" lang="en-US" sz="40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7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NF </a:t>
            </a:r>
            <a:r>
              <a:rPr b="0" lang="en-US" sz="3600" spc="-1" strike="noStrike">
                <a:solidFill>
                  <a:srgbClr val="000000"/>
                </a:solidFill>
                <a:latin typeface="TimesNewRoman"/>
              </a:rPr>
              <a:t>(conjunctive normal form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6934320" cy="354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2300-734E-4301-9EB9-42CBB029044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y resolution principle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82560" y="1747800"/>
            <a:ext cx="7844040" cy="371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8975-444B-4BDB-9CED-4CC43E9A91F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62120" y="1447560"/>
            <a:ext cx="81928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NF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7462800" cy="3757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earching for 7, where x(1)=7, x(2)=7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D2E6-BF4F-4D2A-9B6D-4B51602EA07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ode Cover Problem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88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Given a graph G = (V, E), S is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node cov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f 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f 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 and for ever edge (u, v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,  (u,v) is incident to a node in 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338640" y="25192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43000" y="3352680"/>
            <a:ext cx="3429000" cy="2314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952880" y="380988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cov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1, 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5, 2, 4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5715000"/>
            <a:ext cx="77724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 problem: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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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9E4D-006C-4C13-8E59-76CD051D4AC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ow to Prove a Problem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is     </a:t>
            </a:r>
            <a:r>
              <a:rPr b="1" lang="en-US" sz="4000" spc="-1" strike="noStrike">
                <a:solidFill>
                  <a:srgbClr val="333399"/>
                </a:solidFill>
                <a:latin typeface="Garamond"/>
              </a:rPr>
              <a:t>NP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-Complete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w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in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known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complete problem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complete, all problems in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reducible to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w how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n be poly. reducible to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all problems in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an be poly. reducible to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because polynomial reduction is transitiv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fore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138F-9F09-4C20-8F1B-EFE59DC49B2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Cook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ok showed the first NPC problem: S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ok received Turing Award in 1982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9380-703A-481C-9BCB-F1A1088A690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Karp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. Karp showed several NPC problems, such as 3-STA, node (vertex) cover, and  Hamiltonian cycle, etc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Karp received Turing Award in 1985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EA67-D669-4F04-AA38-967E25C6DF9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754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NP-Completeness Proof: Redu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3505320"/>
            <a:ext cx="10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ex 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362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2362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S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4340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08720" y="358128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atic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51814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inating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11430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NP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90920" y="1676520"/>
            <a:ext cx="1828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580920" y="2133720"/>
            <a:ext cx="8384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00400" y="4343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05520" y="2057400"/>
            <a:ext cx="9903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80C0-2304-47CA-BA11-E357B5F7A85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79292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PC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55972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ahoma"/>
              </a:rPr>
              <a:t>CLIQUE(k):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Does G=(V,E) contain a clique of size </a:t>
            </a: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zh-TW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ahoma"/>
              </a:rPr>
              <a:t>Definition: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A clique in a graph is a set of vertices such that any pair of vertices are joined by en ed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F000-13A6-4FB0-8C3E-CCD2DD4689C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cis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olution is simply 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s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ation problem : more difficul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he traveling salesperson probl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ization ver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the shortest tou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ision ver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ere a tour whose total length is less than or equal to a constant C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005120" y="3860640"/>
            <a:ext cx="151560" cy="685080"/>
            <a:chOff x="1005120" y="3860640"/>
            <a:chExt cx="151560" cy="685080"/>
          </a:xfrm>
        </p:grpSpPr>
        <p:sp>
          <p:nvSpPr>
            <p:cNvPr id="104" name=""/>
            <p:cNvSpPr/>
            <p:nvPr/>
          </p:nvSpPr>
          <p:spPr>
            <a:xfrm flipH="1" flipV="1">
              <a:off x="1081080" y="4431960"/>
              <a:ext cx="75600" cy="11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81080" y="4260240"/>
              <a:ext cx="720" cy="23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05120" y="4203000"/>
              <a:ext cx="75600" cy="11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1005120" y="4088520"/>
              <a:ext cx="75600" cy="11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81080" y="3917520"/>
              <a:ext cx="720" cy="22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081080" y="3860640"/>
              <a:ext cx="75600" cy="11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07EF-887D-4B63-A846-C3C8EFEB61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79292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PC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55972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ahoma"/>
              </a:rPr>
              <a:t>Vertex Cover(k):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Given a graph G=(V, E) and an integer </a:t>
            </a:r>
            <a:r>
              <a:rPr b="0" i="1" lang="zh-TW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, does G have a vertex cover with </a:t>
            </a: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zh-TW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vertic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ahoma"/>
              </a:rPr>
              <a:t>Definition: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A vertex cover of G=(V, E) is V’</a:t>
            </a: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V such that every edge in E is incident to some v</a:t>
            </a: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V’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8E26-0063-450A-8C23-5F168289CB7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ahoma"/>
              </a:rPr>
              <a:t>Dominating Set(k):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Given an graph G=(V, E) and an integer </a:t>
            </a:r>
            <a:r>
              <a:rPr b="0" i="1" lang="zh-TW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, does G have a dominating set of size </a:t>
            </a: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zh-TW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ahoma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A dominating set D of G=(V, E) is D</a:t>
            </a: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V such that every v</a:t>
            </a: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V is either in D or adjacent to at least one vertex of 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PC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7075-389E-4515-8B60-A2707C9AE97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ahoma"/>
              </a:rPr>
              <a:t>SAT: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Give a Boolean expression (formula) in DNF (conjunctive normal form), determine if it is satisfi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ahoma"/>
              </a:rPr>
              <a:t>3SAT: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Give a Boolean expression in DNF such that each clause has </a:t>
            </a:r>
            <a:r>
              <a:rPr b="0" i="1" lang="zh-TW" sz="3200" spc="-1" strike="noStrike">
                <a:solidFill>
                  <a:srgbClr val="ff0000"/>
                </a:solidFill>
                <a:latin typeface="Tahoma"/>
              </a:rPr>
              <a:t>exactly </a:t>
            </a:r>
            <a:r>
              <a:rPr b="0" lang="zh-TW" sz="32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variables (literals), determine if it is  satisfi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PC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1F6E-B013-4600-907B-B9526A7F9CD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ahoma"/>
              </a:rPr>
              <a:t>Chromatic Coloring(k):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Given a graph G=(V, E) and an integer </a:t>
            </a:r>
            <a:r>
              <a:rPr b="0" i="1" lang="zh-TW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, does G have a coloring for </a:t>
            </a:r>
            <a:r>
              <a:rPr b="0" i="1" lang="zh-TW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zh-TW" sz="2800" spc="-1" strike="noStrike">
                <a:solidFill>
                  <a:srgbClr val="ff0000"/>
                </a:solidFill>
                <a:latin typeface="Tahoma"/>
              </a:rPr>
              <a:t>coloring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of a graph G=(V, E) is a fun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f : V 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{ 1, 2, 3,…, k } 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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if (u, v) 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E, then f(u)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f(v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PC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F70A-0A63-494F-974D-AAC63C81165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0/1 Knapsack problem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(weight limit)=1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st solution: P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P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P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P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ptim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problem is NP-complet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762120" y="2057400"/>
          <a:ext cx="7619760" cy="1828800"/>
        </p:xfrm>
        <a:graphic>
          <a:graphicData uri="http://schemas.openxmlformats.org/drawingml/2006/table">
            <a:tbl>
              <a:tblPr/>
              <a:tblGrid>
                <a:gridCol w="1412640"/>
                <a:gridCol w="820800"/>
                <a:gridCol w="781200"/>
                <a:gridCol w="779400"/>
                <a:gridCol w="779400"/>
                <a:gridCol w="781200"/>
                <a:gridCol w="779400"/>
                <a:gridCol w="779400"/>
                <a:gridCol w="706320"/>
              </a:tblGrid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D4AA-4647-4A85-95B8-196E924A3F6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veling salesperson problem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n: A set of n planar po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: A closed tour which includes all points exactly once such that its total length is minimiz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problem is NP-complet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EB57-5454-4697-AA24-BF887A7DCD1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tition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: A set of positive integers 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: S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uch that S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S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S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S2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partition into S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uch that the sum of S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equal to S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S={1, 7, 10, 9, 5, 8, 3, 1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{1, 10, 9, 8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{7, 5, 3, 13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problem is NP-complet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9A4B-75EC-42FE-ABF7-5FE6CD5204C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 gallery problem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NP-complete 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286000" y="2209680"/>
            <a:ext cx="4495680" cy="3810240"/>
            <a:chOff x="2286000" y="2209680"/>
            <a:chExt cx="4495680" cy="3810240"/>
          </a:xfrm>
        </p:grpSpPr>
        <p:sp>
          <p:nvSpPr>
            <p:cNvPr id="243" name=""/>
            <p:cNvSpPr/>
            <p:nvPr/>
          </p:nvSpPr>
          <p:spPr>
            <a:xfrm>
              <a:off x="2286000" y="2209680"/>
              <a:ext cx="4495680" cy="3810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3329"/>
                  </a:lnTo>
                  <a:lnTo>
                    <a:pt x="2998" y="13329"/>
                  </a:lnTo>
                  <a:lnTo>
                    <a:pt x="2998" y="8329"/>
                  </a:lnTo>
                  <a:lnTo>
                    <a:pt x="6000" y="8329"/>
                  </a:lnTo>
                  <a:lnTo>
                    <a:pt x="6000" y="13329"/>
                  </a:lnTo>
                  <a:lnTo>
                    <a:pt x="7998" y="13329"/>
                  </a:lnTo>
                  <a:lnTo>
                    <a:pt x="7998" y="16663"/>
                  </a:lnTo>
                  <a:lnTo>
                    <a:pt x="3999" y="16663"/>
                  </a:lnTo>
                  <a:lnTo>
                    <a:pt x="3999" y="19996"/>
                  </a:lnTo>
                  <a:lnTo>
                    <a:pt x="15998" y="19996"/>
                  </a:lnTo>
                  <a:lnTo>
                    <a:pt x="15998" y="16663"/>
                  </a:lnTo>
                  <a:lnTo>
                    <a:pt x="11999" y="16663"/>
                  </a:lnTo>
                  <a:lnTo>
                    <a:pt x="11999" y="13329"/>
                  </a:lnTo>
                  <a:lnTo>
                    <a:pt x="13997" y="13329"/>
                  </a:lnTo>
                  <a:lnTo>
                    <a:pt x="13997" y="8329"/>
                  </a:lnTo>
                  <a:lnTo>
                    <a:pt x="16999" y="8329"/>
                  </a:lnTo>
                  <a:lnTo>
                    <a:pt x="16999" y="13329"/>
                  </a:lnTo>
                  <a:lnTo>
                    <a:pt x="19997" y="13329"/>
                  </a:lnTo>
                  <a:lnTo>
                    <a:pt x="19997" y="0"/>
                  </a:lnTo>
                  <a:lnTo>
                    <a:pt x="16999" y="0"/>
                  </a:lnTo>
                  <a:lnTo>
                    <a:pt x="16999" y="5000"/>
                  </a:lnTo>
                  <a:lnTo>
                    <a:pt x="10999" y="5000"/>
                  </a:lnTo>
                  <a:lnTo>
                    <a:pt x="10999" y="0"/>
                  </a:lnTo>
                  <a:lnTo>
                    <a:pt x="8998" y="0"/>
                  </a:lnTo>
                  <a:lnTo>
                    <a:pt x="8998" y="5000"/>
                  </a:lnTo>
                  <a:lnTo>
                    <a:pt x="2998" y="5000"/>
                  </a:lnTo>
                  <a:lnTo>
                    <a:pt x="2998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49600" y="5542560"/>
              <a:ext cx="226080" cy="31896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421160" y="3320640"/>
              <a:ext cx="226080" cy="31896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482920" y="3281400"/>
              <a:ext cx="226080" cy="31896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32760" y="3320640"/>
              <a:ext cx="226080" cy="31896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55B2-71FA-403D-B285-384636070CF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-Satisfiability Problem (3-SAT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lause contains exactly three liter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-SAT is an NP problem (obviousl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3-S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One literal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clause in S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-S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-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-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-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-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B6BB-997B-4EA0-B916-82D4975003A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80520" y="6091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(2) Two literals L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, L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in a clause in S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In 3-S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L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y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L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-y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(3) Three literals in a clause: remain unchang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(4) More than 3 literals L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, L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, …, L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k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in a clau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in 3-S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L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y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-y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y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k-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-y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k-4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y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k-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k-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L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k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v -y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k-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23F7-2F0A-4A83-A715-AEC67C344FC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determinis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 nondeterministic algorithm is an algorithm consisting of two phases: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guessing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checking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urthermore, it is assumed that a nondeterministic algorithm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always makes a correct guessing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F1E6-7883-40A9-B895-C3E9E88750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876560" y="1523520"/>
            <a:ext cx="40021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stance 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3-SA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  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  -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x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  y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  y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x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  -y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  y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x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  y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  -y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x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  -y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v  -y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v  -x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  v  y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v  -y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  v  y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-x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v  x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v  -y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1981080" y="6248520"/>
            <a:ext cx="495324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1523880"/>
            <a:ext cx="4572000" cy="46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nstance S in SA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  <a:ea typeface="新細明體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  v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  <a:ea typeface="新細明體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新細明體"/>
              </a:rPr>
              <a:t>-x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  <a:ea typeface="新細明體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  <a:ea typeface="新細明體"/>
              </a:rPr>
              <a:t>x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  <a:ea typeface="新細明體"/>
              </a:rPr>
              <a:t>1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  <a:ea typeface="新細明體"/>
              </a:rPr>
              <a:t>  v  -x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  <a:ea typeface="新細明體"/>
              </a:rPr>
              <a:t>2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  <a:ea typeface="新細明體"/>
              </a:rPr>
              <a:t>  v  x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  <a:ea typeface="新細明體"/>
              </a:rPr>
              <a:t>3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  <a:ea typeface="新細明體"/>
              </a:rPr>
              <a:t>  v  -x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  <a:ea typeface="新細明體"/>
              </a:rPr>
              <a:t>4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  <a:ea typeface="新細明體"/>
              </a:rPr>
              <a:t>  v  x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  <a:ea typeface="新細明體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95280" y="571500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AT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ahoma"/>
              </a:rPr>
              <a:t>transform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3-S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S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ample of Transforming a 3-SAT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stance to an SAT Inst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4DB5-721F-4586-B4EA-007AE5A4684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hromatic Number Decision Problem (CN)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A </a:t>
            </a:r>
            <a:r>
              <a:rPr b="0" lang="zh-TW" sz="2400" spc="-1" strike="noStrike" u="sng">
                <a:solidFill>
                  <a:srgbClr val="ff0000"/>
                </a:solidFill>
                <a:uFillTx/>
                <a:latin typeface="Tahoma"/>
              </a:rPr>
              <a:t>coloring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of a graph G = (V, E) is a function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f: V 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{ 1, 2, 3,…, k } such that if (u, v) 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E, then f(u)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f(v). The CN problem is to determine if G has a coloring for k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cc"/>
                </a:solidFill>
                <a:latin typeface="Tahoma"/>
              </a:rPr>
              <a:t>&lt;Theorem&gt; Satisfiability with at most 3 literals per clause (SATY) </a:t>
            </a:r>
            <a:r>
              <a:rPr b="0" lang="zh-TW" sz="2400" spc="-1" strike="noStrike">
                <a:solidFill>
                  <a:srgbClr val="3333cc"/>
                </a:solidFill>
                <a:latin typeface="Symbol"/>
                <a:ea typeface="Symbol"/>
              </a:rPr>
              <a:t></a:t>
            </a:r>
            <a:r>
              <a:rPr b="0" lang="zh-TW" sz="2400" spc="-1" strike="noStrike">
                <a:solidFill>
                  <a:srgbClr val="3333cc"/>
                </a:solidFill>
                <a:latin typeface="Tahoma"/>
              </a:rPr>
              <a:t> C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3567240" y="23623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752480" y="3124080"/>
            <a:ext cx="2590920" cy="24703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4495680" y="38098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color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a)=1,  f(b)=2,  f(c)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d)=2,  f(e)=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57400" y="3200400"/>
            <a:ext cx="38088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57600" y="4191120"/>
            <a:ext cx="38088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57400" y="41911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657600" y="320040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19520" y="51055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E307-B9B2-4F42-9205-207242A5F19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Cover Decision Problem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F = { S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, …, S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k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= { u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, u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, …, u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n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T is a </a:t>
            </a:r>
            <a:r>
              <a:rPr b="0" lang="zh-TW" sz="2400" spc="-1" strike="noStrike" u="sng">
                <a:solidFill>
                  <a:srgbClr val="ff0000"/>
                </a:solidFill>
                <a:uFillTx/>
                <a:latin typeface="Tahoma"/>
              </a:rPr>
              <a:t>set cover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of F if T 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F and      S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=     S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zh-TW" sz="2400" spc="-1" strike="noStrike" u="sng">
                <a:solidFill>
                  <a:srgbClr val="ff0000"/>
                </a:solidFill>
                <a:uFillTx/>
                <a:latin typeface="Tahoma"/>
              </a:rPr>
              <a:t>set cover decision problem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is to determine if F has a cover T containing no more than </a:t>
            </a:r>
            <a:r>
              <a:rPr b="0" i="1" lang="zh-TW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se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Example: c=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F = {(a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), (a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), (a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), (a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), (a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3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   s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   s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s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    s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T = { s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}    </a:t>
            </a:r>
            <a:r>
              <a:rPr b="0" lang="zh-TW" sz="2400" spc="-1" strike="noStrike" u="sng">
                <a:solidFill>
                  <a:srgbClr val="ff0000"/>
                </a:solidFill>
                <a:uFillTx/>
                <a:latin typeface="Tahoma"/>
              </a:rPr>
              <a:t>set co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T = { s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} another set co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438624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600200" y="2133720"/>
                <a:ext cx="3715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/>
                      <m:li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F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43671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5715000" y="2590920"/>
                <a:ext cx="4096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/>
                      <m:li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T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43624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6705720" y="2590920"/>
                <a:ext cx="4190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/>
                      <m:li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F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40D2-72FD-493F-B63A-F93B0C678B8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ct Cover Problem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determine if F has an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exact cov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, which is a cover of F and the sets in T are pairwise disjoi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&lt;Theorem&gt; CN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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exact cover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035D-D974-493E-BC5B-DF0400D390A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 of Subset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A set of positive numbers A = { a</a:t>
            </a:r>
            <a:r>
              <a:rPr b="0" lang="zh-TW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zh-TW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, …, a</a:t>
            </a:r>
            <a:r>
              <a:rPr b="0" lang="zh-TW" sz="2800" spc="-1" strike="noStrike" baseline="-30000">
                <a:solidFill>
                  <a:srgbClr val="000000"/>
                </a:solidFill>
                <a:latin typeface="Tahoma"/>
              </a:rPr>
              <a:t>n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a constant 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Determine if 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A  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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       a</a:t>
            </a:r>
            <a:r>
              <a:rPr b="0" lang="zh-TW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= 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e.g.  A = { 7, 5, 19, 1, 12, 8, 14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C = 21,  A</a:t>
            </a:r>
            <a:r>
              <a:rPr b="0" lang="zh-TW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= { 7, 14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C = 11,  no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ahoma"/>
              </a:rPr>
              <a:t>&lt;Theorem&gt; Exact cover </a:t>
            </a:r>
            <a:r>
              <a:rPr b="0" lang="zh-TW" sz="2800" spc="-1" strike="noStrike">
                <a:solidFill>
                  <a:srgbClr val="3333cc"/>
                </a:solidFill>
                <a:latin typeface="Symbol"/>
                <a:ea typeface="Symbol"/>
              </a:rPr>
              <a:t></a:t>
            </a:r>
            <a:r>
              <a:rPr b="0" lang="zh-TW" sz="2800" spc="-1" strike="noStrike">
                <a:solidFill>
                  <a:srgbClr val="3333cc"/>
                </a:solidFill>
                <a:latin typeface="Tahoma"/>
              </a:rPr>
              <a:t> sum of subse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430524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410080" y="3048120"/>
                <a:ext cx="782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Î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3227-C0BA-4C07-9D14-99209BFD053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ct Cover </a:t>
            </a:r>
            <a:r>
              <a:rPr b="0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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Sum of Subset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Pro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Instance of exact co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F = { S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, …, S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}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Instance of sum of subse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A = { a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, …, a</a:t>
            </a:r>
            <a:r>
              <a:rPr b="0" lang="zh-TW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}  whe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340524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456160" y="2209680"/>
                <a:ext cx="303228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/>
                      <m:li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F</m:t>
                        </m:r>
                      </m:lim>
                    </m:limLow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84" name=""/>
          <p:cNvGraphicFramePr/>
          <p:nvPr/>
        </p:nvGraphicFramePr>
        <p:xfrm>
          <a:off x="0" y="4581360"/>
          <a:ext cx="8593200" cy="286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81360"/>
                    <a:ext cx="8593200" cy="28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7F66-B020-4BDA-8A86-FD6A004BFC0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tition Problem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Given a set of positive numbers A = { a</a:t>
            </a:r>
            <a:r>
              <a:rPr b="0" lang="zh-TW" sz="32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zh-TW" sz="32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,…,a</a:t>
            </a:r>
            <a:r>
              <a:rPr b="0" lang="zh-TW" sz="3200" spc="-1" strike="noStrike" baseline="-30000">
                <a:solidFill>
                  <a:srgbClr val="000000"/>
                </a:solidFill>
                <a:latin typeface="Tahoma"/>
              </a:rPr>
              <a:t>n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}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determine if </a:t>
            </a: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a partition P, </a:t>
            </a: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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zh-TW" sz="32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zh-TW" sz="32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zh-TW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p                 i</a:t>
            </a:r>
            <a:r>
              <a:rPr b="0" lang="zh-TW" sz="1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e.g.  A = {3, 6, 1,  9, 4, 11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partition: {3, 1, 9, 4} and {6, 11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3333cc"/>
                </a:solidFill>
                <a:latin typeface="Tahoma"/>
              </a:rPr>
              <a:t>&lt;Theorem&gt; sum of subsets </a:t>
            </a:r>
            <a:r>
              <a:rPr b="0" lang="zh-TW" sz="3400" spc="-1" strike="noStrike">
                <a:solidFill>
                  <a:srgbClr val="3333cc"/>
                </a:solidFill>
                <a:latin typeface="Symbol"/>
                <a:ea typeface="Symbol"/>
              </a:rPr>
              <a:t></a:t>
            </a:r>
            <a:r>
              <a:rPr b="0" lang="zh-TW" sz="3400" spc="-1" strike="noStrike">
                <a:solidFill>
                  <a:srgbClr val="3333cc"/>
                </a:solidFill>
                <a:latin typeface="Tahoma"/>
              </a:rPr>
              <a:t> partition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5F4C-F00D-4644-905F-1C3FD42EF11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n Packing Problem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0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n items, each of size c</a:t>
            </a:r>
            <a:r>
              <a:rPr b="0" lang="zh-TW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, c</a:t>
            </a:r>
            <a:r>
              <a:rPr b="0" lang="zh-TW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&gt; 0, a positive number k and bin capacity C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determine if we can assign the items into k bins such that the sum of c</a:t>
            </a:r>
            <a:r>
              <a:rPr b="0" lang="zh-TW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’s assigned to each bin does not exceed 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ahoma"/>
              </a:rPr>
              <a:t>&lt;Theorem&gt; partition </a:t>
            </a:r>
            <a:r>
              <a:rPr b="0" lang="zh-TW" sz="3200" spc="-1" strike="noStrike">
                <a:solidFill>
                  <a:srgbClr val="3333cc"/>
                </a:solidFill>
                <a:latin typeface="Symbol"/>
                <a:ea typeface="Symbol"/>
              </a:rPr>
              <a:t></a:t>
            </a:r>
            <a:r>
              <a:rPr b="0" lang="zh-TW" sz="3200" spc="-1" strike="noStrike">
                <a:solidFill>
                  <a:srgbClr val="3333cc"/>
                </a:solidFill>
                <a:latin typeface="Tahoma"/>
              </a:rPr>
              <a:t> bin packing.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DCFC-BFE3-49B6-A14E-FF1E6C629A7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VLSI Discrete Layout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Given:  n rectangles, each with height h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(integ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width w</a:t>
            </a:r>
            <a:r>
              <a:rPr b="0" lang="zh-TW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and an area A, determine if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is a </a:t>
            </a:r>
            <a:r>
              <a:rPr b="0" lang="zh-TW" sz="2400" spc="-1" strike="noStrike" u="sng">
                <a:solidFill>
                  <a:srgbClr val="ff0000"/>
                </a:solidFill>
                <a:uFillTx/>
                <a:latin typeface="Tahoma"/>
              </a:rPr>
              <a:t>placement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of the n rectangles within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according to the following ru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Boundaries of rectangles are parallel to x axis or y axi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Corners of rectangles lie on integer point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No two rectangles overla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Two rectangles are separated by at least a unit dist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zh-TW" sz="2000" spc="-1" strike="noStrike">
                <a:solidFill>
                  <a:srgbClr val="00cc00"/>
                </a:solidFill>
                <a:latin typeface="Tahoma"/>
              </a:rPr>
              <a:t>(See the figure on the next page.)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7899-442F-41CB-8FED-AF3B8964CBFE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01924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095880" cy="37879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676520" y="49528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uccessful Placemen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5715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&lt;Theorem&gt; bin packing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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VLSI discrete lay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DCD2-ACCA-41FA-B7EB-7234E8FFBF4A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determinis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ey do not exist and they would never exist in reality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ey are useful only because they will help us define a class of problems: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NP proble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63DA-4E2F-4612-8DE4-8A94A61591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617040"/>
            <a:ext cx="847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NP algorithm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the checking stage of a nondeterministic algorithm is of polynomial time-complexity, then this algorithm is called an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NP (nondeterministic polynomial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lgorithm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923B-0471-4944-AA18-135BD99E2A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NP problem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84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a decision problem can be solved by a NP algorithm, this problem is called a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NP (nondeterministic polynomial) proble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P problems : (must be decision problems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E359-792E-4C86-8796-9F64CF5927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617040"/>
            <a:ext cx="89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o express Nondeterministic Algorith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hoice(S) : arbitrarily chooses one of the elements in set 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ailure : an unsuccessful comple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uccess : a successful completion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23B1-20C5-46A8-8B09-DAB86C7F4B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06:26:59Z</dcterms:created>
  <dc:creator>cby</dc:creator>
  <dc:description/>
  <dc:language>en-US</dc:language>
  <cp:lastModifiedBy>Jiang</cp:lastModifiedBy>
  <dcterms:modified xsi:type="dcterms:W3CDTF">2006-11-27T15:03:51Z</dcterms:modified>
  <cp:revision>160</cp:revision>
  <dc:subject/>
  <dc:title>Chap 8 The Theory of NP-Completeness</dc:title>
</cp:coreProperties>
</file>