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whoosh.wav" ContentType="audio/x-wav"/>
  <Override PartName="/ppt/media/image4.wmf" ContentType="image/x-wmf"/>
  <Override PartName="/ppt/media/image10.png" ContentType="image/png"/>
  <Override PartName="/ppt/media/image5.wmf" ContentType="image/x-wmf"/>
  <Override PartName="/ppt/media/camera.wav" ContentType="audio/x-wav"/>
  <Override PartName="/ppt/media/image6.wmf" ContentType="image/x-wmf"/>
  <Override PartName="/ppt/media/image7.png" ContentType="image/png"/>
  <Override PartName="/ppt/media/image8.png" ContentType="image/png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E372-575D-4E1F-91B8-A5AA58A16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8819-7B8C-4F98-84B3-DBACAA538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7143-D6C1-4330-9EA5-67BA143E6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057D-0822-4CFE-B6D7-0D9ADC3EE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CC590-A956-45F2-A2ED-0B0BA1AB9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BF5DF-FF11-4B4E-BA84-99B3D6926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03F3C-408D-4E79-98BE-991A49C1E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8A20E-E341-4E59-BAF4-C5ABC309A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E94B8-BA43-4C4C-951B-11A374099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440" y="457200"/>
            <a:ext cx="77929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A2A4C-5754-42D1-9B57-D4536201D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057D2-F86E-417E-A978-D8D67EAF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1149-6259-424D-87F0-16070F7E6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ACA77-4649-48FD-91C3-4B15BED6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0C782-2357-4DF8-9FDE-A9838265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422E3-FFD9-4B69-9EC6-38D6392F2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7483D-E6AE-4E32-829B-B52DA0C04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52B54-601B-4C2E-B012-36EFD22A2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794B-9158-4759-B27D-3CFDBC9E8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B6FC-144C-400C-9D66-F9C183017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299E-6488-443E-90B9-3BB36834C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457200"/>
            <a:ext cx="77929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FF82-0DCE-46A3-9DD2-908DE070B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9084-2E04-481B-B858-C89ADA20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5869-F039-4351-AF4E-29C3B03F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B635-2A88-4970-BAEA-669CC015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e4a8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082B9-5A09-418F-9399-0564668C042F}" type="datetime">
              <a:rPr b="0" lang="zh-TW" sz="1400" spc="-1" strike="noStrike">
                <a:solidFill>
                  <a:srgbClr val="00e4a8"/>
                </a:solidFill>
                <a:latin typeface="Tahoma"/>
              </a:rPr>
              <a:t>115/0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09680" y="6324480"/>
            <a:ext cx="510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e4a8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e4a8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39B50-D242-4DB5-8584-453AE6FA017E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e4a8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956DB-9AAC-420B-A1F3-987B379A223D}" type="datetime">
              <a:rPr b="0" lang="zh-TW" sz="1400" spc="-1" strike="noStrike">
                <a:solidFill>
                  <a:srgbClr val="00e4a8"/>
                </a:solidFill>
                <a:latin typeface="Tahoma"/>
              </a:rPr>
              <a:t>115/0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437920" y="624852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e4a8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e4a8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e4a8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792E5-9BC2-4735-865F-518B3F35B44C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3640" y="293328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333399"/>
                </a:solidFill>
                <a:latin typeface="Tahoma"/>
              </a:rPr>
              <a:t>The Theory of</a:t>
            </a:r>
            <a:br>
              <a:rPr sz="6200"/>
            </a:br>
            <a:r>
              <a:rPr b="1" lang="en-US" sz="6200" spc="-1" strike="noStrike">
                <a:solidFill>
                  <a:srgbClr val="333399"/>
                </a:solidFill>
                <a:latin typeface="Tahoma"/>
              </a:rPr>
              <a:t> NP-Completeness</a:t>
            </a:r>
            <a:endParaRPr b="0" lang="en-US" sz="6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737A6-137A-4D8E-9870-768CFE4E343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617040"/>
            <a:ext cx="89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Nondeterministic searching Algorithm :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360" y="2017800"/>
            <a:ext cx="796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j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←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choice(1 : n)  </a:t>
            </a:r>
            <a:r>
              <a:rPr b="0" lang="zh-TW" sz="2400" spc="-1" strike="noStrike">
                <a:solidFill>
                  <a:srgbClr val="ff0000"/>
                </a:solidFill>
                <a:latin typeface="Tahoma"/>
              </a:rPr>
              <a:t>/* gu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if A(j) = x then success </a:t>
            </a:r>
            <a:r>
              <a:rPr b="0" lang="zh-TW" sz="2400" spc="-1" strike="noStrike">
                <a:solidFill>
                  <a:srgbClr val="ff0000"/>
                </a:solidFill>
                <a:latin typeface="Tahoma"/>
              </a:rPr>
              <a:t>/* che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else 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A </a:t>
            </a:r>
            <a:r>
              <a:rPr b="0" lang="zh-TW" sz="2400" spc="-1" strike="noStrike">
                <a:solidFill>
                  <a:srgbClr val="000000"/>
                </a:solidFill>
                <a:latin typeface="TimesNewRoman"/>
              </a:rPr>
              <a:t>nondeterministic algorithm terminates unsuccessfully iff there exist no set of choices leading to a success signal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NewRoman"/>
              </a:rPr>
              <a:t>The time required for choice(1 : n) is O(1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NewRoman"/>
              </a:rPr>
              <a:t>A deterministic interpretation of a non-deterministic algorithm can be made by allowing </a:t>
            </a:r>
            <a:r>
              <a:rPr b="0" lang="zh-TW" sz="2400" spc="-1" strike="noStrike">
                <a:solidFill>
                  <a:srgbClr val="ff0000"/>
                </a:solidFill>
                <a:latin typeface="TimesNewRoman"/>
              </a:rPr>
              <a:t>unbounded parallelism</a:t>
            </a:r>
            <a:r>
              <a:rPr b="0" lang="zh-TW" sz="2400" spc="-1" strike="noStrike">
                <a:solidFill>
                  <a:srgbClr val="000000"/>
                </a:solidFill>
                <a:latin typeface="TimesNewRoman"/>
              </a:rPr>
              <a:t> in computatio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92F1-2F40-4F94-8637-5503640B6E1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roblem Reduc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Problem A reduces to problem B (A</a:t>
            </a:r>
            <a:r>
              <a:rPr b="0" lang="zh-TW" sz="28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B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iff A can be solved by using any algorithm which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solves B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If A</a:t>
            </a:r>
            <a:r>
              <a:rPr b="0" lang="zh-TW" sz="24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B, B is more difficult (B is at least </a:t>
            </a:r>
            <a:r>
              <a:rPr b="0" lang="zh-TW" sz="2400" spc="-1" strike="noStrike">
                <a:solidFill>
                  <a:srgbClr val="ff0000"/>
                </a:solidFill>
                <a:latin typeface="Tahoma"/>
              </a:rPr>
              <a:t>as hard as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Note: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T(tr</a:t>
            </a:r>
            <a:r>
              <a:rPr b="0" lang="zh-TW" sz="28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) + T(tr</a:t>
            </a:r>
            <a:r>
              <a:rPr b="0" lang="zh-TW" sz="28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) &lt; T(B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T(A) </a:t>
            </a:r>
            <a:r>
              <a:rPr b="0" lang="zh-TW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 T(tr</a:t>
            </a:r>
            <a:r>
              <a:rPr b="0" lang="zh-TW" sz="28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) + T(tr</a:t>
            </a:r>
            <a:r>
              <a:rPr b="0" lang="zh-TW" sz="28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) + T(B) </a:t>
            </a:r>
            <a:r>
              <a:rPr b="0" lang="zh-TW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 O(T(B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974960" y="3882960"/>
          <a:ext cx="5868720" cy="177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4960" y="3882960"/>
                    <a:ext cx="5868720" cy="17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3352680" y="4221000"/>
            <a:ext cx="20574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246560"/>
            <a:ext cx="0" cy="838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429000" y="5157720"/>
            <a:ext cx="19051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56000" y="4487760"/>
            <a:ext cx="0" cy="3812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BA5D-41B6-4923-A92F-062E88BE684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10920" y="189000"/>
            <a:ext cx="79930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lynomial-time Redu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We want to solve a problem </a:t>
            </a:r>
            <a:r>
              <a:rPr b="1" i="1" lang="zh-TW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; we already have an algorithm for </a:t>
            </a:r>
            <a:r>
              <a:rPr b="1" i="1" lang="zh-TW" sz="32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We have a transformation function </a:t>
            </a:r>
            <a:r>
              <a:rPr b="0" i="1" lang="zh-TW" sz="32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Correct answer for </a:t>
            </a:r>
            <a:r>
              <a:rPr b="1" i="1" lang="zh-TW" sz="28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 on </a:t>
            </a:r>
            <a:r>
              <a:rPr b="0" i="1" lang="zh-TW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 is “yes”, iff the correct answer for </a:t>
            </a:r>
            <a:r>
              <a:rPr b="1" i="1" lang="zh-TW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 on </a:t>
            </a:r>
            <a:r>
              <a:rPr b="0" i="1" lang="zh-TW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zh-TW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) is “ye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Problem </a:t>
            </a:r>
            <a:r>
              <a:rPr b="1" i="1" lang="zh-TW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0" i="1" lang="zh-TW" sz="3200" spc="-1" strike="noStrike">
                <a:solidFill>
                  <a:srgbClr val="3333ff"/>
                </a:solidFill>
                <a:latin typeface="Tahoma"/>
              </a:rPr>
              <a:t>polynomially reducible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1" i="1" lang="zh-TW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 if such a transformation </a:t>
            </a:r>
            <a:r>
              <a:rPr b="0" i="1" lang="zh-TW" sz="3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 can be computed in polynomial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The point of reducibility: </a:t>
            </a:r>
            <a:r>
              <a:rPr b="1" i="1" lang="zh-TW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 is at least as hard to solve as </a:t>
            </a:r>
            <a:r>
              <a:rPr b="1" i="1" lang="zh-TW" sz="32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2C17-B416-4D40-B791-C5AB62DDEA1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lynomial-time Redu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We use </a:t>
            </a:r>
            <a:r>
              <a:rPr b="0" i="1" lang="zh-TW" sz="2800" spc="-1" strike="noStrike">
                <a:solidFill>
                  <a:srgbClr val="3333ff"/>
                </a:solidFill>
                <a:latin typeface="Tahoma"/>
              </a:rPr>
              <a:t>reductions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 (or </a:t>
            </a:r>
            <a:r>
              <a:rPr b="0" i="1" lang="zh-TW" sz="2800" spc="-1" strike="noStrike">
                <a:solidFill>
                  <a:srgbClr val="3333ff"/>
                </a:solidFill>
                <a:latin typeface="Tahoma"/>
              </a:rPr>
              <a:t>transformations) 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to prove that a problem is </a:t>
            </a:r>
            <a:r>
              <a:rPr b="1" lang="zh-TW" sz="2800" spc="-1" strike="noStrike">
                <a:solidFill>
                  <a:srgbClr val="000000"/>
                </a:solidFill>
                <a:latin typeface="Garamond"/>
              </a:rPr>
              <a:t>NP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-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 is an input for </a:t>
            </a:r>
            <a:r>
              <a:rPr b="1" i="1" lang="zh-TW" sz="28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; </a:t>
            </a:r>
            <a:r>
              <a:rPr b="0" i="1" lang="zh-TW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zh-TW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) is an input for </a:t>
            </a:r>
            <a:r>
              <a:rPr b="1" i="1" lang="zh-TW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(R </a:t>
            </a:r>
            <a:r>
              <a:rPr b="0" lang="zh-TW" sz="28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 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2133720" y="3505320"/>
            <a:ext cx="685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3429000"/>
            <a:ext cx="2590920" cy="762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orithm f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19520" y="38098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76720" y="33526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162920" y="3809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391520" y="380988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s or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38098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47920" y="2895480"/>
            <a:ext cx="586728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00400" y="48006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orithm f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0F4A-B183-4D5C-AC84-83632127406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NPC and NP-hard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 problem A is 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NP-hard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if every NP problem reduces to A.</a:t>
            </a:r>
            <a:r>
              <a:rPr b="0" lang="en-US" sz="4400" spc="-1" strike="noStrike">
                <a:solidFill>
                  <a:srgbClr val="000000"/>
                </a:solidFill>
                <a:latin typeface="SymbolM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 problem A is 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NP-complete (NPC)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 if A</a:t>
            </a:r>
            <a:r>
              <a:rPr b="0" lang="en-US" sz="4400" spc="-1" strike="noStrike">
                <a:solidFill>
                  <a:srgbClr val="000000"/>
                </a:solidFill>
                <a:latin typeface="SymbolMT"/>
                <a:ea typeface="SymbolMT"/>
              </a:rPr>
              <a:t>∈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NP and every NP problem reduces to A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Or we can say a problem A is 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NPC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if A</a:t>
            </a:r>
            <a:r>
              <a:rPr b="0" lang="en-US" sz="4000" spc="-1" strike="noStrike">
                <a:solidFill>
                  <a:srgbClr val="000000"/>
                </a:solidFill>
                <a:latin typeface="SymbolMT"/>
                <a:ea typeface="SymbolMT"/>
              </a:rPr>
              <a:t>∈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NP and A is NP-hard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6CB2-E5B6-4932-8318-BC6DC164852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Garamond"/>
              </a:rPr>
              <a:t>NP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-Completen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i="1" lang="en-US" sz="3200" spc="-1" strike="noStrike">
                <a:solidFill>
                  <a:srgbClr val="009900"/>
                </a:solidFill>
                <a:latin typeface="Garamond"/>
              </a:rPr>
              <a:t>NP</a:t>
            </a:r>
            <a:r>
              <a:rPr b="0" i="1" lang="en-US" sz="3200" spc="-1" strike="noStrike">
                <a:solidFill>
                  <a:srgbClr val="009900"/>
                </a:solidFill>
                <a:latin typeface="Tahoma"/>
              </a:rPr>
              <a:t>-complete problem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”: the hardest problems in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N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esting prope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ny </a:t>
            </a:r>
            <a:r>
              <a:rPr b="0" i="1" lang="en-US" sz="2800" spc="-1" strike="noStrike">
                <a:solidFill>
                  <a:srgbClr val="3333ff"/>
                </a:solidFill>
                <a:latin typeface="Tahoma"/>
              </a:rPr>
              <a:t>on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complete problem can be solved in polynomial time, then </a:t>
            </a:r>
            <a:r>
              <a:rPr b="0" i="1" lang="en-US" sz="2800" spc="-1" strike="noStrike">
                <a:solidFill>
                  <a:srgbClr val="3333ff"/>
                </a:solidFill>
                <a:latin typeface="Tahoma"/>
              </a:rPr>
              <a:t>ever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blem in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N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solved similarly (i.e., P=N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believe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≠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N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6D16-B5D3-4BEE-9DF6-24FA7E0B2EC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mportance of </a:t>
            </a:r>
            <a:r>
              <a:rPr b="1" lang="en-US" sz="4000" spc="-1" strike="noStrike">
                <a:solidFill>
                  <a:srgbClr val="333399"/>
                </a:solidFill>
                <a:latin typeface="Garamond"/>
              </a:rPr>
              <a:t>NP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-Completenes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55640" y="1700280"/>
            <a:ext cx="770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complete problems: considered “intractabl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rtant for algorithm designers &amp; engine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se you have a problem to sol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r colleagues have spent a lot of time to solve it exactly but in v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whether you can prove that it is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yes, then spend your time developing an </a:t>
            </a:r>
            <a:r>
              <a:rPr b="0" i="1" lang="en-US" sz="2400" spc="-1" strike="noStrike">
                <a:solidFill>
                  <a:srgbClr val="3333ff"/>
                </a:solidFill>
                <a:latin typeface="Tahoma"/>
              </a:rPr>
              <a:t>approximation </a:t>
            </a: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3333ff"/>
                </a:solidFill>
                <a:latin typeface="Tahoma"/>
              </a:rPr>
              <a:t>heuristic</a:t>
            </a: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)</a:t>
            </a:r>
            <a:r>
              <a:rPr b="0" i="1" lang="en-US" sz="2400" spc="-1" strike="noStrike">
                <a:solidFill>
                  <a:srgbClr val="3333ff"/>
                </a:solidFill>
                <a:latin typeface="Tahoma"/>
              </a:rPr>
              <a:t>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natural problems can be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8D9D-8862-4F51-80F9-0EEC331DADA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47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lationship Between </a:t>
            </a:r>
            <a:r>
              <a:rPr b="1" lang="en-US" sz="4400" spc="-1" strike="noStrike">
                <a:solidFill>
                  <a:srgbClr val="333399"/>
                </a:solidFill>
                <a:latin typeface="Garamond"/>
              </a:rPr>
              <a:t>NP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1" lang="en-US" sz="4400" spc="-1" strike="noStrike">
                <a:solidFill>
                  <a:srgbClr val="333399"/>
                </a:solidFill>
                <a:latin typeface="Garamond"/>
              </a:rPr>
              <a:t>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It is not known whether </a:t>
            </a:r>
            <a:r>
              <a:rPr b="1" lang="zh-TW" sz="32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zh-TW" sz="3200" spc="-1" strike="noStrike">
                <a:solidFill>
                  <a:srgbClr val="000000"/>
                </a:solidFill>
                <a:latin typeface="Garamond"/>
              </a:rPr>
              <a:t>NP 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or whether </a:t>
            </a:r>
            <a:r>
              <a:rPr b="1" lang="zh-TW" sz="32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 is a proper subset of </a:t>
            </a:r>
            <a:r>
              <a:rPr b="1" lang="zh-TW" sz="3200" spc="-1" strike="noStrike">
                <a:solidFill>
                  <a:srgbClr val="000000"/>
                </a:solidFill>
                <a:latin typeface="Garamond"/>
              </a:rPr>
              <a:t>N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It is believed </a:t>
            </a:r>
            <a:r>
              <a:rPr b="1" lang="zh-TW" sz="3200" spc="-1" strike="noStrike">
                <a:solidFill>
                  <a:srgbClr val="000000"/>
                </a:solidFill>
                <a:latin typeface="Garamond"/>
              </a:rPr>
              <a:t>NP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 is much larger than </a:t>
            </a:r>
            <a:r>
              <a:rPr b="1" lang="zh-TW" sz="3200" spc="-1" strike="noStrike">
                <a:solidFill>
                  <a:srgbClr val="000000"/>
                </a:solidFill>
                <a:latin typeface="Garamond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70560" indent="-522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But no problem in </a:t>
            </a:r>
            <a:r>
              <a:rPr b="1" lang="zh-TW" sz="2800" spc="-1" strike="noStrike">
                <a:solidFill>
                  <a:srgbClr val="000000"/>
                </a:solidFill>
                <a:latin typeface="Garamond"/>
              </a:rPr>
              <a:t>NP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 has been proved as not in </a:t>
            </a:r>
            <a:r>
              <a:rPr b="1" lang="zh-TW" sz="2800" spc="-1" strike="noStrike">
                <a:solidFill>
                  <a:srgbClr val="000000"/>
                </a:solidFill>
                <a:latin typeface="Garamond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70560" indent="-522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No known deterministic algorithms that are polynomially bounded for many problems in </a:t>
            </a:r>
            <a:r>
              <a:rPr b="1" lang="zh-TW" sz="2800" spc="-1" strike="noStrike">
                <a:solidFill>
                  <a:srgbClr val="000000"/>
                </a:solidFill>
                <a:latin typeface="Garamond"/>
              </a:rPr>
              <a:t>N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70560" indent="-522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0000"/>
                </a:solidFill>
                <a:latin typeface="Tahoma"/>
              </a:rPr>
              <a:t>So, “does </a:t>
            </a:r>
            <a:r>
              <a:rPr b="1" lang="zh-TW" sz="2800" spc="-1" strike="noStrike">
                <a:solidFill>
                  <a:srgbClr val="ff0000"/>
                </a:solidFill>
                <a:latin typeface="Garamond"/>
              </a:rPr>
              <a:t>P</a:t>
            </a:r>
            <a:r>
              <a:rPr b="0" lang="zh-TW" sz="2800" spc="-1" strike="noStrike">
                <a:solidFill>
                  <a:srgbClr val="ff0000"/>
                </a:solidFill>
                <a:latin typeface="Tahoma"/>
              </a:rPr>
              <a:t> = </a:t>
            </a:r>
            <a:r>
              <a:rPr b="1" lang="zh-TW" sz="2800" spc="-1" strike="noStrike">
                <a:solidFill>
                  <a:srgbClr val="ff0000"/>
                </a:solidFill>
                <a:latin typeface="Garamond"/>
              </a:rPr>
              <a:t>NP</a:t>
            </a:r>
            <a:r>
              <a:rPr b="0" lang="zh-TW" sz="2800" spc="-1" strike="noStrike">
                <a:solidFill>
                  <a:srgbClr val="ff0000"/>
                </a:solidFill>
                <a:latin typeface="Tahoma"/>
              </a:rPr>
              <a:t>?” is still an open question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72EC-0EF7-4A01-8D92-5BF5229E7A2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ok’s theorem (197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TW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4000" spc="-1" strike="noStrike">
                <a:solidFill>
                  <a:srgbClr val="ff0000"/>
                </a:solidFill>
                <a:latin typeface="Tahoma"/>
              </a:rPr>
              <a:t>NP = P iff SAT</a:t>
            </a:r>
            <a:r>
              <a:rPr b="0" lang="zh-TW" sz="40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zh-TW" sz="4000" spc="-1" strike="noStrike">
                <a:solidFill>
                  <a:srgbClr val="ff0000"/>
                </a:solidFill>
                <a:latin typeface="Tahoma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NewRoman"/>
              </a:rPr>
              <a:t>SAT (</a:t>
            </a:r>
            <a:r>
              <a:rPr b="0" lang="zh-TW" sz="4000" spc="-1" strike="noStrike">
                <a:solidFill>
                  <a:srgbClr val="ff0000"/>
                </a:solidFill>
                <a:latin typeface="Tahoma"/>
              </a:rPr>
              <a:t>the satisfiability problem</a:t>
            </a:r>
            <a:r>
              <a:rPr b="0" lang="zh-TW" sz="4000" spc="-1" strike="noStrike">
                <a:solidFill>
                  <a:srgbClr val="000000"/>
                </a:solidFill>
                <a:latin typeface="TimesNewRoman"/>
              </a:rPr>
              <a:t>) is NP-complet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NewRoman"/>
              </a:rPr>
              <a:t>It is the first NP-complete problem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NewRoman"/>
              </a:rPr>
              <a:t>Every NP problem reduces to S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3973-8153-4D2C-9FC7-CFFBE387AAF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AT is NP-comple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Every NP problem can be solved by an NP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Every NP algorithm can be transformed in </a:t>
            </a:r>
            <a:r>
              <a:rPr b="0" lang="zh-TW" sz="2800" spc="-1" strike="noStrike">
                <a:solidFill>
                  <a:srgbClr val="ff0000"/>
                </a:solidFill>
                <a:latin typeface="Tahoma"/>
              </a:rPr>
              <a:t>polynomial time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 to an SAT problem (a Boolean formula 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Such that the SAT problem is satisfiable iff the answer for the original NP problem is “ye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That is, every NP problem </a:t>
            </a:r>
            <a:r>
              <a:rPr b="0" lang="zh-TW" sz="28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 S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SAT is NP-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0BD7-1609-44A5-A1C0-7F13AFD6416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333360"/>
            <a:ext cx="8424720" cy="37432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67000" y="47304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06560" y="1631880"/>
            <a:ext cx="1944720" cy="15843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291280" y="1415880"/>
            <a:ext cx="2376360" cy="136692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NP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9258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P: Non-deterministic Polynom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5502240"/>
            <a:ext cx="73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: Polynom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6078600"/>
            <a:ext cx="86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PC: Non-deterministic Polynomial Comp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26320" y="4365720"/>
            <a:ext cx="95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P=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63560" y="4365720"/>
            <a:ext cx="3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80720" y="21337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885200" y="549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36280" y="2060640"/>
            <a:ext cx="49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6F0D-822F-41D2-998F-D4E1D6504F78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2847 0.02084 E">
                                      <p:cBhvr>
                                        <p:cTn id="63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" dur="1000" fill="hold"/>
                                        <p:tgtEl>
                                          <p:spTgt spid="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e4a8"/>
                                      </p:to>
                                    </p:animClr>
                                    <p:set>
                                      <p:cBhvr>
                                        <p:cTn id="7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611 0.02107 L 0.28681 -0.24005 E">
                                      <p:cBhvr>
                                        <p:cTn id="82" dur="1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09120" y="1143000"/>
            <a:ext cx="811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Definition of the </a:t>
            </a:r>
            <a:r>
              <a:rPr b="0" lang="zh-TW" sz="3200" spc="-1" strike="noStrike" u="sng">
                <a:solidFill>
                  <a:srgbClr val="ff0000"/>
                </a:solidFill>
                <a:uFillTx/>
                <a:latin typeface="Tahoma"/>
              </a:rPr>
              <a:t>satisfiability problem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: Given a Boolean formula, determine whether this formula is satisfiable or no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just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zh-TW" sz="3200" spc="-1" strike="noStrike" u="sng">
                <a:solidFill>
                  <a:srgbClr val="ff0000"/>
                </a:solidFill>
                <a:uFillTx/>
                <a:latin typeface="Tahoma"/>
              </a:rPr>
              <a:t>literal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: x</a:t>
            </a:r>
            <a:r>
              <a:rPr b="0" lang="zh-TW" sz="32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 or -x</a:t>
            </a:r>
            <a:r>
              <a:rPr b="0" lang="zh-TW" sz="32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just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zh-TW" sz="3200" spc="-1" strike="noStrike" u="sng">
                <a:solidFill>
                  <a:srgbClr val="ff0000"/>
                </a:solidFill>
                <a:uFillTx/>
                <a:latin typeface="Tahoma"/>
              </a:rPr>
              <a:t>clause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: x</a:t>
            </a:r>
            <a:r>
              <a:rPr b="0" lang="zh-TW" sz="32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 v x</a:t>
            </a:r>
            <a:r>
              <a:rPr b="0" lang="zh-TW" sz="3200" spc="-1" strike="noStrike" baseline="-30000">
                <a:solidFill>
                  <a:srgbClr val="000000"/>
                </a:solidFill>
                <a:latin typeface="Tahoma"/>
              </a:rPr>
              <a:t>2 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v -x</a:t>
            </a:r>
            <a:r>
              <a:rPr b="0" lang="zh-TW" sz="32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zh-TW" sz="3200" spc="-1" strike="noStrike" baseline="-30000">
                <a:solidFill>
                  <a:srgbClr val="000000"/>
                </a:solidFill>
                <a:latin typeface="Tahoma"/>
              </a:rPr>
              <a:t>i 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just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zh-TW" sz="3200" spc="-1" strike="noStrike" u="sng">
                <a:solidFill>
                  <a:srgbClr val="ff0000"/>
                </a:solidFill>
                <a:uFillTx/>
                <a:latin typeface="Tahoma"/>
              </a:rPr>
              <a:t>formula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: conjunctive normal for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zh-TW" sz="32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&amp; C</a:t>
            </a:r>
            <a:r>
              <a:rPr b="0" lang="zh-TW" sz="3200" spc="-1" strike="noStrike" baseline="-30000">
                <a:solidFill>
                  <a:srgbClr val="000000"/>
                </a:solidFill>
                <a:latin typeface="Tahoma"/>
              </a:rPr>
              <a:t>2 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&amp;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 &amp; C</a:t>
            </a:r>
            <a:r>
              <a:rPr b="0" lang="zh-TW" sz="3200" spc="-1" strike="noStrike" baseline="-30000">
                <a:solidFill>
                  <a:srgbClr val="000000"/>
                </a:solidFill>
                <a:latin typeface="Tahoma"/>
              </a:rPr>
              <a:t>m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87D1-CABA-4497-8E05-0CF79DEA7D8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6933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The Satisfiability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zh-TW" sz="2800" spc="-1" strike="noStrike" u="sng">
                <a:solidFill>
                  <a:srgbClr val="ff0000"/>
                </a:solidFill>
                <a:uFillTx/>
                <a:latin typeface="Tahoma"/>
              </a:rPr>
              <a:t>satisfiability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A logical formul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v x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2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v x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&amp; - x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&amp; - x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the assignment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zh-TW" sz="2800" spc="-1" strike="noStrike" baseline="-30000">
                <a:solidFill>
                  <a:srgbClr val="000000"/>
                </a:solidFill>
                <a:latin typeface="Tahoma"/>
              </a:rPr>
              <a:t>1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←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 F , x</a:t>
            </a:r>
            <a:r>
              <a:rPr b="0" lang="zh-TW" sz="2800" spc="-1" strike="noStrike" baseline="-30000">
                <a:solidFill>
                  <a:srgbClr val="000000"/>
                </a:solidFill>
                <a:latin typeface="Tahoma"/>
              </a:rPr>
              <a:t>2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←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 F , x</a:t>
            </a:r>
            <a:r>
              <a:rPr b="0" lang="zh-TW" sz="2800" spc="-1" strike="noStrike" baseline="-30000">
                <a:solidFill>
                  <a:srgbClr val="000000"/>
                </a:solidFill>
                <a:latin typeface="Tahoma"/>
              </a:rPr>
              <a:t>3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←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 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will make the above formula tr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(-x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, -x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, x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) represents  x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1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←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F , x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2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←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F , x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3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←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6F40-6D56-4935-8CDD-1404FD6761B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76212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If there is </a:t>
            </a:r>
            <a:r>
              <a:rPr b="0" lang="zh-TW" sz="2800" spc="-1" strike="noStrike" u="sng">
                <a:solidFill>
                  <a:srgbClr val="ff0000"/>
                </a:solidFill>
                <a:uFillTx/>
                <a:latin typeface="Tahoma"/>
              </a:rPr>
              <a:t>at least one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 assignment which satisfies a formula, then we say that this formula is </a:t>
            </a:r>
            <a:r>
              <a:rPr b="0" lang="zh-TW" sz="2800" spc="-1" strike="noStrike" u="sng">
                <a:solidFill>
                  <a:srgbClr val="ff0000"/>
                </a:solidFill>
                <a:uFillTx/>
                <a:latin typeface="Tahoma"/>
              </a:rPr>
              <a:t>satisfiable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; otherwise, it is </a:t>
            </a:r>
            <a:r>
              <a:rPr b="0" lang="zh-TW" sz="2800" spc="-1" strike="noStrike" u="sng">
                <a:solidFill>
                  <a:srgbClr val="ff0000"/>
                </a:solidFill>
                <a:uFillTx/>
                <a:latin typeface="Tahoma"/>
              </a:rPr>
              <a:t>unsatisfiable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An unsatisfiable formul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v x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&amp; x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v -x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&amp; -x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v x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&amp; -x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v -x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413D-F912-4850-A1B6-2EEC351FB5A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Resolution principl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: -x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v -x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2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v x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: x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v x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4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: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-x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v x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3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v x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4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zh-TW" sz="2400" spc="-1" strike="noStrike">
                <a:solidFill>
                  <a:srgbClr val="ff0000"/>
                </a:solidFill>
                <a:latin typeface="Tahoma"/>
              </a:rPr>
              <a:t>resolvent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If no new clauses can be deduc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satisf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-x</a:t>
            </a:r>
            <a:r>
              <a:rPr b="0" lang="zh-TW" sz="20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  v  -x</a:t>
            </a:r>
            <a:r>
              <a:rPr b="0" lang="zh-TW" sz="2000" spc="-1" strike="noStrike" baseline="-30000">
                <a:solidFill>
                  <a:srgbClr val="000000"/>
                </a:solidFill>
                <a:latin typeface="Tahoma"/>
              </a:rPr>
              <a:t>2 </a:t>
            </a: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 v  x</a:t>
            </a:r>
            <a:r>
              <a:rPr b="0" lang="zh-TW" sz="20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              (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zh-TW" sz="20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                               (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zh-TW" sz="20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                               (3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(1) &amp; (2)         -x</a:t>
            </a:r>
            <a:r>
              <a:rPr b="0" lang="zh-TW" sz="2000" spc="-1" strike="noStrike" baseline="-30000">
                <a:solidFill>
                  <a:srgbClr val="000000"/>
                </a:solidFill>
                <a:latin typeface="Tahoma"/>
              </a:rPr>
              <a:t>2 </a:t>
            </a: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 v  x</a:t>
            </a:r>
            <a:r>
              <a:rPr b="0" lang="zh-TW" sz="20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            (4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(4) &amp; (3)         x</a:t>
            </a:r>
            <a:r>
              <a:rPr b="0" lang="zh-TW" sz="20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                     (5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(1) &amp; (3)         -x</a:t>
            </a:r>
            <a:r>
              <a:rPr b="0" lang="zh-TW" sz="20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  v  x</a:t>
            </a:r>
            <a:r>
              <a:rPr b="0" lang="zh-TW" sz="20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            (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The satisfiability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31EC-289E-4A27-BD1C-19E82D71C40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The satisfiability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If an empty clause is deduc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unsatisf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- x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v  -x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2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v  x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               (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v  -x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                        (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2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                                (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- x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                                (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       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zh-TW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dedu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   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(1) &amp; (2)         -x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v  x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   (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(4) &amp; (5)         -x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           (6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(6) &amp; (3)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□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            (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71E8-BF3B-4689-AFD1-D383784D8E7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ndeterministic SAT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Guessing      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for i = 1 to n d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   </a:t>
            </a: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x</a:t>
            </a:r>
            <a:r>
              <a:rPr b="0" lang="zh-TW" sz="2800" spc="-1" strike="noStrike" baseline="-25000">
                <a:solidFill>
                  <a:srgbClr val="000000"/>
                </a:solidFill>
                <a:latin typeface="TimesNewRoman"/>
              </a:rPr>
              <a:t>i</a:t>
            </a: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← </a:t>
            </a: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choice( true, false 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if E(x</a:t>
            </a:r>
            <a:r>
              <a:rPr b="0" lang="zh-TW" sz="2800" spc="-1" strike="noStrike" baseline="-25000">
                <a:solidFill>
                  <a:srgbClr val="000000"/>
                </a:solidFill>
                <a:latin typeface="TimesNewRoman"/>
              </a:rPr>
              <a:t>1</a:t>
            </a: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, x</a:t>
            </a:r>
            <a:r>
              <a:rPr b="0" lang="zh-TW" sz="2800" spc="-1" strike="noStrike" baseline="-25000">
                <a:solidFill>
                  <a:srgbClr val="000000"/>
                </a:solidFill>
                <a:latin typeface="TimesNewRoman"/>
              </a:rPr>
              <a:t>2</a:t>
            </a: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, 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… ,</a:t>
            </a: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x</a:t>
            </a:r>
            <a:r>
              <a:rPr b="0" lang="zh-TW" sz="2800" spc="-1" strike="noStrike" baseline="-25000">
                <a:solidFill>
                  <a:srgbClr val="000000"/>
                </a:solidFill>
                <a:latin typeface="TimesNewRoman"/>
              </a:rPr>
              <a:t>n</a:t>
            </a: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) is tru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Checking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then su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else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2766960" y="1989000"/>
            <a:ext cx="597960" cy="685080"/>
            <a:chOff x="2766960" y="1989000"/>
            <a:chExt cx="597960" cy="685080"/>
          </a:xfrm>
        </p:grpSpPr>
        <p:sp>
          <p:nvSpPr>
            <p:cNvPr id="167" name=""/>
            <p:cNvSpPr/>
            <p:nvPr/>
          </p:nvSpPr>
          <p:spPr>
            <a:xfrm flipH="1" flipV="1">
              <a:off x="3066120" y="2560320"/>
              <a:ext cx="298800" cy="11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66120" y="2388960"/>
              <a:ext cx="1080" cy="230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766960" y="2331720"/>
              <a:ext cx="298800" cy="11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2766960" y="2217240"/>
              <a:ext cx="298800" cy="11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066120" y="2045880"/>
              <a:ext cx="1080" cy="230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3066120" y="1989000"/>
              <a:ext cx="298800" cy="11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2983680" y="3284640"/>
            <a:ext cx="303480" cy="1142280"/>
            <a:chOff x="2983680" y="3284640"/>
            <a:chExt cx="303480" cy="1142280"/>
          </a:xfrm>
        </p:grpSpPr>
        <p:sp>
          <p:nvSpPr>
            <p:cNvPr id="174" name=""/>
            <p:cNvSpPr/>
            <p:nvPr/>
          </p:nvSpPr>
          <p:spPr>
            <a:xfrm flipH="1" flipV="1">
              <a:off x="3135240" y="4236120"/>
              <a:ext cx="151920" cy="1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135240" y="3950640"/>
              <a:ext cx="360" cy="382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983680" y="3856320"/>
              <a:ext cx="151200" cy="1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2983680" y="3664440"/>
              <a:ext cx="151200" cy="1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35240" y="3380040"/>
              <a:ext cx="360" cy="382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3135240" y="3284640"/>
              <a:ext cx="151920" cy="1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F1D8-56BD-4B8D-88CF-689F0E71B09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8134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NewRoman"/>
              </a:rPr>
              <a:t>Transforming Searching to SAT 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NewRoman"/>
              </a:rPr>
              <a:t>Does there exist a number in { x(1), x(2), …,  x(n) }, which is equal to 7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NewRoman"/>
              </a:rPr>
              <a:t>Assume n = 2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219320" y="3886200"/>
            <a:ext cx="7010280" cy="146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C031-4D91-4B6C-9DEF-FAAE7B8D539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NewRoman"/>
              </a:rPr>
              <a:t>Transforming Search to SAT 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NewRoman"/>
              </a:rPr>
              <a:t>Does there exist a number in { x(1), x(2), …, x(n) }, which is equal to 7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NewRoman"/>
              </a:rPr>
              <a:t>Assume n = 2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New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NewRoman"/>
              </a:rPr>
              <a:t>nondeterministic algorithm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1219320" y="4038480"/>
            <a:ext cx="4643280" cy="2552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New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NewRoman"/>
              </a:rPr>
              <a:t>i = choice(1,2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New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NewRoman"/>
              </a:rPr>
              <a:t>if x(i)=7 then     </a:t>
            </a:r>
            <a:r>
              <a:rPr b="0" lang="en-US" sz="32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NewRoman"/>
              </a:rPr>
              <a:t>SU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New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NewRoman"/>
              </a:rPr>
              <a:t>else   </a:t>
            </a:r>
            <a:r>
              <a:rPr b="0" lang="en-US" sz="32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NewRoman"/>
              </a:rPr>
              <a:t>FAIL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1157-E856-4A7A-9D04-3B8897770EB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i=1 v i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&amp; i=1 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MT"/>
                <a:ea typeface="SymbolMT"/>
              </a:rPr>
              <a:t>≠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&amp; i=2 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MT"/>
                <a:ea typeface="SymbolMT"/>
              </a:rPr>
              <a:t>≠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1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&amp; x(1)=7 &amp; i=1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SUCC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&amp; x(2)=7 &amp; i=2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SUCC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&amp; x(1)</a:t>
            </a:r>
            <a:r>
              <a:rPr b="0" lang="en-US" sz="2800" spc="-1" strike="noStrike">
                <a:solidFill>
                  <a:srgbClr val="000000"/>
                </a:solidFill>
                <a:latin typeface="SymbolMT"/>
                <a:ea typeface="SymbolMT"/>
              </a:rPr>
              <a:t>≠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7 &amp; i=1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FAILU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&amp; x(2)</a:t>
            </a:r>
            <a:r>
              <a:rPr b="0" lang="en-US" sz="2800" spc="-1" strike="noStrike">
                <a:solidFill>
                  <a:srgbClr val="000000"/>
                </a:solidFill>
                <a:latin typeface="SymbolMT"/>
                <a:ea typeface="SymbolMT"/>
              </a:rPr>
              <a:t>≠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7 &amp; i=2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FAILU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&amp; FAILURE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-SUCC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&amp; SUCCESS   (Guarantees a successful terminatio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&amp; x(1)=7    (Input data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&amp; x(2)</a:t>
            </a:r>
            <a:r>
              <a:rPr b="0" lang="en-US" sz="2800" spc="-1" strike="noStrike">
                <a:solidFill>
                  <a:srgbClr val="000000"/>
                </a:solidFill>
                <a:latin typeface="SymbolMT"/>
                <a:ea typeface="SymbolMT"/>
              </a:rPr>
              <a:t>≠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2363-B1DB-4CB0-AB6B-4D53C689E0B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NewRoman"/>
              </a:rPr>
              <a:t>CNF (conjunctive normal form)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i=1 v i=2 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(1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MT"/>
                <a:ea typeface="SymbolMT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1 v i</a:t>
            </a:r>
            <a:r>
              <a:rPr b="0" lang="en-US" sz="2400" spc="-1" strike="noStrike">
                <a:solidFill>
                  <a:srgbClr val="000000"/>
                </a:solidFill>
                <a:latin typeface="SymbolMT"/>
                <a:ea typeface="SymbolMT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(2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x(1)</a:t>
            </a:r>
            <a:r>
              <a:rPr b="0" lang="en-US" sz="2400" spc="-1" strike="noStrike">
                <a:solidFill>
                  <a:srgbClr val="000000"/>
                </a:solidFill>
                <a:latin typeface="SymbolMT"/>
                <a:ea typeface="SymbolMT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7 v i</a:t>
            </a:r>
            <a:r>
              <a:rPr b="0" lang="en-US" sz="2400" spc="-1" strike="noStrike">
                <a:solidFill>
                  <a:srgbClr val="000000"/>
                </a:solidFill>
                <a:latin typeface="SymbolMT"/>
                <a:ea typeface="SymbolMT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1 v SUCCESS 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(3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x(2)</a:t>
            </a:r>
            <a:r>
              <a:rPr b="0" lang="en-US" sz="2400" spc="-1" strike="noStrike">
                <a:solidFill>
                  <a:srgbClr val="000000"/>
                </a:solidFill>
                <a:latin typeface="SymbolMT"/>
                <a:ea typeface="SymbolMT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7 v i</a:t>
            </a:r>
            <a:r>
              <a:rPr b="0" lang="en-US" sz="2400" spc="-1" strike="noStrike">
                <a:solidFill>
                  <a:srgbClr val="000000"/>
                </a:solidFill>
                <a:latin typeface="SymbolMT"/>
                <a:ea typeface="SymbolMT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2 v SUCCESS 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(4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x(1)=7 v i</a:t>
            </a:r>
            <a:r>
              <a:rPr b="0" lang="en-US" sz="2400" spc="-1" strike="noStrike">
                <a:solidFill>
                  <a:srgbClr val="000000"/>
                </a:solidFill>
                <a:latin typeface="SymbolMT"/>
                <a:ea typeface="SymbolMT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1 v FAILURE 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(5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x(2)=7 v i</a:t>
            </a:r>
            <a:r>
              <a:rPr b="0" lang="en-US" sz="2400" spc="-1" strike="noStrike">
                <a:solidFill>
                  <a:srgbClr val="000000"/>
                </a:solidFill>
                <a:latin typeface="SymbolMT"/>
                <a:ea typeface="SymbolMT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2 v FAILURE 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(6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-FAILURE v -SUCCESS 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(7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SUCCESS 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(8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x(1)=7 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(9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x(2)</a:t>
            </a:r>
            <a:r>
              <a:rPr b="0" lang="en-US" sz="2400" spc="-1" strike="noStrike">
                <a:solidFill>
                  <a:srgbClr val="000000"/>
                </a:solidFill>
                <a:latin typeface="SymbolMT"/>
                <a:ea typeface="SymbolMT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7 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(10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68B1-5363-4923-B5C1-0B0A820545E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6840" y="25146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the class of problems which can be solved by a deterministic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lynomial algorith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N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the class of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decision proble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hich can be solved by a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-deterministic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lynomial algorith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NP-har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the class of problems to which every NP problem redu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NP-complete (NPC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the class of problems which are NP-hard and belong to NP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278136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86000" y="304920"/>
            <a:ext cx="4038480" cy="2030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4976-A10C-4011-B1F9-92D17205D3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685800" y="404280"/>
            <a:ext cx="7772400" cy="538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NewRoman"/>
              </a:rPr>
              <a:t>Satisfiable with the following assignment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i=1 </a:t>
            </a: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satisfying </a:t>
            </a: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(1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i</a:t>
            </a:r>
            <a:r>
              <a:rPr b="0" lang="zh-TW" sz="2800" spc="-1" strike="noStrike">
                <a:solidFill>
                  <a:srgbClr val="000000"/>
                </a:solidFill>
                <a:latin typeface="SymbolMT"/>
                <a:ea typeface="SymbolMT"/>
              </a:rPr>
              <a:t>≠</a:t>
            </a: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2 </a:t>
            </a: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satisfying </a:t>
            </a: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(2), (4) and (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SUCCESS </a:t>
            </a: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satisfying </a:t>
            </a: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(3), (4) and (8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SymbolMT"/>
                <a:ea typeface="SymbolMT"/>
              </a:rPr>
              <a:t>-</a:t>
            </a: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FAILURE </a:t>
            </a: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satisfying </a:t>
            </a: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(7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x(1)=7 </a:t>
            </a: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satisfying </a:t>
            </a: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(5) and (9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x(2)</a:t>
            </a:r>
            <a:r>
              <a:rPr b="0" lang="zh-TW" sz="2800" spc="-1" strike="noStrike">
                <a:solidFill>
                  <a:srgbClr val="000000"/>
                </a:solidFill>
                <a:latin typeface="SymbolMT"/>
                <a:ea typeface="SymbolMT"/>
              </a:rPr>
              <a:t>≠</a:t>
            </a: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7 </a:t>
            </a: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satisfying </a:t>
            </a: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(4) and (1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54AE-3158-4BC1-A52A-0BADDCDA034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earching for 7, but x(1)</a:t>
            </a:r>
            <a:r>
              <a:rPr b="0" lang="en-US" sz="4000" spc="-1" strike="noStrike">
                <a:solidFill>
                  <a:srgbClr val="333399"/>
                </a:solidFill>
                <a:latin typeface="Symbol"/>
                <a:ea typeface="Symbol"/>
              </a:rPr>
              <a:t>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7, x(2)</a:t>
            </a:r>
            <a:r>
              <a:rPr b="0" lang="en-US" sz="4000" spc="-1" strike="noStrike">
                <a:solidFill>
                  <a:srgbClr val="333399"/>
                </a:solidFill>
                <a:latin typeface="Symbol"/>
                <a:ea typeface="Symbol"/>
              </a:rPr>
              <a:t>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7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NF </a:t>
            </a:r>
            <a:r>
              <a:rPr b="0" lang="en-US" sz="3600" spc="-1" strike="noStrike">
                <a:solidFill>
                  <a:srgbClr val="000000"/>
                </a:solidFill>
                <a:latin typeface="TimesNewRoman"/>
              </a:rPr>
              <a:t>(conjunctive normal form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066680" y="2514600"/>
            <a:ext cx="6934320" cy="3540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B733-D5B2-40FE-8321-A46FD4D47E4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y resolution principle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682560" y="1747800"/>
            <a:ext cx="7844040" cy="371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3CA0-8302-4A69-A8FC-F67C032ABE8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762120" y="1447560"/>
            <a:ext cx="8192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NF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914400" y="2209680"/>
            <a:ext cx="7462800" cy="37576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earching for 7, where x(1)=7, x(2)=7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8FB6-2A9B-4849-8D89-A2F577333BE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Node Cover Problem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88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De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Given a graph G = (V, E), S is th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node cov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of 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f 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V and for ever edge (u, v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E,  (u,v) is incident to a node in 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3338640" y="25192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143000" y="3352680"/>
            <a:ext cx="3429000" cy="23148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952880" y="380988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 cov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1, 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5, 2, 4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66680" y="5715000"/>
            <a:ext cx="77724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 problem: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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K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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A923-5688-4D67-B9F5-B3405F920EB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How to Prove a Problem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S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is     </a:t>
            </a:r>
            <a:r>
              <a:rPr b="1" lang="en-US" sz="4000" spc="-1" strike="noStrike">
                <a:solidFill>
                  <a:srgbClr val="333399"/>
                </a:solidFill>
                <a:latin typeface="Garamond"/>
              </a:rPr>
              <a:t>NP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-Complete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w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in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N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known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N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complete problem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70560" indent="-522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complete, all problems in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e reducible to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w how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an be poly. reducible to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70560" indent="-522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all problems in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an be poly. reducible to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because polynomial reduction is transitiv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fore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N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comple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D9C9-15B7-4C44-972C-C5B1170FAAB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Cook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ok showed the first NPC problem: S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ok received Turing Award in 1982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68FE-C1E4-44FA-BFA2-25DD33CA3FA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Karp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. Karp showed several NPC problems, such as 3-STA, node (vertex) cover, and  Hamiltonian cycle, etc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Karp received Turing Award in 1985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F886-F9BF-4DDD-80B6-0290B6C7E88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754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NP-Completeness Proof: Reduc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3505320"/>
            <a:ext cx="106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tex C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362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867280" y="2362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-S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343400" y="1676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508720" y="358128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matic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19520" y="51814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minating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95280" y="11430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NP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90920" y="1676520"/>
            <a:ext cx="1828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580920" y="2133720"/>
            <a:ext cx="8384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0040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200400" y="43434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00800" y="2819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05520" y="2057400"/>
            <a:ext cx="9903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82B0-4D6E-43AD-9E85-DB6D6175204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779292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PC Probl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55972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Tahoma"/>
              </a:rPr>
              <a:t>CLIQUE(k):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 Does G=(V,E) contain a clique of size </a:t>
            </a:r>
            <a:r>
              <a:rPr b="0" lang="zh-TW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zh-TW" sz="32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Tahoma"/>
              </a:rPr>
              <a:t>Definition: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A clique in a graph is a set of vertices such that any pair of vertices are joined by en edg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7C6B-AEF1-40E0-92AA-BC84C24D7CD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cision probl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olution is simply 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s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ation problem : more difficul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he traveling salesperson proble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ization vers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d the shortest tou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ision vers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there a tour whose total length is less than or equal to a constant C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005120" y="3860640"/>
            <a:ext cx="151560" cy="685080"/>
            <a:chOff x="1005120" y="3860640"/>
            <a:chExt cx="151560" cy="685080"/>
          </a:xfrm>
        </p:grpSpPr>
        <p:sp>
          <p:nvSpPr>
            <p:cNvPr id="104" name=""/>
            <p:cNvSpPr/>
            <p:nvPr/>
          </p:nvSpPr>
          <p:spPr>
            <a:xfrm flipH="1" flipV="1">
              <a:off x="1081080" y="4431960"/>
              <a:ext cx="75600" cy="11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081080" y="4260240"/>
              <a:ext cx="720" cy="230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005120" y="4203000"/>
              <a:ext cx="75600" cy="11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1005120" y="4088520"/>
              <a:ext cx="75600" cy="11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81080" y="3917520"/>
              <a:ext cx="720" cy="228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1081080" y="3860640"/>
              <a:ext cx="75600" cy="11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ED82-8AA1-4398-83B7-E9EE002D67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779292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PC Probl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55972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Tahoma"/>
              </a:rPr>
              <a:t>Vertex Cover(k):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 Given a graph G=(V, E) and an integer </a:t>
            </a:r>
            <a:r>
              <a:rPr b="0" i="1" lang="zh-TW" sz="32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, does G have a vertex cover with </a:t>
            </a:r>
            <a:r>
              <a:rPr b="0" lang="zh-TW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zh-TW" sz="32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 vertic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Tahoma"/>
              </a:rPr>
              <a:t>Definition: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A vertex cover of G=(V, E) is V’</a:t>
            </a:r>
            <a:r>
              <a:rPr b="0" lang="zh-TW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V such that every edge in E is incident to some v</a:t>
            </a:r>
            <a:r>
              <a:rPr b="0" lang="zh-TW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V’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2A35-DA8A-4F7D-8307-2E6845C254D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Tahoma"/>
              </a:rPr>
              <a:t>Dominating Set(k):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 Given an graph G=(V, E) and an integer </a:t>
            </a:r>
            <a:r>
              <a:rPr b="0" i="1" lang="zh-TW" sz="32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, does G have a dominating set of size </a:t>
            </a:r>
            <a:r>
              <a:rPr b="0" lang="zh-TW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zh-TW" sz="32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Tahoma"/>
              </a:rPr>
              <a:t>Defini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A dominating set D of G=(V, E) is D</a:t>
            </a:r>
            <a:r>
              <a:rPr b="0" lang="zh-TW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V such that every v</a:t>
            </a:r>
            <a:r>
              <a:rPr b="0" lang="zh-TW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V is either in D or adjacent to at least one vertex of 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PC Probl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C27F-58AC-46DD-AC8F-F4F8081DEBF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Tahoma"/>
              </a:rPr>
              <a:t>SAT: 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Give a Boolean expression (formula) in DNF (conjunctive normal form), determine if it is satisfiab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Tahoma"/>
              </a:rPr>
              <a:t>3SAT: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 Give a Boolean expression in DNF such that each clause has </a:t>
            </a:r>
            <a:r>
              <a:rPr b="0" i="1" lang="zh-TW" sz="3200" spc="-1" strike="noStrike">
                <a:solidFill>
                  <a:srgbClr val="ff0000"/>
                </a:solidFill>
                <a:latin typeface="Tahoma"/>
              </a:rPr>
              <a:t>exactly </a:t>
            </a:r>
            <a:r>
              <a:rPr b="0" lang="zh-TW" sz="32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 variables (literals), determine if it is  satisfiab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PC Probl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1B4E-EDD7-4954-9995-937860A7BE9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Tahoma"/>
              </a:rPr>
              <a:t>Chromatic Coloring(k): 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Given a graph G=(V, E) and an integer </a:t>
            </a:r>
            <a:r>
              <a:rPr b="0" i="1" lang="zh-TW" sz="32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, does G have a coloring for </a:t>
            </a:r>
            <a:r>
              <a:rPr b="0" i="1" lang="zh-TW" sz="32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Tahoma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zh-TW" sz="2800" spc="-1" strike="noStrike">
                <a:solidFill>
                  <a:srgbClr val="ff0000"/>
                </a:solidFill>
                <a:latin typeface="Tahoma"/>
              </a:rPr>
              <a:t>coloring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 of a graph G=(V, E) is a fun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f : V </a:t>
            </a:r>
            <a:r>
              <a:rPr b="0" lang="zh-TW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 { 1, 2, 3,…, k } </a:t>
            </a:r>
            <a:r>
              <a:rPr b="0" lang="zh-TW" sz="2800" spc="-1" strike="noStrike">
                <a:solidFill>
                  <a:srgbClr val="000000"/>
                </a:solidFill>
                <a:latin typeface="Symbol"/>
                <a:ea typeface="Symbol"/>
              </a:rPr>
              <a:t>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 if (u, v) </a:t>
            </a:r>
            <a:r>
              <a:rPr b="0" lang="zh-TW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 E, then f(u)</a:t>
            </a:r>
            <a:r>
              <a:rPr b="0" lang="zh-TW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f(v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PC Probl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4A31-2B5A-4D34-87F7-21A69BEB754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0/1 Knapsack problem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(weight limit)=1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st solution: P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P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P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P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optim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problem is NP-complet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762120" y="2057400"/>
          <a:ext cx="7619760" cy="1828800"/>
        </p:xfrm>
        <a:graphic>
          <a:graphicData uri="http://schemas.openxmlformats.org/drawingml/2006/table">
            <a:tbl>
              <a:tblPr/>
              <a:tblGrid>
                <a:gridCol w="1412640"/>
                <a:gridCol w="820800"/>
                <a:gridCol w="781200"/>
                <a:gridCol w="779400"/>
                <a:gridCol w="779400"/>
                <a:gridCol w="781200"/>
                <a:gridCol w="779400"/>
                <a:gridCol w="779400"/>
                <a:gridCol w="706320"/>
              </a:tblGrid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e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11B3-1EAB-4DE1-B2DC-89EC337EAEB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veling salesperson problem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n: A set of n planar po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: A closed tour which includes all points exactly once such that its total length is minimiz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problem is NP-complet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F48B-17FC-4272-8530-018BD7772E4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tition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: A set of positive integers 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: S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uch that S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S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S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S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=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S2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partition into S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uch that the sum of S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equal to S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S={1, 7, 10, 9, 5, 8, 3, 13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{1, 10, 9, 8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{7, 5, 3, 13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problem is NP-complet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AC86-2AC7-4F06-847F-E22C932E519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4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9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4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9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2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5" dur="5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0" dur="50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t gallery problem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NP-complete 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2286000" y="2209680"/>
            <a:ext cx="4495680" cy="3810240"/>
            <a:chOff x="2286000" y="2209680"/>
            <a:chExt cx="4495680" cy="3810240"/>
          </a:xfrm>
        </p:grpSpPr>
        <p:sp>
          <p:nvSpPr>
            <p:cNvPr id="243" name=""/>
            <p:cNvSpPr/>
            <p:nvPr/>
          </p:nvSpPr>
          <p:spPr>
            <a:xfrm>
              <a:off x="2286000" y="2209680"/>
              <a:ext cx="4495680" cy="3810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3329"/>
                  </a:lnTo>
                  <a:lnTo>
                    <a:pt x="2998" y="13329"/>
                  </a:lnTo>
                  <a:lnTo>
                    <a:pt x="2998" y="8329"/>
                  </a:lnTo>
                  <a:lnTo>
                    <a:pt x="6000" y="8329"/>
                  </a:lnTo>
                  <a:lnTo>
                    <a:pt x="6000" y="13329"/>
                  </a:lnTo>
                  <a:lnTo>
                    <a:pt x="7998" y="13329"/>
                  </a:lnTo>
                  <a:lnTo>
                    <a:pt x="7998" y="16663"/>
                  </a:lnTo>
                  <a:lnTo>
                    <a:pt x="3999" y="16663"/>
                  </a:lnTo>
                  <a:lnTo>
                    <a:pt x="3999" y="19996"/>
                  </a:lnTo>
                  <a:lnTo>
                    <a:pt x="15998" y="19996"/>
                  </a:lnTo>
                  <a:lnTo>
                    <a:pt x="15998" y="16663"/>
                  </a:lnTo>
                  <a:lnTo>
                    <a:pt x="11999" y="16663"/>
                  </a:lnTo>
                  <a:lnTo>
                    <a:pt x="11999" y="13329"/>
                  </a:lnTo>
                  <a:lnTo>
                    <a:pt x="13997" y="13329"/>
                  </a:lnTo>
                  <a:lnTo>
                    <a:pt x="13997" y="8329"/>
                  </a:lnTo>
                  <a:lnTo>
                    <a:pt x="16999" y="8329"/>
                  </a:lnTo>
                  <a:lnTo>
                    <a:pt x="16999" y="13329"/>
                  </a:lnTo>
                  <a:lnTo>
                    <a:pt x="19997" y="13329"/>
                  </a:lnTo>
                  <a:lnTo>
                    <a:pt x="19997" y="0"/>
                  </a:lnTo>
                  <a:lnTo>
                    <a:pt x="16999" y="0"/>
                  </a:lnTo>
                  <a:lnTo>
                    <a:pt x="16999" y="5000"/>
                  </a:lnTo>
                  <a:lnTo>
                    <a:pt x="10999" y="5000"/>
                  </a:lnTo>
                  <a:lnTo>
                    <a:pt x="10999" y="0"/>
                  </a:lnTo>
                  <a:lnTo>
                    <a:pt x="8998" y="0"/>
                  </a:lnTo>
                  <a:lnTo>
                    <a:pt x="8998" y="5000"/>
                  </a:lnTo>
                  <a:lnTo>
                    <a:pt x="2998" y="5000"/>
                  </a:lnTo>
                  <a:lnTo>
                    <a:pt x="2998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449600" y="5542560"/>
              <a:ext cx="226080" cy="318960"/>
            </a:xfrm>
            <a:prstGeom prst="ellipse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421160" y="3320640"/>
              <a:ext cx="226080" cy="318960"/>
            </a:xfrm>
            <a:prstGeom prst="ellipse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482920" y="3281400"/>
              <a:ext cx="226080" cy="318960"/>
            </a:xfrm>
            <a:prstGeom prst="ellipse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332760" y="3320640"/>
              <a:ext cx="226080" cy="318960"/>
            </a:xfrm>
            <a:prstGeom prst="ellipse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0CF6-ABB4-4920-909C-C9E7716EDE32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7" dur="500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-Satisfiability Problem (3-SAT)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De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lause contains exactly three litera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I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-SAT is an NP problem (obviousl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II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3-S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of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1) One literal 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a clause in SA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-SA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-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-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-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-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09E3-A460-479B-9DD2-5039CB4729F8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380520" y="60912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(2) Two literals L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, L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in a clause in SA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In 3-SA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v L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v y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v L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v -y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(3) Three literals in a clause: remain unchang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(4) More than 3 literals L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, L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, …, L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k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in a clau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in 3-SA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v L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v y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v -y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v y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MT Extra"/>
                <a:ea typeface="MT Extra"/>
              </a:rPr>
              <a:t>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k-2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v -y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k-4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v y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k-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k-1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v L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k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v -y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k-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3E07-BD27-465E-B84F-B59FCCE1B09C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ndeterministic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A nondeterministic algorithm is an algorithm consisting of two phases: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guessing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checking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28120" indent="-52812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urthermore, it is assumed that a nondeterministic algorithm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always makes a correct guessing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9D8C-5655-44EB-A46B-7CEA1683744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4876560" y="1523520"/>
            <a:ext cx="400212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instance 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3-SAT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 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  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 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  -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-x</a:t>
            </a:r>
            <a:r>
              <a:rPr b="0" lang="en-US" sz="2400" spc="-1" strike="noStrike" baseline="-30000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v  y</a:t>
            </a:r>
            <a:r>
              <a:rPr b="0" lang="en-US" sz="2400" spc="-1" strike="noStrike" baseline="-30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v  y</a:t>
            </a:r>
            <a:r>
              <a:rPr b="0" lang="en-US" sz="2400" spc="-1" strike="noStrike" baseline="-30000">
                <a:solidFill>
                  <a:srgbClr val="ff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-x</a:t>
            </a:r>
            <a:r>
              <a:rPr b="0" lang="en-US" sz="2400" spc="-1" strike="noStrike" baseline="-30000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v  -y</a:t>
            </a:r>
            <a:r>
              <a:rPr b="0" lang="en-US" sz="2400" spc="-1" strike="noStrike" baseline="-30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v  y</a:t>
            </a:r>
            <a:r>
              <a:rPr b="0" lang="en-US" sz="2400" spc="-1" strike="noStrike" baseline="-30000">
                <a:solidFill>
                  <a:srgbClr val="ff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-x</a:t>
            </a:r>
            <a:r>
              <a:rPr b="0" lang="en-US" sz="2400" spc="-1" strike="noStrike" baseline="-30000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v  y</a:t>
            </a:r>
            <a:r>
              <a:rPr b="0" lang="en-US" sz="2400" spc="-1" strike="noStrike" baseline="-30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v  -y</a:t>
            </a:r>
            <a:r>
              <a:rPr b="0" lang="en-US" sz="2400" spc="-1" strike="noStrike" baseline="-30000">
                <a:solidFill>
                  <a:srgbClr val="ff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-x</a:t>
            </a:r>
            <a:r>
              <a:rPr b="0" lang="en-US" sz="2400" spc="-1" strike="noStrike" baseline="-30000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v  -y</a:t>
            </a:r>
            <a:r>
              <a:rPr b="0" lang="en-US" sz="2400" spc="-1" strike="noStrike" baseline="-30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v  -y</a:t>
            </a:r>
            <a:r>
              <a:rPr b="0" lang="en-US" sz="2400" spc="-1" strike="noStrike" baseline="-30000">
                <a:solidFill>
                  <a:srgbClr val="ff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x</a:t>
            </a:r>
            <a:r>
              <a:rPr b="0" lang="en-US" sz="2400" spc="-1" strike="noStrike" baseline="-30000">
                <a:solidFill>
                  <a:srgbClr val="00cc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v  -x</a:t>
            </a:r>
            <a:r>
              <a:rPr b="0" lang="en-US" sz="2400" spc="-1" strike="noStrike" baseline="-30000">
                <a:solidFill>
                  <a:srgbClr val="00cc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  v  y</a:t>
            </a:r>
            <a:r>
              <a:rPr b="0" lang="en-US" sz="2400" spc="-1" strike="noStrike" baseline="-30000">
                <a:solidFill>
                  <a:srgbClr val="00cc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x</a:t>
            </a:r>
            <a:r>
              <a:rPr b="0" lang="en-US" sz="2400" spc="-1" strike="noStrike" baseline="-30000">
                <a:solidFill>
                  <a:srgbClr val="00cc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v  -y</a:t>
            </a:r>
            <a:r>
              <a:rPr b="0" lang="en-US" sz="2400" spc="-1" strike="noStrike" baseline="-30000">
                <a:solidFill>
                  <a:srgbClr val="00cc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  v  y</a:t>
            </a:r>
            <a:r>
              <a:rPr b="0" lang="en-US" sz="2400" spc="-1" strike="noStrike" baseline="-30000">
                <a:solidFill>
                  <a:srgbClr val="00cc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-x</a:t>
            </a:r>
            <a:r>
              <a:rPr b="0" lang="en-US" sz="2400" spc="-1" strike="noStrike" baseline="-30000">
                <a:solidFill>
                  <a:srgbClr val="00cc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v  x</a:t>
            </a:r>
            <a:r>
              <a:rPr b="0" lang="en-US" sz="2400" spc="-1" strike="noStrike" baseline="-30000">
                <a:solidFill>
                  <a:srgbClr val="00cc00"/>
                </a:solidFill>
                <a:latin typeface="Tahoma"/>
              </a:rPr>
              <a:t>5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v  -y</a:t>
            </a:r>
            <a:r>
              <a:rPr b="0" lang="en-US" sz="2400" spc="-1" strike="noStrike" baseline="-30000">
                <a:solidFill>
                  <a:srgbClr val="00cc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"/>
          <p:cNvSpPr/>
          <p:nvPr/>
        </p:nvSpPr>
        <p:spPr>
          <a:xfrm>
            <a:off x="1981080" y="6248520"/>
            <a:ext cx="495324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0880" y="1523880"/>
            <a:ext cx="4572000" cy="46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instance S in SA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  <a:ea typeface="新細明體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  v 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  <a:ea typeface="新細明體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新細明體"/>
              </a:rPr>
              <a:t>-x</a:t>
            </a:r>
            <a:r>
              <a:rPr b="0" lang="en-US" sz="2400" spc="-1" strike="noStrike" baseline="-30000">
                <a:solidFill>
                  <a:srgbClr val="ff0000"/>
                </a:solidFill>
                <a:latin typeface="Tahoma"/>
                <a:ea typeface="新細明體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  <a:ea typeface="新細明體"/>
              </a:rPr>
              <a:t>x</a:t>
            </a:r>
            <a:r>
              <a:rPr b="0" lang="en-US" sz="2400" spc="-1" strike="noStrike" baseline="-30000">
                <a:solidFill>
                  <a:srgbClr val="00cc00"/>
                </a:solidFill>
                <a:latin typeface="Tahoma"/>
                <a:ea typeface="新細明體"/>
              </a:rPr>
              <a:t>1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  <a:ea typeface="新細明體"/>
              </a:rPr>
              <a:t>  v  -x</a:t>
            </a:r>
            <a:r>
              <a:rPr b="0" lang="en-US" sz="2400" spc="-1" strike="noStrike" baseline="-30000">
                <a:solidFill>
                  <a:srgbClr val="00cc00"/>
                </a:solidFill>
                <a:latin typeface="Tahoma"/>
                <a:ea typeface="新細明體"/>
              </a:rPr>
              <a:t>2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  <a:ea typeface="新細明體"/>
              </a:rPr>
              <a:t>  v  x</a:t>
            </a:r>
            <a:r>
              <a:rPr b="0" lang="en-US" sz="2400" spc="-1" strike="noStrike" baseline="-30000">
                <a:solidFill>
                  <a:srgbClr val="00cc00"/>
                </a:solidFill>
                <a:latin typeface="Tahoma"/>
                <a:ea typeface="新細明體"/>
              </a:rPr>
              <a:t>3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  <a:ea typeface="新細明體"/>
              </a:rPr>
              <a:t>  v  -x</a:t>
            </a:r>
            <a:r>
              <a:rPr b="0" lang="en-US" sz="2400" spc="-1" strike="noStrike" baseline="-30000">
                <a:solidFill>
                  <a:srgbClr val="00cc00"/>
                </a:solidFill>
                <a:latin typeface="Tahoma"/>
                <a:ea typeface="新細明體"/>
              </a:rPr>
              <a:t>4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  <a:ea typeface="新細明體"/>
              </a:rPr>
              <a:t>  v  x</a:t>
            </a:r>
            <a:r>
              <a:rPr b="0" lang="en-US" sz="2400" spc="-1" strike="noStrike" baseline="-30000">
                <a:solidFill>
                  <a:srgbClr val="00cc00"/>
                </a:solidFill>
                <a:latin typeface="Tahoma"/>
                <a:ea typeface="新細明體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95280" y="5715000"/>
            <a:ext cx="708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AT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800" spc="-1" strike="noStrike" baseline="30000">
                <a:solidFill>
                  <a:srgbClr val="3333cc"/>
                </a:solidFill>
                <a:latin typeface="Tahoma"/>
              </a:rPr>
              <a:t>transform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3-S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S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762120" y="380520"/>
            <a:ext cx="8076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xample of Transforming a 3-SAT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Instance to an SAT Inst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A42B-C993-4278-9008-82083DF8A3B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hromatic Number Decision Problem (CN)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Tahoma"/>
              </a:rPr>
              <a:t>Def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ahoma"/>
              </a:rPr>
              <a:t>: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A </a:t>
            </a:r>
            <a:r>
              <a:rPr b="0" lang="zh-TW" sz="2400" spc="-1" strike="noStrike" u="sng">
                <a:solidFill>
                  <a:srgbClr val="ff0000"/>
                </a:solidFill>
                <a:uFillTx/>
                <a:latin typeface="Tahoma"/>
              </a:rPr>
              <a:t>coloring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of a graph G = (V, E) is a function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f: V </a:t>
            </a:r>
            <a:r>
              <a:rPr b="0" lang="zh-TW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{ 1, 2, 3,…, k } such that if (u, v) </a:t>
            </a:r>
            <a:r>
              <a:rPr b="0" lang="zh-TW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E, then f(u)</a:t>
            </a:r>
            <a:r>
              <a:rPr b="0" lang="zh-TW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f(v). The CN problem is to determine if G has a coloring for k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33cc"/>
                </a:solidFill>
                <a:latin typeface="Tahoma"/>
              </a:rPr>
              <a:t>&lt;Theorem&gt; Satisfiability with at most 3 literals per clause (SATY) </a:t>
            </a:r>
            <a:r>
              <a:rPr b="0" lang="zh-TW" sz="2400" spc="-1" strike="noStrike">
                <a:solidFill>
                  <a:srgbClr val="3333cc"/>
                </a:solidFill>
                <a:latin typeface="Symbol"/>
                <a:ea typeface="Symbol"/>
              </a:rPr>
              <a:t></a:t>
            </a:r>
            <a:r>
              <a:rPr b="0" lang="zh-TW" sz="2400" spc="-1" strike="noStrike">
                <a:solidFill>
                  <a:srgbClr val="3333cc"/>
                </a:solidFill>
                <a:latin typeface="Tahoma"/>
              </a:rPr>
              <a:t> C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3567240" y="23623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752480" y="3124080"/>
            <a:ext cx="2590920" cy="24703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4495680" y="38098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-color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a)=1,  f(b)=2,  f(c)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d)=2,  f(e)=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057400" y="3200400"/>
            <a:ext cx="380880" cy="3808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657600" y="4191120"/>
            <a:ext cx="380880" cy="3808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057400" y="4191120"/>
            <a:ext cx="38088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657600" y="3200400"/>
            <a:ext cx="38088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819520" y="51055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FEE1-A604-4F13-B016-8DB80509964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Cover Decision Problem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Tahoma"/>
              </a:rPr>
              <a:t>Def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ahoma"/>
              </a:rPr>
              <a:t>: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F = { S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, S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, …, S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k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= { u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, u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, …, u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n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T is a </a:t>
            </a:r>
            <a:r>
              <a:rPr b="0" lang="zh-TW" sz="2400" spc="-1" strike="noStrike" u="sng">
                <a:solidFill>
                  <a:srgbClr val="ff0000"/>
                </a:solidFill>
                <a:uFillTx/>
                <a:latin typeface="Tahoma"/>
              </a:rPr>
              <a:t>set cover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of F if T </a:t>
            </a:r>
            <a:r>
              <a:rPr b="0" lang="zh-TW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F and      S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=     S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zh-TW" sz="2400" spc="-1" strike="noStrike" u="sng">
                <a:solidFill>
                  <a:srgbClr val="ff0000"/>
                </a:solidFill>
                <a:uFillTx/>
                <a:latin typeface="Tahoma"/>
              </a:rPr>
              <a:t>set cover decision problem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is to determine if F has a cover T containing no more than </a:t>
            </a:r>
            <a:r>
              <a:rPr b="0" i="1" lang="zh-TW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se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Example: c=3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F = {(a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, a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), (a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, a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4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), (a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, a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), (a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4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), (a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, a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3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, a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4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        s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        s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    s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4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         s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T = { s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, s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, s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4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}    </a:t>
            </a:r>
            <a:r>
              <a:rPr b="0" lang="zh-TW" sz="2400" spc="-1" strike="noStrike" u="sng">
                <a:solidFill>
                  <a:srgbClr val="ff0000"/>
                </a:solidFill>
                <a:uFillTx/>
                <a:latin typeface="Tahoma"/>
              </a:rPr>
              <a:t>set co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T = { s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, s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} another set co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438624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600200" y="2133720"/>
                <a:ext cx="37152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/>
                      <m:li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F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43671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5715000" y="2590920"/>
                <a:ext cx="4096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/>
                      <m:li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T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p:sp>
        <p:nvSpPr>
          <p:cNvPr id="272" name=""/>
          <p:cNvSpPr/>
          <p:nvPr/>
        </p:nvSpPr>
        <p:spPr>
          <a:xfrm>
            <a:off x="436248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6705720" y="2590920"/>
                <a:ext cx="4190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/>
                      <m:li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F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26A7-AE31-423A-9727-D3DC1393F46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ct Cover Problem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Def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determine if F has an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exact cov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, which is a cover of F and the sets in T are pairwise disjoi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&lt;Theorem&gt; CN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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exact cover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8047-5DC9-42D0-AB5A-FC7AD0E05D8F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 of Subsets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Tahoma"/>
              </a:rPr>
              <a:t>Def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ahoma"/>
              </a:rPr>
              <a:t>: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A set of positive numbers A = { a</a:t>
            </a:r>
            <a:r>
              <a:rPr b="0" lang="zh-TW" sz="28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, a</a:t>
            </a:r>
            <a:r>
              <a:rPr b="0" lang="zh-TW" sz="28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, …, a</a:t>
            </a:r>
            <a:r>
              <a:rPr b="0" lang="zh-TW" sz="2800" spc="-1" strike="noStrike" baseline="-30000">
                <a:solidFill>
                  <a:srgbClr val="000000"/>
                </a:solidFill>
                <a:latin typeface="Tahoma"/>
              </a:rPr>
              <a:t>n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a constant 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Determine if </a:t>
            </a:r>
            <a:r>
              <a:rPr b="0" lang="zh-TW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lang="zh-TW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 A  </a:t>
            </a:r>
            <a:r>
              <a:rPr b="0" lang="zh-TW" sz="2800" spc="-1" strike="noStrike">
                <a:solidFill>
                  <a:srgbClr val="000000"/>
                </a:solidFill>
                <a:latin typeface="Symbol"/>
                <a:ea typeface="Symbol"/>
              </a:rPr>
              <a:t>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        a</a:t>
            </a:r>
            <a:r>
              <a:rPr b="0" lang="zh-TW" sz="28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 = 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e.g.  A = { 7, 5, 19, 1, 12, 8, 14 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C = 21,  A</a:t>
            </a:r>
            <a:r>
              <a:rPr b="0" lang="zh-TW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= { 7, 14 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C = 11,  no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Tahoma"/>
              </a:rPr>
              <a:t>&lt;Theorem&gt; Exact cover </a:t>
            </a:r>
            <a:r>
              <a:rPr b="0" lang="zh-TW" sz="2800" spc="-1" strike="noStrike">
                <a:solidFill>
                  <a:srgbClr val="3333cc"/>
                </a:solidFill>
                <a:latin typeface="Symbol"/>
                <a:ea typeface="Symbol"/>
              </a:rPr>
              <a:t></a:t>
            </a:r>
            <a:r>
              <a:rPr b="0" lang="zh-TW" sz="2800" spc="-1" strike="noStrike">
                <a:solidFill>
                  <a:srgbClr val="3333cc"/>
                </a:solidFill>
                <a:latin typeface="Tahoma"/>
              </a:rPr>
              <a:t> sum of subse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"/>
          <p:cNvSpPr/>
          <p:nvPr/>
        </p:nvSpPr>
        <p:spPr>
          <a:xfrm>
            <a:off x="430524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5410080" y="3048120"/>
                <a:ext cx="7826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Î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sub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93BF-C361-4E30-BD69-6C3EAE7013E8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ct Cover </a:t>
            </a:r>
            <a:r>
              <a:rPr b="0" lang="en-US" sz="4400" spc="-1" strike="noStrike">
                <a:solidFill>
                  <a:srgbClr val="333399"/>
                </a:solidFill>
                <a:latin typeface="Symbol"/>
                <a:ea typeface="Symbol"/>
              </a:rPr>
              <a:t>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Sum of Subset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Pro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Instance of exact co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F = { S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, S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, …, S</a:t>
            </a:r>
            <a:r>
              <a:rPr b="0" lang="zh-TW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}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Instance of sum of subse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A = { a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, a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, …, a</a:t>
            </a:r>
            <a:r>
              <a:rPr b="0" lang="zh-TW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}  whe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"/>
          <p:cNvSpPr/>
          <p:nvPr/>
        </p:nvSpPr>
        <p:spPr>
          <a:xfrm>
            <a:off x="340524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5456160" y="2209680"/>
                <a:ext cx="303228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/>
                      <m:li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F</m:t>
                        </m:r>
                      </m:lim>
                    </m:limLow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284" name=""/>
          <p:cNvGraphicFramePr/>
          <p:nvPr/>
        </p:nvGraphicFramePr>
        <p:xfrm>
          <a:off x="0" y="4581360"/>
          <a:ext cx="8593200" cy="286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81360"/>
                    <a:ext cx="8593200" cy="28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58E2-F288-4D54-97CD-E7319833EC7D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tition Problem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80520" y="2017800"/>
            <a:ext cx="857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 u="sng">
                <a:solidFill>
                  <a:srgbClr val="000000"/>
                </a:solidFill>
                <a:uFillTx/>
                <a:latin typeface="Tahoma"/>
              </a:rPr>
              <a:t>Def</a:t>
            </a:r>
            <a:r>
              <a:rPr b="0" lang="zh-TW" sz="3200" spc="-1" strike="noStrike" u="sng">
                <a:solidFill>
                  <a:srgbClr val="000000"/>
                </a:solidFill>
                <a:uFillTx/>
                <a:latin typeface="Tahoma"/>
              </a:rPr>
              <a:t>: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Given a set of positive numbers A = { a</a:t>
            </a:r>
            <a:r>
              <a:rPr b="0" lang="zh-TW" sz="32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,a</a:t>
            </a:r>
            <a:r>
              <a:rPr b="0" lang="zh-TW" sz="32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,…,a</a:t>
            </a:r>
            <a:r>
              <a:rPr b="0" lang="zh-TW" sz="3200" spc="-1" strike="noStrike" baseline="-30000">
                <a:solidFill>
                  <a:srgbClr val="000000"/>
                </a:solidFill>
                <a:latin typeface="Tahoma"/>
              </a:rPr>
              <a:t>n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 }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determine if </a:t>
            </a:r>
            <a:r>
              <a:rPr b="0" lang="zh-TW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 a partition P, </a:t>
            </a:r>
            <a:r>
              <a:rPr b="0" lang="zh-TW" sz="3200" spc="-1" strike="noStrike">
                <a:solidFill>
                  <a:srgbClr val="000000"/>
                </a:solidFill>
                <a:latin typeface="Symbol"/>
                <a:ea typeface="Symbol"/>
              </a:rPr>
              <a:t>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zh-TW" sz="32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zh-TW" sz="32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zh-TW" sz="32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</a:t>
            </a: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zh-TW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p                 i</a:t>
            </a:r>
            <a:r>
              <a:rPr b="0" lang="zh-TW" sz="1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e.g.  A = {3, 6, 1,  9, 4, 11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partition: {3, 1, 9, 4} and {6, 11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3333cc"/>
                </a:solidFill>
                <a:latin typeface="Tahoma"/>
              </a:rPr>
              <a:t>&lt;Theorem&gt; sum of subsets </a:t>
            </a:r>
            <a:r>
              <a:rPr b="0" lang="zh-TW" sz="3400" spc="-1" strike="noStrike">
                <a:solidFill>
                  <a:srgbClr val="3333cc"/>
                </a:solidFill>
                <a:latin typeface="Symbol"/>
                <a:ea typeface="Symbol"/>
              </a:rPr>
              <a:t></a:t>
            </a:r>
            <a:r>
              <a:rPr b="0" lang="zh-TW" sz="3400" spc="-1" strike="noStrike">
                <a:solidFill>
                  <a:srgbClr val="3333cc"/>
                </a:solidFill>
                <a:latin typeface="Tahoma"/>
              </a:rPr>
              <a:t> partition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7CFE-BBB6-4DE4-80E1-49AC5465B596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in Packing Problem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0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Tahoma"/>
              </a:rPr>
              <a:t>Def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ahoma"/>
              </a:rPr>
              <a:t>: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n items, each of size c</a:t>
            </a:r>
            <a:r>
              <a:rPr b="0" lang="zh-TW" sz="28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 , c</a:t>
            </a:r>
            <a:r>
              <a:rPr b="0" lang="zh-TW" sz="28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 &gt; 0, a positive number k and bin capacity C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determine if we can assign the items into k bins such that the sum of c</a:t>
            </a:r>
            <a:r>
              <a:rPr b="0" lang="zh-TW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’s assigned to each bin does not exceed 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Tahoma"/>
              </a:rPr>
              <a:t>&lt;Theorem&gt; partition </a:t>
            </a:r>
            <a:r>
              <a:rPr b="0" lang="zh-TW" sz="3200" spc="-1" strike="noStrike">
                <a:solidFill>
                  <a:srgbClr val="3333cc"/>
                </a:solidFill>
                <a:latin typeface="Symbol"/>
                <a:ea typeface="Symbol"/>
              </a:rPr>
              <a:t></a:t>
            </a:r>
            <a:r>
              <a:rPr b="0" lang="zh-TW" sz="3200" spc="-1" strike="noStrike">
                <a:solidFill>
                  <a:srgbClr val="3333cc"/>
                </a:solidFill>
                <a:latin typeface="Tahoma"/>
              </a:rPr>
              <a:t> bin packing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9C30-333F-42A9-980D-3704080ADA23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VLSI Discrete Layout Proble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5280" indent="-485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Given:  n rectangles, each with height h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(integ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width w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and an area A, determine if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is a </a:t>
            </a:r>
            <a:r>
              <a:rPr b="0" lang="zh-TW" sz="2400" spc="-1" strike="noStrike" u="sng">
                <a:solidFill>
                  <a:srgbClr val="ff0000"/>
                </a:solidFill>
                <a:uFillTx/>
                <a:latin typeface="Tahoma"/>
              </a:rPr>
              <a:t>placement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of the n rectangles within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according to the following ru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Boundaries of rectangles are parallel to x axis or y axi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Corners of rectangles lie on integer point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No two rectangles overla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-41580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Two rectangles are separated by at least a unit dista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zh-TW" sz="2000" spc="-1" strike="noStrike">
                <a:solidFill>
                  <a:srgbClr val="00cc00"/>
                </a:solidFill>
                <a:latin typeface="Tahoma"/>
              </a:rPr>
              <a:t>(See the figure on the next page.)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62DD-DF56-4FC7-864E-94147D6E0EE1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201924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6095880" cy="378792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676520" y="49528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uccessful Placement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5715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&lt;Theorem&gt; bin packing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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VLSI discrete lay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96E6-0025-4088-A962-A736AEE2FED2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ndeterministic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hey do not exist and they would never exist in reality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hey are useful only because they will help us define a class of problems: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NP problem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B9EC-9047-40CF-B999-E6E63F21B6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617040"/>
            <a:ext cx="847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NP algorithm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-517320">
              <a:lnSpc>
                <a:spcPct val="90000"/>
              </a:lnSpc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the checking stage of a nondeterministic algorithm is of polynomial time-complexity, then this algorithm is called an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NP (nondeterministic polynomial)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lgorithm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48A1-7AF7-4D97-BBC0-D929F43846A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NP problem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000" y="1844640"/>
            <a:ext cx="8459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a decision problem can be solved by a NP algorithm, this problem is called an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NP (nondeterministic polynomial) proble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NP problems : (must be decision problems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4FCA-EF0D-4EAB-85FB-140B082B056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617040"/>
            <a:ext cx="89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o express Nondeterministic Algorith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842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hoice(S) : arbitrarily chooses one of the elements in set S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ailure : an unsuccessful comple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uccess : a successful completion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4296-D985-4D8B-A596-363D4E6473C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06:26:59Z</dcterms:created>
  <dc:creator>cby</dc:creator>
  <dc:description/>
  <dc:language>en-US</dc:language>
  <cp:lastModifiedBy>Jiang</cp:lastModifiedBy>
  <dcterms:modified xsi:type="dcterms:W3CDTF">2006-11-27T15:03:51Z</dcterms:modified>
  <cp:revision>160</cp:revision>
  <dc:subject/>
  <dc:title>Chap 8 The Theory of NP-Completeness</dc:title>
</cp:coreProperties>
</file>