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918-72F6-4BBA-851A-F43A72A8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8AD-4810-4576-A880-B28B4195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6B6-0B58-4AAD-84AC-41B607A0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A64-CDA4-423E-BFFC-90DE78A3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668-A16F-4069-8D6C-0D315741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AD7-8DB1-441B-8087-09638B21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257-7A97-49DE-B903-DFB1939B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9EF-6B9D-478F-91DA-D096CC2D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D08-2DD7-42EE-80E4-200ED999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A50-E308-4F5C-A5B0-CD287399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834-BE94-40D7-8869-127B76EE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9C7-6F90-4256-860C-41358CD7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EF04-B06C-41C3-BD9F-1F0D82B9B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4: Using the Assemb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0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319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5040" y="8380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4. Operator Precedenc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476760" cy="1805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609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rect Operands, Page 1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828800"/>
            <a:ext cx="8382240" cy="39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ist db 10h,20h,3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   db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bx,offset aList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al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 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al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3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 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al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6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si,offset su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offset of 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[si],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tore the 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1400" y="685800"/>
            <a:ext cx="56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Adding Several 8-bit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3200400"/>
            <a:ext cx="80010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List dw 1000h,2000h,30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      dw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bx,offset word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ax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first 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ax,[bx+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econd 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ax,[bx+4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third 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[bx+6],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tore the 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880" y="53352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4. Adding 16-bit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396216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1676520"/>
            <a:ext cx="81536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 db "This is a string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  = ($ – string)   ; calculate string 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cx,COU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oop 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si,offset string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h,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isplay the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l,[si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a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   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point to next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  L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ecrement CX, repeat until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5720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. Displaying a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752480"/>
            <a:ext cx="830592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array dw 100h,200h,300h,4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 = ($ – intarray) / 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ero the accu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i,offset intarray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ddress of int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cx,COU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oop 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  ax,[di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dd an 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  di,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point to next 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  L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peat until CX =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880" y="533520"/>
            <a:ext cx="53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6. Summing an Integer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772400" cy="2691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9144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and Indexed Operands, Page 1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086600" cy="1366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533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ray Example, Page 1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533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-Index Operands, Page 1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9343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360" y="1828800"/>
            <a:ext cx="81360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WSIZE = 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  db 10h, 20h, 30h, 40h, 50h, 60h, 70h, 80h, 9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b 0A0h, B0h, 0C0h, 0D0h, 0E0h, 0F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bx,offset arra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point to the array at 0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 bx,ROWSIZ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hoose second 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si,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hose third 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l,[bx + si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the value at 01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52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7. Two-Dimensional Array 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3640" y="15228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. Sample Source Listing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68400" y="838080"/>
            <a:ext cx="9050400" cy="57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change Two Variables                 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AMPLE.AS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  B8 0000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@dat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initialize DS 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3  8E D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ds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5  A0 0000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l,value1 ; load the AL 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8  86 06 0001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chg  al,value2 ; exchange AL, valu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C  A2 0000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value1,al ; store new value of 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F  B8 4C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4C00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; return to 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12  CD 2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  0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1  db 0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1  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2  db 1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010640" cy="1393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9480" y="5335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-Index with Displacement, Page 1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990720"/>
            <a:ext cx="6781680" cy="54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:    title Mismatching Operand Sizes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: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:    .model 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:    .stack 1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:    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:    main 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@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ds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value1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h,valu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4C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3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5:   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6:  value1   db    0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7:  value2   dw    10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8:  end  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9): warning A4031: Operand types must 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0): warning A4031: Operand types must 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4680" y="304920"/>
            <a:ext cx="73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8. Program with Mismatching Operand Siz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74600" y="762120"/>
            <a:ext cx="5514840" cy="57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:   title Miscellaneous Errors 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: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:   .model 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:   .stack 1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:   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:   main 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:        mov   ax,@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:        mov   ds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:        mov   ax,bx * c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:        mov   bx,value1 * 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:        mov   byte ptr value3, 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2:        mov   cx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3:        mov   cs,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4:        mov   ax,4C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5:        int   21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6:    main en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7:   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8:   value1   db    0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9:   value2   db    1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:   value3   dw    10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:   end 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2040" y="228600"/>
            <a:ext cx="65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9. Program with Miscellaneous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6400800" cy="5613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8000" y="228600"/>
            <a:ext cx="76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5. Selected Procedures in the Link Libra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1 of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5735880" cy="5867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9400" y="152280"/>
            <a:ext cx="80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5. Selected Procedures in the Link Library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 of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486400" cy="545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2320" y="380880"/>
            <a:ext cx="66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6. Data Types for the EXTRN Dir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9520" y="673200"/>
            <a:ext cx="6924600" cy="56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itle Link Library Demo Program           (lnkdemo.as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This program calls various I/O proced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in the link library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iteOnBlue = 1F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reetingLoc = 0400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reeting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"Link Library Demo Program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0dh,0ah,0dh,0a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"What is your name? ",0 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numberPrompt db 0dh,0a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"Please enter a 16–bit integer: "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userName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50 dup(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essAnyKey  db 0dh,0ah,0dh,0a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"Press any key..."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xtrn Clrscr:proc, Crlf:proc, Gotoxy:proc, \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adint:proc, Readstring:proc, Scroll:proc, \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adkey:proc, Writeint:proc, Writestring:pro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2440" y="22860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0. Link Library Demo Progra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080" y="22860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0. Link Library Demo Progra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7160" y="762120"/>
            <a:ext cx="6733800" cy="57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ax,@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ds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Clear the screen, scroll a blue 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Clr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cx,0400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upper–left 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dx,0B28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lower–right 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bh,WhiteOn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Scr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Display a greeting and ask for the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user’s n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dx,GreetingL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Got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dx,offset gr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Write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dx,offset user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Read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2440" y="22860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0. Link Library Demo Progra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4920" y="762120"/>
            <a:ext cx="6238800" cy="56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Ask the user to enter a signed decimal integ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Redisplay the number in hexadecimal and binary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 dx,offset numberPromp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Writest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Readint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input an integ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 bx,16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display in hexadecim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Write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 bx,2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display in bina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Writeint  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 dx,offset pressAny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Writest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Read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Clrsc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ax,4c00h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end prog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 21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ain endp  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228600" y="1371600"/>
            <a:ext cx="907560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rn Randomize:proc, Random_range:proc, WriteInt:proc, Crlf: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Random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cx,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1: mov  eax,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Random_range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EAX = random 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bx,10   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decimal rad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WriteInt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 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520" y="4572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1. Generating Random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592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920" y="68724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1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mbling and Linking with MS-DOS Batch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6360" y="990720"/>
            <a:ext cx="74502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rn Seconds_today: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ay_seconds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ecx,eax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elay, in 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Seconds_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ebx,eax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ave start 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LY1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Seconds_today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the 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  eax,ebx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ubtract from 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eax,ecx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elay finished ye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b   DLY1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f not, continue 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ay_seconds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088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2. The Delay_seconds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14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80880"/>
            <a:ext cx="87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. Memory Models Recognized by MASM (and TAS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924680" cy="220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4280" y="68580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Overlapping Segments in the Hello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89154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c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00  B8 DC 23 8E D8 B4 09 BA‑00 00 CD 21 B8 00 4C CD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10  21 00 00 00 00 00 00 00‑00 00 00 00 00 00 00 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20  48 65 6C 6C 6F 2C 20 77‑6F 72 6C 64 21 0D 0A 24 Hello, world!..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sta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30  F4 B2 56 F6 E2 8B F0 E8‑34 00 A1 28 50 A9 00 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40  74 1E F6 06 1F 49 06 74‑17 F6 06 1F 49 04 74 0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50  50 56 8A 36 22 49 33 F6‑E8 13 00 5E 58 25 FF 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60  B3 01 E8 C1 C8 8B C6 F6‑F2 07 5E 5A 5B C3 32 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etc.)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6200" y="990720"/>
            <a:ext cx="69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 Hexadecimal Dump of the Hello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705720" cy="580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9760" y="152280"/>
            <a:ext cx="54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. Target Processor Direc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47144"/>
          <a:stretch/>
        </p:blipFill>
        <p:spPr>
          <a:xfrm>
            <a:off x="1371600" y="838080"/>
            <a:ext cx="6172200" cy="5213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0840" y="15228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3. Assembler Operators (1 of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0840" y="15228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3. Assembler Operators (2 of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52860" r="0" b="0"/>
          <a:stretch/>
        </p:blipFill>
        <p:spPr>
          <a:xfrm>
            <a:off x="762120" y="762120"/>
            <a:ext cx="769608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05-25T01:00:26Z</dcterms:modified>
  <cp:revision>62</cp:revision>
  <dc:subject/>
  <dc:title>No Slide Title</dc:title>
</cp:coreProperties>
</file>