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383-E612-4D58-9FA1-D649F57A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630-2A2E-46E9-A1C8-1159B5F2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2C9-7F6A-4647-B7DE-44C281DC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336-10D5-42EB-BFC4-44DBA928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5F3-431A-48EC-A4AB-400B35C3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174-213D-4546-9582-D9879ECD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5DD-BF0D-46A7-9160-924D86E5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C18-61FF-45CB-B116-BBC339E5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347-AEED-452C-962E-2EC909A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3FD-1929-4ADD-AF13-2F75C53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74B-65DD-481E-97D1-7EB1ED8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20B-D501-4C1D-A904-351E6FF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8E66-0E6F-4F3F-9AAC-7CDD5C5E6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6: Conditio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10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5216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OR operation between each of the corresponding bits in two operands and places the result in the first oper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581280"/>
            <a:ext cx="396216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ax,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var1,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bl,va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dx,02F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 al,00001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95320" y="31240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5540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CapsLock key corresponds to bit 6 in the keyboard status byte. The following turns on the CapsLock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971800"/>
            <a:ext cx="73152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ax,40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; DOS data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ds,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bx,0017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; keyboard status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  byte ptr[bx],01000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5040" y="30492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XOR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371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XOR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 0 0 1 1 1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XOR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724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OR yields a 1 only when the two input bits are differ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0"/>
            <a:ext cx="7467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1111111b   ; AL = 010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ing any bit with 1 toggles (inverts) the b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038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ing any bit with 0 leaves the bit un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572000"/>
            <a:ext cx="74678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00000000b   ; AL = 1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4000" y="30492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124080"/>
            <a:ext cx="74678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10110011b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0101100b   ; AL = 000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  al,10101100b   ; AL = 1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371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OR operation reverses itself. It is particularly well suited to inverting graphic i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124080"/>
            <a:ext cx="1752480" cy="38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3962520"/>
            <a:ext cx="1752480" cy="380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114800" y="35812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95680" y="43430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3480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NOT (inversion) operation on each of the bits in the opera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276720"/>
            <a:ext cx="7086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 b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h = 00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3480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the operand to its twos complement. It's a good idea to check the Overflow flag after performing a NEG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666880"/>
            <a:ext cx="708660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l,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l = 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a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ah =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l,-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  al             ; al = 80h, OF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67840" y="30492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n implied AND operation between corresponding bits in the two operands. Only the flags are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971800"/>
            <a:ext cx="66294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bl,000000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bl,00000001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ZF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1100110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ah,00110010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ZF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67840" y="30492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llowing will jump to the label PrinterReady if either bit 0, 1, or 2 is set in the AL 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895480"/>
            <a:ext cx="662940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z  Printer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erRe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78760" y="30492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143000"/>
            <a:ext cx="6858000" cy="53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and Comparison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OR, XOR, NOT, NEG,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, BTC, BTR, BTS, BSF, B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P, CMPXC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J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Z, LOOPE, LOOPNZ, LOOP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Logic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, compound IF, WHILE, REPEAT,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of procedure off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934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Machines (F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4572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2. BT, BTC, BTR, and BTS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5720" y="304920"/>
            <a:ext cx="28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657600"/>
            <a:ext cx="56386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x =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x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x,3         ; ax 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n implied subtraction of the source operand from the target operand. Only the flags are aff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743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30481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19520" y="30481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1833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90720" y="304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ags Set by the 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5334120" cy="190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ign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Unsign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7320" y="457200"/>
            <a:ext cx="61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.  Using the CMP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120" y="1905120"/>
            <a:ext cx="594144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10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1, Z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cx,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cx,ax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0, ZF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i,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si,0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F=0, ZF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Do-While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057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4. Jumps Based on General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60195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304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5. Jumps Based on Unsign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388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4320" y="10152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6. Jumps Based On Signed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8720" y="2209680"/>
            <a:ext cx="84560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       mov   small,al      ; assume AL is the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:       cmp   small,bl      ; if small &lt;= BL 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       jbe   L1            ;   jump to L1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:       mov   small,bl      ; else move BL to small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  L1:  cmp   small,cl      ; if small &lt;= CL the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:       jbe   L2            ;   jump to L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       mov   small,cl      ; else move CL to small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:  L2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57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ing the Smallest of Three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6800" y="22860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3. Single Character Encryption Using X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1143000"/>
            <a:ext cx="78616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VAL = 239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ny value between 0–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 mov   ah,6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rect console input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0FFh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on’t wait for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   L2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quit if ZF = 1 (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   al,XO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h,2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write to 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L1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peat th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 mov   ax,4C00h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. Boolean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9400" y="22860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Testing the Isalpha Procedure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5080" y="990720"/>
            <a:ext cx="763308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 Test Alphabetic Input           (ISALPHA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s program reads and displays character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until a non–alphabetic character is ent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mov  ah,1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put a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alpha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est value in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z  ex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exit if not alphab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L1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ontinu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4C00h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9400" y="30492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Testing the Isalpha Procedure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120" y="914400"/>
            <a:ext cx="74502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salpha sets ZF = 1 if the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 AL is alphabe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alpha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 ax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ave 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  al,11011111b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onvert to upper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A’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eck ‘A’...’Z’ 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   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 ax,0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1: pop ax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store 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alpha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49440" y="30492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st and Smallest Signed Array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9760" y="2286000"/>
            <a:ext cx="598716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mallest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rgest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X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while CX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 = array[cou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X &lt; smallest) then smallest =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AX &gt; largest) then largest =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 = count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X = CX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code for a simple loop that finds the largest and smallest values in an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1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9880" y="2438280"/>
            <a:ext cx="734364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gest  dw 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est dw 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 dw  –1,2000,–421,32767,500,0,–26,–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Count = ($-array) / (type 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rgemsg db "Largest value:  "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msg db "Smallest value: "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066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algorithm implemented in an assembly languag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7150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2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6680" y="1143000"/>
            <a:ext cx="799884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Clrscr:proc, Crlf:proc, Writeint_signed:proc, 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string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i,offset 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[di]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first 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largest,ax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mallest,ax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itialize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cx,arrayCount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 mov  ax,[di]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array 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x,smallest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[DI] &gt;= small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e  A2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yes: sk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mallest,ax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no: move [DI] to 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6324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76160" y="3049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5. Largest and Smallest Signed Array Values (3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720" y="1828800"/>
            <a:ext cx="77702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: cmp  ax,largest     ; [DI] &lt;= large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  A3             ; yes: sk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largest,ax     ; no: move [DI] to 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3: add  di,2           ; point to next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A1             ; repeat the loop until C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how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       ; return to 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5562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160" y="3049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. Largest and Smallest Signed Array Values (4 of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143000"/>
            <a:ext cx="77724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splay the largest and smallest 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Results proc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x,offset largemsg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larg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int_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x,offset smallms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small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Writeint_signed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Results endp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39000" y="30492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124080"/>
            <a:ext cx="792468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z   al             ; set AL to 1 if ZF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e   al             ; set AL to 1 if ZF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nc  myFlag         ; set myFlag to 1 if C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e  myFlag         ; set myFlag to 1 if C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ge  byte ptr [si]  ; set [si] to 1 if SF = 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nbe byte ptr [si]  ; set [si] to 1 if SF = 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219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struction sets a byte operand to 1 if a given condition is true, or to 0 if the condition is false. Here ar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29680" y="304920"/>
            <a:ext cx="66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Loops (LOOPZ and LOO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830592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array dw 0,0,0,0,1,20,35,–12,66,4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ize = ($–intarray) / (type int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bx,offset intarray ; point to the 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   bx,2               ; back up one 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cx,ArraySize       ; repeat ArraySize tim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   bx,2               ; point to next 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   word ptr [bx],0    ; compare value to zer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z next               ; while ZF=1 and CX &gt; 0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066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Z and LOOPE instructions allow a loop to continue if ZF =1 and CX &gt; 0. The following example scans an array looking for a nonzero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57560" y="30492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77724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   [bx],ax  ; compare array value to 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   bx,2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; point to next entry, ZF = 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z next     ; error: Zero flag has 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not to modify the flags prior to to a conditional LOOP i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44760" y="3049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AND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AND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438280" y="30492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PNZ and LOOP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2819520"/>
            <a:ext cx="64771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ytearray db  ‑3,‑6,‑1,‑10,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30,40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ize  = ($–array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si,offset bytearray‑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 cx,Arra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   si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  byte ptr [si],10000000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nz next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OPNZ and LOOPNE instructions continue the loop as long as ZF=0 and CX &gt; 0. The following loop scans an array until a positive integer is f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59640" y="304920"/>
            <a:ext cx="45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-Level Logic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1676520"/>
            <a:ext cx="464832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IF Using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IF Using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-WHIL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0960" indent="-23832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-UNTI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755080" y="304920"/>
            <a:ext cx="33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IF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514600"/>
            <a:ext cx="32004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x,o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e  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mp 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31240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X = op2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1828800"/>
            <a:ext cx="312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800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IF Statement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e for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3276720"/>
            <a:ext cx="320040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x,o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514600"/>
            <a:ext cx="31240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X = op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count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51460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219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ng the condition enables you to shorten the implementation by one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44480" y="304920"/>
            <a:ext cx="56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IF Statement Using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286000"/>
            <a:ext cx="29718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 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e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 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(AL = o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6400" y="30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und IF Statement Using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= o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2286000"/>
            <a:ext cx="297180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e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404440" y="30492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bining AND an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371600"/>
            <a:ext cx="304812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udo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L &gt; o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AL &gt;= o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(AL = B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flag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 count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523880"/>
            <a:ext cx="3124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286000"/>
            <a:ext cx="29718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 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al,o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ge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1: cmp  al,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2: mov  flag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count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88640" y="380880"/>
            <a:ext cx="48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6. Do-While Loop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600200"/>
            <a:ext cx="739152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mbly 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Pseudo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 op1,op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op1 &lt; op2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nl  L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1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&lt;statement1&gt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op2,op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p2 = op3 the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ne L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2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2&gt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atement3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3&gt;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p L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1: &lt;statement4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&lt;statement4&gt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2: jmp 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3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34720" y="380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4.  Repeat-Unti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1640" y="2057400"/>
            <a:ext cx="551484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3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til (op1 = op2) or (op1 &gt; op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419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this loop in assembly langu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295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following structu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2880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-Unti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400" y="1447920"/>
            <a:ext cx="841032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:       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:          &lt;statement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:          &lt;statement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:          &lt;statement3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:       test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:          cmp  op1,op2    ; if op1 = op2 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:          je   endif      ;   exit the 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:       test2:             ; 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9:          cmp  op1,op3    ;   if op1 &lt;= op3 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:          jng   repeat    ;     repeat the 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:       endif:             ;   end 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:                          ; end 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3408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0 1 0 0 0 0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AND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747880" y="22860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5  CAS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048120"/>
            <a:ext cx="47246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inpu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  :Process_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'  :Process_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C'  :Process_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D'  :Process_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219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E structure allows a multiway branch by comparing a single value to a list of values. This example is taken from Pas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960" y="30492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ing the Case in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209680"/>
            <a:ext cx="77724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l,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se al 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A’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A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   Process_A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  goto Proces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B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B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   Process_B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goto Process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C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C’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    Process_C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goto Process_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al,’D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D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219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direct implementation involves CMP and conditional jump instru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2578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you can also call procedures and jump to an ending lab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16000" y="30492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9. Case Structure Using Procedur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057320"/>
            <a:ext cx="81532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 al,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ase al 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  al,’A’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A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A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ll Proces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cmp    al,’B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B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B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cmp    al,’C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C’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3     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C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 L4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jump to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3: cmp    al,’D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‘D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 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  Process_D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     call Process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:         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 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5000" y="2541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10. Table Containing Offsets of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0920" y="3254400"/>
            <a:ext cx="810576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Table  db   ‘A’           ; lookup 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A     ; address of 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C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   ‘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   Process_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ble may contain lookup values and corresponding procedure offsets. Unlike a case structure, this table can be modified at run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08720" y="38088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 1. Table of Procedure Off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248520" cy="1633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13716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's assume that four different procedures are located at offsets 0120, 0130, 0140, and 0150, respectively. This is how the table would look in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05920" y="254160"/>
            <a:ext cx="62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 11. Case Table Lookup Using a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8720" y="2590920"/>
            <a:ext cx="84560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OfEntries = 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 dw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l,input            ; value to be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bx,offset CaseTable ; point BX to the 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NumberOfEntries  ; loop counter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mp  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       ;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 match 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e   L2                  ; no: 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all  word ptr [bx+1]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; 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yes: call the 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  L3                  ; exit the 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 add   bx,3                ; point to next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                  ; repeat until CX =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 matches a character in the table, the following code calls the procedure whose address is located in the table immediately following the matching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12560" y="304920"/>
            <a:ext cx="43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 2. Finite-State Mach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572000" cy="2806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1219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te-state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SM) is a connected graph consisting of nodes and directed arcs. Each arc shows a possible transition between states, and each node represents a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terminal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 3. FSM for a String Beginning With X and Ending with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724280" cy="2931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1219320"/>
            <a:ext cx="8001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atching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abcfg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uytr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aaaaa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rwoiuoeruo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yyyaaayay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99600" y="304920"/>
            <a:ext cx="60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4. Signed Decimal Integer FS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410440" cy="3062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09480" y="121932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atching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8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3049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1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960" y="1295280"/>
            <a:ext cx="795312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 Finite State Machine           (fsm.a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Chapter 6 example. Implementation of finit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state machine that accepts an integer with an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optional leading sign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S_CHAR_INPUT = 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_KEY = 0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alidInputMessage db "Invalid input",0dh,0ah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3408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a boolean AND operation between each of the corresponding bits in two operands and places the result in the first opera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3581280"/>
            <a:ext cx="396216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x,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var1,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bl,va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dx,02F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l,00001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1240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320" y="31240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95280" y="3049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2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" y="1143000"/>
            <a:ext cx="854748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Writestring:proc, Crlf:proc, Clrscr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ds,ax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al,’+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eading + 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 StateB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o to State 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al,’–’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eading – sig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e StateB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o to State 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71600" y="2286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3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680" y="990720"/>
            <a:ext cx="854748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e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Getnex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next char into 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  Exit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quit if Enter p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Isdigit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F = 1 if AL contains a 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 Sta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DisplayError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nvalid input 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 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2160" y="1143000"/>
            <a:ext cx="809028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 char from standard input into 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 if Enter key was 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xt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h,DOS_CHAR_INPUT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ad standard 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21h   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ENT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next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 if the character in AL is a dig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digit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al,’9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   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  ax,0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t ZF = 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: 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digit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30492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4 of 5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7920" y="457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 12. FSM for Signed Decimal Input (5 of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8320" y="1806480"/>
            <a:ext cx="642888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 Display error mes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Error 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 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  dx,offset InvalidInput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  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playError 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324480" cy="4911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065600" y="38088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7. Conditional Jumps, Flag Settings (Question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36960" y="30492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066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llowing will jump to the label PrinterReady if bits 0, 1, and 2 are all set in the AL regi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66294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 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00001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e   Printer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erRe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63200" y="30492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olean OR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a truth table, showing the results of ORing individual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8120" y="3657600"/>
          <a:ext cx="2819160" cy="167652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18288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971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it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152160" y="304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971800"/>
            <a:ext cx="510516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1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 0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-2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 0 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sult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1 1 0 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t in the result is created by ORing each of the input bits in the same 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10-28T11:56:39Z</dcterms:modified>
  <cp:revision>191</cp:revision>
  <dc:subject/>
  <dc:title>No Slide Title</dc:title>
</cp:coreProperties>
</file>