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D488-837A-4656-8D62-5B3E8DFA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5AA8-E473-4F74-8A2D-426971C3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3E0D-CFAF-469C-B1B4-91166C4D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3E8-7C37-4CF0-898F-4A30EC68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1D6D-4B58-4BDD-B989-6B74DC1E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18F0-29CB-44E7-8A8E-EAFBAD5E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EA3-4A80-437F-A5C6-D4EFBD78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31F-83A1-4977-9072-2A487E19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8938-C0EA-40AF-8DB5-C60D888E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849-AE51-44BB-8F1A-4737B170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3FE2-8EF5-44AD-BC88-0BD4D970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A17E-44AF-460B-9CAB-AA60ECC2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26D6-D0AA-4B6A-9331-7F23D5A54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pter 5: Procedures and Inter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562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1999-2000, Prentice-Hall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10/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9718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to Accomp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Language for Intel-Based Compute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3680" y="304920"/>
            <a:ext cx="72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3. Demonstration of Subroutine Calls (2 of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2840" y="1143000"/>
            <a:ext cx="850176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 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x,@data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et up the DS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ds,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 inputChar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input keyboard into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char,AL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tore in a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Prepare to call the calcSum proced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bx,offset array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BX points to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cx,array_size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CX = array 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 calcSum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calculate 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sum,ax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tore in a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x,4C00h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return to 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 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 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7360" y="228600"/>
            <a:ext cx="72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3. Demonstration of Subroutine Calls (3 of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2640" y="762120"/>
            <a:ext cx="7396920" cy="57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putChar proc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input character from keyboar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h,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  21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putChar end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Calculate the sum of an array of integers. Input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BX points to the array and CX contains th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array size. Returns the SUM in AX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calcSum proc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ush  bx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save BX, C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ush  c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x,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CS1: add   ax,[bx]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dd   bx,2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point to next integ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loop  CS1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repeat for array siz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op   cx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restore BX, C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op   b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ret   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sum stored in A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calcSum end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09080" y="380880"/>
            <a:ext cx="55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4. Nested Procedure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981080"/>
            <a:ext cx="4286160" cy="46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pr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A    call sub1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C    mov  ax,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endp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1 proc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sub2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50    ret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1 endp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2057400"/>
            <a:ext cx="4114800" cy="52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2 proc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sub3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60    ret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2 endp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3 proc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3 e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01360" y="457200"/>
            <a:ext cx="73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. Stack Usage when calling a NEAR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8487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5480" y="533520"/>
            <a:ext cx="72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2. Stack Usage when Calling a FAR Proced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4678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4  Software Interru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ardware interru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interruption of the currently running program by the 8259 interrupt controller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oftware interru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all to an operating system fun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use software interrupts primarily for input-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S (INT 21h)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 21h instruction activates a DOS function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number (0-255) is placed in the AH register before invoking INT 21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unctions require that you assign values to certain registers before invoking INT 21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unctions return values in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28200" y="457200"/>
            <a:ext cx="59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3. Interrupt Vectoring Pro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693432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 instruction is always followed by a hexadecimal number that identifies its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are common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10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deo B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14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erial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16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eyboard B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17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inter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1A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ime of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1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ser ti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21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OS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00320" y="482760"/>
            <a:ext cx="59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1. Standard DOS Devic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08660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 Operations (PUSH and P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Inte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-DOS (INT 21h) Function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S Keyboard Input (INT 16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S Video Control (INT 10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44120" y="1752480"/>
            <a:ext cx="756216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1760" indent="-3463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ed Input With 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3463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6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Input Without 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3463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Input, No Ctrl-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3463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8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Input with Ctrl-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3463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A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ed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3463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B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Inpu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3463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 Input Buffer, Invoke Inpu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3463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F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From File or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457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21h Functions for Standard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7086600" cy="2498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46240" y="609480"/>
            <a:ext cx="65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2. INT 21h Console Inpu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3808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4. Keyboard Parameter Recor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INT 21h (0A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400800" cy="1940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3962520"/>
            <a:ext cx="723924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19320" y="4572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21h (3Fh)  Read from File or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0360" y="1828800"/>
            <a:ext cx="7998840" cy="39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Buffer db 127 dup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ax,@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ds,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ah,3Fh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read from file/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bx,0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device = key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cx,127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request 127 bytes max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dx,offset input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21h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AX = number of chars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4572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21h (2Ah) Get Date,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(2Bh) Set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3840" y="2286000"/>
            <a:ext cx="3746880" cy="24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h,2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 21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year,c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month,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day,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dayOfWeek,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3920" y="2209680"/>
            <a:ext cx="301536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h,2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cx,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dh,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dl,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 21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mp  al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ne  bad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2800" y="2590920"/>
            <a:ext cx="3381120" cy="20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h,2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 21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hours,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minutes,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seconds,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6200" y="2514600"/>
            <a:ext cx="338112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ah,2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ch,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cl,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dh,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 21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mp  al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ne  ba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3808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21h (2Ch) Get Time,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NT 21h (2Dh) Se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696080" cy="4951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086120" y="330120"/>
            <a:ext cx="69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3. INT 16h BIOS Keyboar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696080" cy="3450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08000" y="45720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5. Keyboard Status B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board Input Using INT 16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ah,10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wait for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 16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AH=scan code, AL=ASCII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6002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T 16h when you want to input any key, including function keys, arrow keys, and other extended k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board Scan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3657240"/>
            <a:ext cx="3657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1 function 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B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2 function 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3 function 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D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4 function 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E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37160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eyboard scan code is a unique 8-bit binary number associated with a particular keyboard key. A list of frequently used codes is inside the front cover of the book. Here are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3657600"/>
            <a:ext cx="2361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7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F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gU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9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gD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1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4267440" cy="388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00200" y="380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SH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895480"/>
            <a:ext cx="31240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ax,00A5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9800" y="380880"/>
            <a:ext cx="70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4. Common ASCII Control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62012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19529" r="0" b="0"/>
          <a:stretch/>
        </p:blipFill>
        <p:spPr>
          <a:xfrm>
            <a:off x="914400" y="2133720"/>
            <a:ext cx="7620120" cy="125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99600" y="457200"/>
            <a:ext cx="59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6. Video Attribute Byte 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71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SDOS mode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5053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88620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program is running in an MS-DOS window under Windows/NT, your background color will be stored in bits 4-7 of the attribute bit, and blinking will be disab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850400" y="304920"/>
            <a:ext cx="535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6.  3-bit Background Col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3915000" cy="4190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14400" y="99072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background colors are used only when running in full-screen mode or in pure MSDOS mode (by rebooting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681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808640" y="406440"/>
            <a:ext cx="52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7. 4-bit Foreground Col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681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389320" y="406440"/>
            <a:ext cx="40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-bit Background Col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6480" y="330120"/>
            <a:ext cx="70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9. Listing of INT 10h Functions (1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43911"/>
          <a:stretch/>
        </p:blipFill>
        <p:spPr>
          <a:xfrm>
            <a:off x="1143000" y="1066680"/>
            <a:ext cx="6858000" cy="52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96480" y="406440"/>
            <a:ext cx="70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9. Listing of INT 10h Functions (2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55804" r="0" b="0"/>
          <a:stretch/>
        </p:blipFill>
        <p:spPr>
          <a:xfrm>
            <a:off x="609480" y="1295280"/>
            <a:ext cx="7696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98880" y="254160"/>
            <a:ext cx="65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7. Switching Video Pages (1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1640" y="1143000"/>
            <a:ext cx="8318880" cy="51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itle   Video Pages Example          (PAGES.ASM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This program switches back and forth betwee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text pages 0 and 1 on a color display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model smal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stack 100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age0  db  'This is video page zero.$'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age1  db  'This is video page one.$'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ain pro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x,@data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initialize DS regis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ds,a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h,9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display a mess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dx,offset page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  21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h,1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get a keystrok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  21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61080" y="330120"/>
            <a:ext cx="65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7. Switching Video Pages (2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680" y="1144440"/>
            <a:ext cx="7671240" cy="51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o_page_1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h,5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set video p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l,1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to page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  10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h,9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display a mess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dx,offset page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  21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h,1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get a keystrok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  21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o_page_0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h,5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set video p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l,0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to page 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  10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ov   ax,4C00h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 return to D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t   21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main end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ma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56080" y="457200"/>
            <a:ext cx="52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10h (06h) Scroll Window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6200" y="3048120"/>
            <a:ext cx="7495920" cy="27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ah,6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scroll window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al,5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scroll 5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ch,0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upper left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cl,0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upper left colum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dh,24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lower right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dl,79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lower right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bh,7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attribute for blank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  10h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call B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95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scroll a window up, existing lines of text are moved upward and one or more blank lines are created. You can assign a color to the blank l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4343400" cy="4024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14400" y="4572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tack, after pushing 0001 and 0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55360" y="457200"/>
            <a:ext cx="45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roll (clear) Entire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6200" y="3048120"/>
            <a:ext cx="7495920" cy="27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ah,6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scroll window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al,0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entire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ch,0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upper left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cl,0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upper left colum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dh,24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lower right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dl,79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lower right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bh,7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attribute for blank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  10h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call B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16765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set AL to zero, all lines in the window are scrolled. This clears the wind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85240" y="482760"/>
            <a:ext cx="56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10h (07h) Scroll Window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84600" y="3657600"/>
            <a:ext cx="68101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h,7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croll window 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l,1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croll one r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ch,0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upper left 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cl,0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upper left colum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dh,24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lower right 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dl,79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lower right colu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bh,0F1h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blank line's attribu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 10h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call B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37160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scrolls all lines within a window in the downward direction by one row. The blank line's attribute is blue text on a white background (1111000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4120" y="533520"/>
            <a:ext cx="613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 10h (2h) Set Cursor Position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 10h (08h) Read Character and 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60" y="1905120"/>
            <a:ext cx="7175880" cy="33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h,2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et curso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bh,0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on video pag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dx,0501h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at row 5,colum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 1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ch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h,8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read char/at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bh,0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on video pag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 1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char,al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ave the 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ttrib,ah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save the at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26000" y="558720"/>
            <a:ext cx="72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 10h (09h) Write Character and Attrib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7880" y="3352680"/>
            <a:ext cx="7633080" cy="18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h,9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write character and at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al,0Ah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ASCII character 0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bh,0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video pag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bl,2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color (attribute) =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cx,1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display it on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 1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82880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unction does not advance the cursor, so you have to do that sepa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20160" y="457200"/>
            <a:ext cx="73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vancing the Cursor one Column to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7080" y="3276720"/>
            <a:ext cx="612432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ah,3      ; get cursor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bh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 10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dl        ; increment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ah,2      ; set cursor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 10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16765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t the current cursor position, add 1 to DL, and set the new cursor 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2600" y="457200"/>
            <a:ext cx="72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0. Direct Video Procedures in the Link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8076960" cy="3114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3520" y="121932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Windows 2000, you can see the output of these functions while debugging in CodeView, but if you run the program in a Command window, they do not generate any outp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3520" y="3808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ursion - A Procedure Calling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447920"/>
            <a:ext cx="72388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01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on happens under the following circumsta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01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dure directly calls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01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A calls one or more other procedures, and somewhere in the execution of these, one of them calls Procedure A.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direct recur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01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ust be a way to stop the recursion, or it will run out of control. A conditional jump is usually used to accomplish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01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23880" y="380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ursion Example: Sum of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9520" y="1295280"/>
            <a:ext cx="8364600" cy="48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 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cx,5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ax,0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holds the 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Sum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find sum of 5+4+3+2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:  mov  ax,4C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21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 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   cx,cx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check counter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z   L2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quit if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ax,cx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otherwise, add to 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c  cx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decrement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Sum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recursive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2:  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68040" y="406440"/>
            <a:ext cx="69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11. Stack Frame for the Sum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9436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99240" y="406440"/>
            <a:ext cx="68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9. The Factorial Procedure (1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2819520"/>
            <a:ext cx="8229600" cy="25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pr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0       mov  ax,8      ; calculate 8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3       push 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4       call Factorial ; return value in 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7       mov ax,4C00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0A       int 21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e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129528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actorial procedure calculates the factorial of the number passed to it in the AX register. The calculated value is returned in A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4952880" cy="4024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3808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fore and after popping a value from the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70640" y="457200"/>
            <a:ext cx="68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9. The Factorial Procedure (2 of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1295280"/>
            <a:ext cx="7238880" cy="48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ctorial 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C       push 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D       mov  bp,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F       mov  ax,[bp+4]  ; get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2       cmp  ax,1       ; n &lt;= 1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5       ja   L1         ; no: 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7       mov  ax,1       ; yes: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A       jmp  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D  L1:  dec  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E       push ax         ; Factorial(n‑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F       call Fac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22       mov  bx,[bp+4]  ; get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25       mul  bx         ; ax = ax * 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27  L2:  pop  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28       ret  2          ; AX =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ctorial en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0640" y="482760"/>
            <a:ext cx="71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e 8. Stack Frame, Factorial Prog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19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58800" y="482760"/>
            <a:ext cx="55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 12. Examples for Question 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6858000" cy="3394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219320" y="13716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the required bit pattern for each of the following col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2133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1295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s of the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and restore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he return address when a CALL instruction i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parameters on the stack before calling a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ocal variables inside a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ack fr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s passed parameters, the return address, and local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3808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1. Calling a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371600"/>
            <a:ext cx="647712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pr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ax,@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ds,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My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ax,4c00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 21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e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ub pr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ub e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8080" y="380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2. Avoid Overlapping Procedur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1523880"/>
            <a:ext cx="579096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pr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subroutin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routine1 pr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e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routine1 e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1400" y="304920"/>
            <a:ext cx="72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3. Demonstration of Subroutine Calls (1 of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95280"/>
            <a:ext cx="7391520" cy="45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tle  Subroutine Demonstration  (SUBS.A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This program calls two subroutines: one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keyboard input, another to add the ele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in an array of integ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model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stack 1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 db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  dw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 dw 100h,200h,300h,400h,500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_size = ($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rray) /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3:44:54Z</dcterms:created>
  <dc:creator>Kip Irvine</dc:creator>
  <dc:description/>
  <dc:language>en-US</dc:language>
  <cp:lastModifiedBy>Kip Irvine</cp:lastModifiedBy>
  <dcterms:modified xsi:type="dcterms:W3CDTF">2000-10-27T06:46:54Z</dcterms:modified>
  <cp:revision>173</cp:revision>
  <dc:subject/>
  <dc:title>No Slide Title</dc:title>
</cp:coreProperties>
</file>