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EE4-179C-4DD4-B82B-196F0302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F33-0BC1-453B-93BC-DA346BC1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52F-3833-4B56-A8B3-3936940A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C52-4404-4280-ADD0-2E06C060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EDF-FAE9-4384-A99E-D30E65AA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269-457C-4C36-963E-805E152D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9AC-2D50-4817-94E4-7F8D0447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4DF-EB54-46AE-A1D0-87145246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F88-474F-4CEF-9110-789C957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9E3-10E0-4E22-A7F4-77EB7ED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3DD-556F-40A6-AADD-F9A4214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6CF-F011-4E4E-A9F1-C8F0A9CD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E672-B5A4-4997-9C1A-253B78AE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4: Using the Assemb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05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19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5040" y="8380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4. Operator Precedenc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47676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rect Operands, Page 1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828800"/>
            <a:ext cx="83822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ist db 10h,20h,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   db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bx,offset aList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3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l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L = 6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si,offset su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offset of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[si],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tore the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1400" y="68580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Adding Several 8-bit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200400"/>
            <a:ext cx="80010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List dw 1000h,2000h,30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      dw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bx,offset word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ax,[bx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first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x,[bx+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econd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ax,[bx+4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third 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[bx+6],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tore the 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880" y="53352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4. Adding 16-bit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39621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676520"/>
            <a:ext cx="81536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 db "This is a string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 = ($ – string)   ; calculate string 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COU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si,offset string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h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isplay the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l,[s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a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   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next 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crement CX, repeat until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5720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5. Displaying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752480"/>
            <a:ext cx="83059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array dw 100h,200h,300h,4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 = ($ – intarray) / 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ax,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zero the accu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di,offset intarray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ddress of int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 cx,COU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loop 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 ax,[d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add an 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 di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next 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  L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repeat until CX =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880" y="53352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6. Summing an Integer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772400" cy="269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914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and Indexed Operands, Page 1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086600" cy="136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ay Example, Page 1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-Index Operands, Page 1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9343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360" y="1828800"/>
            <a:ext cx="8136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OWSIZE = 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  db 10h, 20h, 30h, 40h, 50h, 60h, 70h, 80h, 9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 0A0h, B0h, 0C0h, 0D0h, 0E0h, 0F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bx,offset arra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point to the array at 0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  bx,ROWSIZ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oose second 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si,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chose third 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al,[bx + si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the value at 01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52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7. Two-Dimensional Array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3640" y="1522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. Sample Source Listing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8400" y="838080"/>
            <a:ext cx="905040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change Two Variables                 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AMPLE.AS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  B8 0000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initialize DS 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3  8E D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5  A0 0000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l,value1 ; load the AL 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8  86 06 0001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chg  al,value2 ; exchange AL, valu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C  A2 0000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value1,al ; store new value of 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F  B8 4C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4C00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; return to 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2  CD 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  0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1  db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1  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2  db 1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010640" cy="1393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5335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-Index with Displacement, Page 1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990720"/>
            <a:ext cx="6781680" cy="54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:    title Mismatching Operand Size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: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:    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:    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:    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:    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value1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h,valu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 ax,4C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:   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:  value1   db   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:  value2   dw    10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:  end 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9): warning A4031: Operand types must 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0): warning A4031: Operand types must 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680" y="30492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8. Program with Mismatching Operand Si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74600" y="762120"/>
            <a:ext cx="551484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:   title Miscellaneous Errors 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: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:   .model 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:   .stack 1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:   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:   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:        mov  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:        mov  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:        mov   ax,bx * c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:        mov   bx,value1 * 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:        mov   byte ptr value3, 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2:        mov   cx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3:        mov   cs,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4:        mov   ax,4C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5:        int   21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:    main 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7:   .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:   value1   db    0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9:   value2   db    14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:   value3   dw    1000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:   end 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2040" y="22860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9. Program with Miscellaneous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400800" cy="561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8000" y="228600"/>
            <a:ext cx="76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Selected Procedures in the Link Libra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573588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9400" y="15228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5. Selected Procedures in the Link Library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486400" cy="54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2320" y="380880"/>
            <a:ext cx="66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6. Data Types for the EXTRN Dir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9520" y="673200"/>
            <a:ext cx="692460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itle Link Library Demo Program           (lnkdemo.as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This program calls various I/O proced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in the link librar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model sm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stack 100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iteOnBlue = 1F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reetingLoc = 0400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reeting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Link Library Demo Program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0dh,0ah,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What is your name? ",0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umberPrompt db 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Please enter a 16–bit integer: "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50 dup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essAnyKey  db 0dh,0ah,0dh,0a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b "Press any key..."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xtrn Clrscr:proc, Crlf:proc, Gotoxy:proc, \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adint:proc, Readstring:proc, Scroll:proc, \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adkey:proc, Writeint:proc, Writestring:pro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244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08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7160" y="762120"/>
            <a:ext cx="6733800" cy="57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 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ax,@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ds,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Clear the screen, scroll a blue 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cx,0400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upper–left 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0B28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lower–right 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bh,WhiteOn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Scr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Display a greeting and ask for the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user’s 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GreetingL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Got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offset gr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dx,offset user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ead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2440" y="22860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0. Link Library Demo Progra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4920" y="762120"/>
            <a:ext cx="623880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Ask the user to enter a signed decimal integ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Redisplay the number in hexadecimal and binar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dx,offset numberPromp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Readin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input an inte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bx,16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display in hexadecim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bx,2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display in bina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int 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 dx,offset pressAny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Writest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Read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ll Clrsc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ov ax,4c00h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; end prog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 21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ain endp  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 ma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28600" y="1371600"/>
            <a:ext cx="907560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rn Randomize:proc, Random_range:proc, WriteInt:proc, Crlf: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ando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cx,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1: mov  eax,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Random_range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EAX = random 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  bx,10    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 decimal rad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WriteInt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 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 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520" y="4572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1. Generating Random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59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920" y="68724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1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ing and Linking with MS-DOS Batch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6360" y="990720"/>
            <a:ext cx="74502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rn Seconds_today: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ay_seconds 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ecx,ea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lay, in 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econds_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  ebx,ea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ave start 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LY1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 Seconds_today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get the 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  eax,eb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subtract from 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  eax,ecx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delay finished y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   DLY1         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 if not, continue 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ay_seconds 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8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2. The Delay_second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14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80880"/>
            <a:ext cx="87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. Memory Models Recognized by MASM (and TAS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2468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4280" y="6858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Overlapping Segments in the Hello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89154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00  B8 DC 23 8E D8 B4 09 BA‑00 00 CD 21 B8 00 4C CD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10  21 00 00 00 00 00 00 00‑00 00 00 00 00 00 00 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20  48 65 6C 6C 6F 2C 20 77‑6F 72 6C 64 21 0D 0A 24 Hello, world!..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st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30  F4 B2 56 F6 E2 8B F0 E8‑34 00 A1 28 50 A9 00 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40  74 1E F6 06 1F 49 06 74‑17 F6 06 1F 49 04 74 0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50  50 56 8A 36 22 49 33 F6‑E8 13 00 5E 58 25 FF 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000:0060  B3 01 E8 C1 C8 8B C6 F6‑F2 07 5E 5A 5B C3 32 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etc.)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6200" y="99072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Hexadecimal Dump of the Hello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0572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9760" y="15228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. Target Processor Dir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47144"/>
          <a:stretch/>
        </p:blipFill>
        <p:spPr>
          <a:xfrm>
            <a:off x="1371600" y="838080"/>
            <a:ext cx="6172200" cy="521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0840" y="1522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Assembler Operators (1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0840" y="15228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3. Assembler Operators (2 of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52860" r="0" b="0"/>
          <a:stretch/>
        </p:blipFill>
        <p:spPr>
          <a:xfrm>
            <a:off x="762120" y="762120"/>
            <a:ext cx="76960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05-25T01:00:26Z</dcterms:modified>
  <cp:revision>62</cp:revision>
  <dc:subject/>
  <dc:title>No Slide Title</dc:title>
</cp:coreProperties>
</file>