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816-EE3B-44A5-9E1C-86FDF0B3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10A-EDA9-46B6-BCB1-D89BFA31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F28-0CFC-483F-9F2D-D7AC0166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089-D58A-461A-9520-66F65D5B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CF6-C897-4A69-9684-C59B4BF2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525-A7F1-4DDD-9FDE-104DE12D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FF2-5C58-41F9-80DA-E71ACA8D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9D5-3C9C-4A16-BFDA-F3FB3A99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1FD-CEAD-4437-B52B-A3AA8421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E1E-48D6-4AE5-B561-888546E3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ECF-CA35-4BF0-9238-5949D5B3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5A7-7383-4549-9AD1-6591BEEB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38D7-6CE4-4973-88BE-4F5D5DF32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3: Assembly Language Fundament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05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553080" cy="4697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457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3. Memory Operand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10280" cy="4798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609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4. Examples for Review Question 4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5042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380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5.  Examples for Review Question 4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1295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228600"/>
            <a:ext cx="739152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. The Hello World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tle Hello World Program         (hello.a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This program displays “Hello, world!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 db “Hello, world!”,0dh,0ah,’$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h,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x,offset 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4C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400800" cy="451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3680" y="533520"/>
            <a:ext cx="55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. Standard Assembler Direc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7924680" cy="223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7000" y="1219320"/>
            <a:ext cx="60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. The Assemble-Link-Execute Cycl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7315200" cy="3039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7880" y="990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. Files Created by the Assembler and Lin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553080" cy="3406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7621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4  Data Allocation Dir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828800"/>
            <a:ext cx="8381880" cy="42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       = 10 * 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Evaluates an 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Int   = 7FFF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; Maximum 16-bit 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Int   = 8000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; Minimum 16-bit 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UInt  = 0FFFF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Maximum 16-bit un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   = ‘XY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; Up to two characters 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    = 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value = count + 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an use a predefined 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3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Long  = 7FFFFFFF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Maximum 32-bit 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Long  = 80000000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Minimum 32-bit 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ULong = 0FFFFFFFF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Maximum 32-bit un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5.1  Equal-Sign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105520" cy="5006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1400" y="457200"/>
            <a:ext cx="62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2. Using the Equal-Sign Dir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0920" y="230040"/>
            <a:ext cx="53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3. Exchanging Two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760" y="853920"/>
            <a:ext cx="7495920" cy="57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tle Exchange Two Variables        (Exchange.a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1 db 0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2 db 14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@data      ; initialize DS 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l,value1     ; load the AL 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hg value2,al     ; exchange AL and 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value1,al     ; store AL back into 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4C00h      ; exit 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05-23T05:05:53Z</dcterms:modified>
  <cp:revision>54</cp:revision>
  <dc:subject/>
  <dc:title>No Slide Title</dc:title>
</cp:coreProperties>
</file>