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AD3-7F1E-424C-8C2D-BB493F4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D95-AC4E-44D0-90D1-06188B1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07C-E28A-416E-8C5E-4FB58A3E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8D8-9683-4974-9A94-89D1DE5C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6AB-8CC6-402E-95F7-6120412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367-E7A8-4F45-B32A-1F75B38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75E-B85E-4BF9-B441-A79211C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FF9-38CD-4119-80E1-5F1EE379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E1F-21F3-4CB1-BA76-F61ED42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AAA-B764-4F4A-B487-C304974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D07-3897-4098-BC79-CA942E7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081-A71F-4150-A65B-B491188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BE7-AB9E-45EE-A794-1D0A2248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2: Hardware and Softwar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45864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implified CPU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641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024520" cy="458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3480" y="5335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Intel 16-bit Regi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25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990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gs Register, page 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10000" cy="40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4200" y="838080"/>
            <a:ext cx="44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The 32-bit Register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48913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9907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Map of the First Megabyte of PC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76892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609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ap of the BIOS Data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7816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8240" y="15238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Serial Port Configu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4:10Z</dcterms:modified>
  <cp:revision>50</cp:revision>
  <dc:subject/>
  <dc:title>No Slide Title</dc:title>
</cp:coreProperties>
</file>