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99B-D32F-42FB-9A5E-6403A3FA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DA8-6BCC-4F3C-B636-28FDF79D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44C-7CEC-445A-86B1-AF7D16CC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916-9B7F-42FE-A7D2-BE809D88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875-B49D-4E9D-ADCF-893CF64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D60-3BF4-4178-B305-BFDD1427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BDF-58EA-4057-820B-A5C181E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B29-2C65-4695-8704-367A69D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CF-F934-4B33-8642-DBFCF601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F2A-59CB-4FDF-9D49-C522BC7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447-B642-487D-8B6E-50FB4CE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F29-4566-41C6-8FB1-096D1C6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5655-2DA9-45C2-B9C9-14A20BEDD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1: Context of Assembl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3000" y="990720"/>
          <a:ext cx="708660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866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430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Binary Bit Posi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98400" y="122076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Converting Binary to Dec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246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5800" y="1981080"/>
          <a:ext cx="78487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4320" y="76212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Binary, Decimal, and Hexadecimal Equival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85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Powers of 16, in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828800"/>
          <a:ext cx="800100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010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629400" cy="249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3440" y="12970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 Converting 3BA4 Hexadecimal to Dec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095880" cy="247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6520" y="838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2: Sign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5320" y="9158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8. Signed Integer Storage and R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543800" cy="232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762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4. ASCII Representation of 1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67480" cy="3505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7520" y="685800"/>
            <a:ext cx="61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5. Sample Program Written in Debu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53352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Debug Commands to Assemble and Test the Sampl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5761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1720" y="45864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oftware Hierarch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5200" y="76356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9. Commonly Used Debug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2438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Machine Language Generation by ASM and HLL pro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560" y="22860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Comparison of Assembly Language to H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914400"/>
          <a:ext cx="800100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010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Assembly Language Subroutines Used as Hardware Inter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5680" y="68436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7: Bits, Bytes, and Double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2286000"/>
          <a:ext cx="64771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4771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4600" y="83988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Storage Sizes and Ranges of Unsigned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2743200"/>
          <a:ext cx="754380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54380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991080" y="106848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Digits in Various Numbe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76520"/>
          <a:ext cx="670572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70572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762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9. ASCII Digit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1T23:41:22Z</dcterms:modified>
  <cp:revision>37</cp:revision>
  <dc:subject/>
  <dc:title>No Slide Title</dc:title>
</cp:coreProperties>
</file>