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85F-6692-4521-A7FA-A25F1F5B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A8D-FCF0-42A1-9608-65351657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3B61-A1FE-4C6E-9FB1-9DBFA6BD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845-57EF-4F31-BE3D-EE26FC3C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4E0-B5EE-4975-9962-66D7FBCE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597-5326-4235-A4DE-37111488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99E-5030-4BB2-8065-7948D8EB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C6A-84F7-43F3-B940-E195DCDE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57C-1198-4899-B8B8-C5CD0222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D1A-6B07-4688-A240-B0982564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346-DF2F-4AD0-B8BE-3D0F0729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A6B7-978D-495C-81B4-58719EF3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B44C-BFBA-4276-8409-482142C77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3: Assembly Language Fundament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562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1999-2000, Prentice-Hall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05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to Accomp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anguage for Intel-Based Comput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553080" cy="4697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457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3. Memory Operand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010280" cy="4798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609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4. Examples for Review Question 4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5042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3808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5.  Examples for Review Question 4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8280" y="2133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1295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228600"/>
            <a:ext cx="739152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. The Hello World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tle Hello World Program         (hello.a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This program displays “Hello, world!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model 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stack 1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 db “Hello, world!”,0dh,0ah,’$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@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ds,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h,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dx,offset 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4C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 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400800" cy="451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3680" y="533520"/>
            <a:ext cx="55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. Standard Assembler Direc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7924680" cy="223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7000" y="1219320"/>
            <a:ext cx="60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. The Assemble-Link-Execute Cycl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7315200" cy="3039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7880" y="990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. Files Created by the Assembler and Lin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553080" cy="3406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7621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4  Data Allocation Dir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828800"/>
            <a:ext cx="8381880" cy="42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d       = 10 * 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Evaluates an 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xInt   = 7FFF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; Maximum 16-bit signed 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nInt   = 8000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; Minimum 16-bit signed 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xUInt  = 0FFFF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Maximum 16-bit unsigned 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   = ‘XY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; Up to two characters 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    = 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value = count + 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an use a predefined sym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3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xLong  = 7FFFFFFF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Maximum 32-bit signed 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nLong  = 80000000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Minimum 32-bit signed 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xULong = 0FFFFFFFF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Maximum 32-bit unsigned 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762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5.1  Equal-Sign Dir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105520" cy="5006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1400" y="457200"/>
            <a:ext cx="62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2. Using the Equal-Sign Dir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0920" y="230040"/>
            <a:ext cx="53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3. Exchanging Two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760" y="853920"/>
            <a:ext cx="7495920" cy="57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tle Exchange Two Variables        (Exchange.a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model 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stack 1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ue1 db 0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ue2 db 14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@data      ; initialize DS 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ds,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l,value1     ; load the AL 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chg value2,al     ; exchange AL and 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value1,al     ; store AL back into 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4C00h      ; exit 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 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3:44:54Z</dcterms:created>
  <dc:creator>Kip Irvine</dc:creator>
  <dc:description/>
  <dc:language>en-US</dc:language>
  <cp:lastModifiedBy>Kip Irvine</cp:lastModifiedBy>
  <dcterms:modified xsi:type="dcterms:W3CDTF">2000-05-23T05:05:53Z</dcterms:modified>
  <cp:revision>54</cp:revision>
  <dc:subject/>
  <dc:title>No Slide Title</dc:title>
</cp:coreProperties>
</file>