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1A3-2503-4695-A12C-AC1E5114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3C1-CAF2-4E18-A840-E1232809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641-33E9-4D20-BB29-FACEAAEC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18B-8DEE-4ACE-BA0D-E18099DF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BF6-C5D0-4DA3-A726-7ABABDC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D09-D7D1-4E9F-9FDA-4D05130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F87-5536-4981-B762-A820C12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395-CEA8-43E4-B22D-34591E3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5CD-AFB4-4983-A510-B8E4744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830-0602-4211-94EE-5878E46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06A-8E4A-44E4-A7F2-82AA00A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451-2E7C-424C-9495-399ADA1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E92-7C50-46DB-BFAF-780FECD8B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2: Hardware and Softwar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458640"/>
            <a:ext cx="45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implified CPU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641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024520" cy="458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3480" y="5335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Intel 16-bit Regi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25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990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gs Register, page 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310000" cy="40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4200" y="838080"/>
            <a:ext cx="44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The 32-bit Register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48913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9907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Map of the First Megabyte of PC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76892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609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ap of the BIOS Data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7816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8240" y="152388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Serial Port Configu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3T05:04:10Z</dcterms:modified>
  <cp:revision>50</cp:revision>
  <dc:subject/>
  <dc:title>No Slide Title</dc:title>
</cp:coreProperties>
</file>