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768-2474-4C13-9E55-906C67CB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FEA-B7C1-48D9-B8B5-61EB345D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09E-18AD-4479-BEFC-1A34D40A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08E-E4F8-42FD-9306-8F249F0F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F0F-6E1E-408A-B419-66C76659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805-C06E-431C-A493-29697DF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EB8-A6DF-4B2C-A33A-F186F746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325-F980-4BAF-899C-32CFE9C4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401-2B8D-477C-A74D-602BEE3E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8A9-3953-43BC-9EFB-0D33C2F4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28F-9E63-4C7B-B3F3-1EF73151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7B5-53E2-452A-BD5E-1EE5073F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2842-7F46-4B02-8A93-8484017FD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1: Context of Assembl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143000" y="990720"/>
          <a:ext cx="708660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70866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143000" y="228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Binary Bit Position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98400" y="122076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3. Converting Binary to Dec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7246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5800" y="1981080"/>
          <a:ext cx="7848720" cy="39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54320" y="76212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6. Binary, Decimal, and Hexadecimal Equival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685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7. Powers of 16, in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828800"/>
          <a:ext cx="8001000" cy="34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00100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629400" cy="249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3440" y="12970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4.  Converting 3BA4 Hexadecimal to Deci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095880" cy="247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76520" y="838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12: Sign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5320" y="9158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8. Signed Integer Storage and R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467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543800" cy="232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762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14. ASCII Representation of 12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467480" cy="3505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7520" y="685800"/>
            <a:ext cx="61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5. Sample Program Written in Debu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53352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. Debug Commands to Assemble and Test the Sampl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5761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1720" y="45864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Software Hierarchy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5200" y="763560"/>
            <a:ext cx="60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9. Commonly Used Debug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19520" y="2438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09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Machine Language Generation by ASM and HLL progra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560" y="228600"/>
            <a:ext cx="71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Comparison of Assembly Language to H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914400"/>
          <a:ext cx="800100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00100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Assembly Language Subroutines Used as Hardware Interfa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34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5680" y="684360"/>
            <a:ext cx="51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7: Bits, Bytes, and Double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95280" y="2286000"/>
          <a:ext cx="647712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4771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4600" y="83988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Storage Sizes and Ranges of Unsigned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62120" y="2743200"/>
          <a:ext cx="754380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54380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991080" y="1068480"/>
            <a:ext cx="63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4. Digits in Various Number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76520"/>
          <a:ext cx="670572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70572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762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9. ASCII Digit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1T23:41:22Z</dcterms:modified>
  <cp:revision>37</cp:revision>
  <dc:subject/>
  <dc:title>No Slide Title</dc:title>
</cp:coreProperties>
</file>