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344B7-C93D-4AFB-A978-AAC24F7C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37ADB-4BAC-486C-B9FB-F61ACAE1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08FC5-F992-4D67-A734-8927D5A3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02B40-329E-4405-ACF3-69F17352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1234-D3C0-49DA-91AF-356E8AFB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44B0-CA2E-4BB2-B231-97104BF2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7F1E-B580-4A39-96CD-858A1929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64C3-01A1-4774-AE29-04A5B17E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FB18-BFED-4FCF-ACF0-4ACB3509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F53F-E034-454D-99E2-9C15E6E8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665C-FEEF-4CBD-A59E-D2015501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DEF6E-21C9-46C9-9292-11F1B428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97C2-144A-4F3B-885F-B9B8FBCB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415C-6C52-43AD-B460-9A050F54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C0F7-A8AD-41BE-BF1C-B3DBDFFF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EE29-E6D7-4306-930A-6003A130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2986-5D2C-486F-AA5F-FAA6949F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70CCC-85B1-42B8-AF2A-B7C6E66F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547CE-B1A9-48A4-82DD-E55D9384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2B16-9B67-4AE2-BD2A-BFF6D6DE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E579C-43F0-4707-BDB7-E4342D49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DC347-CDF1-4798-9FAC-A258BC44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5964D-BF3E-4105-BAF5-473A723D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F7C08-5B6E-4B94-877F-29BC7589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33C8-4472-4BEA-95AF-B78ABCA353CD}" type="slidenum">
              <a:rPr b="0" lang="zh-T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F76D-80D3-4BDF-878E-6EEC3CEAC1DF}" type="slidenum">
              <a:rPr b="0" lang="zh-T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21487;&#25490;&#24207;&#24207;&#21015;.java" TargetMode="External"/><Relationship Id="rId2" Type="http://schemas.openxmlformats.org/officeDocument/2006/relationships/hyperlink" Target="file:///&#21487;&#25490;&#24207;&#24207;&#21015;.java" TargetMode="External"/><Relationship Id="rId3" Type="http://schemas.openxmlformats.org/officeDocument/2006/relationships/hyperlink" Target="file:///&#21487;&#25490;&#24207;&#24207;&#21015;&#28204;&#35430;.java" TargetMode="External"/><Relationship Id="rId4" Type="http://schemas.openxmlformats.org/officeDocument/2006/relationships/hyperlink" Target="file:///&#21487;&#25490;&#24207;&#24207;&#21015;&#28204;&#35430;.java" TargetMode="External"/><Relationship Id="rId5" Type="http://schemas.openxmlformats.org/officeDocument/2006/relationships/hyperlink" Target="file:///&#21487;&#25490;&#24207;&#24207;&#21015;&#28204;&#35430;&#22519;&#34892;&#32080;&#26524;.txt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BubbleSort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Garamond"/>
              </a:rPr>
              <a:t>所謂排序是指將一序列的資料</a:t>
            </a:r>
            <a:br>
              <a:rPr sz="4400"/>
            </a:br>
            <a:r>
              <a:rPr b="0" lang="zh-TW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(a sequence of data)</a:t>
            </a:r>
            <a:r>
              <a:rPr b="0" lang="zh-TW" sz="4400" spc="-1" strike="noStrike">
                <a:solidFill>
                  <a:srgbClr val="ffffff"/>
                </a:solidFill>
                <a:latin typeface="Garamond"/>
              </a:rPr>
              <a:t>依「由小而大」或「由大到小」的次序排列的過程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orting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排序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分析：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氣泡排序法所需要的額外空間為     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何？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氣泡排序僅需要在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swap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資料時的一個可容納資料的額外空間即可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(1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與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n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不相關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)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，是一個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in place 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排序法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分析：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氣泡排序法在最佳狀況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best case)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下的</a:t>
            </a:r>
            <a:r>
              <a:rPr b="0" lang="zh-TW" sz="4000" spc="-1" strike="noStrike">
                <a:solidFill>
                  <a:srgbClr val="ff0000"/>
                </a:solidFill>
                <a:latin typeface="Garamond"/>
              </a:rPr>
              <a:t>時間複雜度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(time complexity)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為何？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氣泡排序法在最佳狀況下的時間複雜度為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n(n-1)/2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分析：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氣泡排序法在最壞狀況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worst case)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下的</a:t>
            </a:r>
            <a:r>
              <a:rPr b="0" lang="zh-TW" sz="4000" spc="-1" strike="noStrike">
                <a:solidFill>
                  <a:srgbClr val="ff0000"/>
                </a:solidFill>
                <a:latin typeface="Garamond"/>
              </a:rPr>
              <a:t>時間複雜度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(time complexity)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為何？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氣泡排序法在最壞狀況下的時間複雜度為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n(n-1)/2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分析：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氣泡排序法在平均狀況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average case)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下的</a:t>
            </a:r>
            <a:r>
              <a:rPr b="0" lang="zh-TW" sz="4000" spc="-1" strike="noStrike">
                <a:solidFill>
                  <a:srgbClr val="ff0000"/>
                </a:solidFill>
                <a:latin typeface="Garamond"/>
              </a:rPr>
              <a:t>時間複雜度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(time complexity)</a:t>
            </a:r>
            <a:r>
              <a:rPr b="0" lang="zh-TW" sz="4000" spc="-1" strike="noStrike">
                <a:solidFill>
                  <a:srgbClr val="ffffff"/>
                </a:solidFill>
                <a:latin typeface="Garamond"/>
              </a:rPr>
              <a:t>為何？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氣泡排序法在平均狀況下的時間複雜度為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en-US" sz="4800" spc="-1" strike="noStrike">
                <a:solidFill>
                  <a:srgbClr val="0099cc"/>
                </a:solidFill>
                <a:latin typeface="Garamond"/>
                <a:ea typeface="細明體"/>
              </a:rPr>
              <a:t>n(n-1)/2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  <a:ea typeface="細明體"/>
              </a:rPr>
              <a:t>Java</a:t>
            </a: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程式：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可排序序列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.jav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可排序序列測試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.jav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可排序序列測試執行結果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914400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  <a:ea typeface="細明體"/>
              </a:rPr>
              <a:t>Java</a:t>
            </a: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小程式</a:t>
            </a:r>
            <a:r>
              <a:rPr b="0" lang="en-US" sz="5400" spc="-1" strike="noStrike">
                <a:solidFill>
                  <a:srgbClr val="ffffff"/>
                </a:solidFill>
                <a:latin typeface="Garamond"/>
                <a:ea typeface="細明體"/>
              </a:rPr>
              <a:t>(applet)</a:t>
            </a:r>
            <a:r>
              <a:rPr b="0" lang="zh-TW" sz="5400" spc="-1" strike="noStrike">
                <a:solidFill>
                  <a:srgbClr val="ffffff"/>
                </a:solidFill>
                <a:latin typeface="Garamond"/>
                <a:ea typeface="細明體"/>
              </a:rPr>
              <a:t>展示：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實例展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說明：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氣泡排序法的做法為將相鄰的兩個資料加以比較，若左邊資料的值大於右邊資料的值，則將此二筆資料互相交換，否則資料的位置即維持不動。上述的比較及交換過程一直持續進行到最後一個資料為止，這稱為一個</a:t>
            </a:r>
            <a:r>
              <a:rPr b="0" lang="zh-TW" sz="3600" spc="-1" strike="noStrike">
                <a:solidFill>
                  <a:srgbClr val="ff0000"/>
                </a:solidFill>
                <a:latin typeface="Garamond"/>
              </a:rPr>
              <a:t>回合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(pass)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。第一個回合的比對進行到最後一個資料為止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n-1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次比對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；而第二回合的比對進行到倒數第二個資料為止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因為具最大值的資料已經調換至最後一個位置了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；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…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；餘依此類推。當進行完第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-1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個回合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比較編號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與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之資料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之後，則所有的資料均已依由小到大的次序排列好了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演算法：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Algorithm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氣泡排序法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A, n)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Input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   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具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個整數的陣列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Output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依整數值由小到大排列的陣列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  <a:ea typeface="MS Hei"/>
              </a:rPr>
              <a:t>for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i←n-1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to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1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d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      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for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j←0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to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i-1</a:t>
            </a:r>
            <a:r>
              <a:rPr b="0" lang="zh-TW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i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A[j]&gt;A[j+1]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the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swap(A[j], A[j+1])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retur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A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//i</a:t>
            </a: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代表每回合比較到的最後一對資料對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zh-TW" sz="3600" spc="-1" strike="noStrike">
                <a:solidFill>
                  <a:srgbClr val="ffffff"/>
                </a:solidFill>
                <a:latin typeface="Garamond"/>
              </a:rPr>
              <a:t>的右邊資料的編號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  <a:ea typeface="細明體"/>
              </a:rPr>
              <a:t>實際範例：   </a:t>
            </a: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n=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PASS1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  <a:ea typeface="細明體"/>
              </a:rPr>
              <a:t>編號：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0       1       2         3        4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i=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8       5       8’       7        6     </a:t>
            </a: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(swap)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5       8       8’       7        6     </a:t>
            </a: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(no swa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5       8       8’       7        6     </a:t>
            </a: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(swa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  j+1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5       8       7        8’       6     </a:t>
            </a: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(swa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 j+1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  <a:ea typeface="細明體"/>
              </a:rPr>
              <a:t>5       8       7        6        8’    </a:t>
            </a: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(j==i; pass1 endin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Garamond"/>
                <a:ea typeface="細明體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細明體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  <a:ea typeface="細明體"/>
              </a:rPr>
              <a:t>實際範例：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n=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PASS2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  <a:ea typeface="細明體"/>
              </a:rPr>
              <a:t>編號：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0       1       2        3        4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i=3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8       7        6        8’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no swa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8       7        6        8’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swa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 j+1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7       8        6        8’ 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swa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7       6        8        8’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              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j==i; pass2 endi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  <a:ea typeface="細明體"/>
              </a:rPr>
              <a:t>實際範例：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n=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PASS3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  <a:ea typeface="細明體"/>
              </a:rPr>
              <a:t>編號：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0       1       2        3        4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i=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7       6        8        8’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no swa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7       6        8        8’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swa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6        7        8        8’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j==i; pass3 ending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  <a:ea typeface="細明體"/>
              </a:rPr>
              <a:t>實際範例：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n=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PASS4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  <a:ea typeface="細明體"/>
              </a:rPr>
              <a:t>編號：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0       1       2        3        4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i=1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6       7        8        8’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no swap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        j+1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5       6       7        8        8’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細明體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  <a:ea typeface="細明體"/>
              </a:rPr>
              <a:t>             </a:t>
            </a:r>
            <a:r>
              <a:rPr b="0" lang="en-US" sz="2800" spc="-1" strike="noStrike">
                <a:solidFill>
                  <a:srgbClr val="0099cc"/>
                </a:solidFill>
                <a:latin typeface="Garamond"/>
                <a:ea typeface="細明體"/>
              </a:rPr>
              <a:t>(j==i; pass4 ending; sorting endi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Garamond"/>
                <a:ea typeface="細明體"/>
              </a:rPr>
              <a:t>分析：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細明體"/>
              </a:rPr>
              <a:t>5</a:t>
            </a:r>
            <a:r>
              <a:rPr b="0" lang="zh-TW" sz="4400" spc="-1" strike="noStrike">
                <a:solidFill>
                  <a:srgbClr val="ffffff"/>
                </a:solidFill>
                <a:latin typeface="Garamond"/>
                <a:ea typeface="細明體"/>
              </a:rPr>
              <a:t>筆資料之比較次數：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    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5</a:t>
            </a:r>
            <a:r>
              <a:rPr b="0" lang="zh-TW" sz="4400" spc="-1" strike="noStrike">
                <a:solidFill>
                  <a:srgbClr val="0099cc"/>
                </a:solidFill>
                <a:latin typeface="Garamond"/>
                <a:ea typeface="細明體"/>
              </a:rPr>
              <a:t>筆資料需要比較的次數為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    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4+3+2+1=10(</a:t>
            </a:r>
            <a:r>
              <a:rPr b="0" lang="zh-TW" sz="4400" spc="-1" strike="noStrike">
                <a:solidFill>
                  <a:srgbClr val="0099cc"/>
                </a:solidFill>
                <a:latin typeface="Garamond"/>
                <a:ea typeface="細明體"/>
              </a:rPr>
              <a:t>次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細明體"/>
              </a:rPr>
              <a:t>n</a:t>
            </a:r>
            <a:r>
              <a:rPr b="0" lang="zh-TW" sz="4400" spc="-1" strike="noStrike">
                <a:solidFill>
                  <a:srgbClr val="ffffff"/>
                </a:solidFill>
                <a:latin typeface="Garamond"/>
                <a:ea typeface="細明體"/>
              </a:rPr>
              <a:t>筆資料之比較次數：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    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n</a:t>
            </a:r>
            <a:r>
              <a:rPr b="0" lang="zh-TW" sz="4400" spc="-1" strike="noStrike">
                <a:solidFill>
                  <a:srgbClr val="0099cc"/>
                </a:solidFill>
                <a:latin typeface="Garamond"/>
                <a:ea typeface="細明體"/>
              </a:rPr>
              <a:t>筆資料需要比較的次數為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    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(n-1)+(n-2)+….+2+1=n(n-1)/2(</a:t>
            </a:r>
            <a:r>
              <a:rPr b="0" lang="zh-TW" sz="4400" spc="-1" strike="noStrike">
                <a:solidFill>
                  <a:srgbClr val="0099cc"/>
                </a:solidFill>
                <a:latin typeface="Garamond"/>
                <a:ea typeface="細明體"/>
              </a:rPr>
              <a:t>次</a:t>
            </a:r>
            <a:r>
              <a:rPr b="0" lang="en-US" sz="4400" spc="-1" strike="noStrike">
                <a:solidFill>
                  <a:srgbClr val="0099cc"/>
                </a:solidFill>
                <a:latin typeface="Garamond"/>
                <a:ea typeface="細明體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Garamond"/>
                <a:ea typeface="細明體"/>
              </a:rPr>
              <a:t>分析：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just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Garamond"/>
              </a:rPr>
              <a:t>氣泡排序法是屬於</a:t>
            </a:r>
            <a:r>
              <a:rPr b="0" lang="zh-TW" sz="4400" spc="-1" strike="noStrike">
                <a:solidFill>
                  <a:srgbClr val="ff0000"/>
                </a:solidFill>
                <a:latin typeface="Garamond"/>
              </a:rPr>
              <a:t>穩定</a:t>
            </a: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(stable)</a:t>
            </a:r>
            <a:r>
              <a:rPr b="0" lang="zh-TW" sz="4400" spc="-1" strike="noStrike">
                <a:solidFill>
                  <a:srgbClr val="ffffff"/>
                </a:solidFill>
                <a:latin typeface="Garamond"/>
              </a:rPr>
              <a:t>排序法嗎？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Garamond"/>
                <a:ea typeface="細明體"/>
              </a:rPr>
              <a:t>  </a:t>
            </a:r>
            <a:r>
              <a:rPr b="0" lang="zh-TW" sz="5400" spc="-1" strike="noStrike">
                <a:solidFill>
                  <a:srgbClr val="0099cc"/>
                </a:solidFill>
                <a:latin typeface="Garamond"/>
                <a:ea typeface="細明體"/>
              </a:rPr>
              <a:t>若資料之值相同則其相對位置未改變</a:t>
            </a:r>
            <a:r>
              <a:rPr b="0" lang="en-US" sz="5400" spc="-1" strike="noStrike">
                <a:solidFill>
                  <a:srgbClr val="0099cc"/>
                </a:solidFill>
                <a:latin typeface="Garamond"/>
                <a:ea typeface="細明體"/>
              </a:rPr>
              <a:t>(</a:t>
            </a:r>
            <a:r>
              <a:rPr b="0" lang="zh-TW" sz="5400" spc="-1" strike="noStrike">
                <a:solidFill>
                  <a:srgbClr val="0099cc"/>
                </a:solidFill>
                <a:latin typeface="Garamond"/>
                <a:ea typeface="細明體"/>
              </a:rPr>
              <a:t>如</a:t>
            </a:r>
            <a:r>
              <a:rPr b="0" lang="en-US" sz="5400" spc="-1" strike="noStrike">
                <a:solidFill>
                  <a:srgbClr val="0099cc"/>
                </a:solidFill>
                <a:latin typeface="Garamond"/>
                <a:ea typeface="細明體"/>
              </a:rPr>
              <a:t>8</a:t>
            </a:r>
            <a:r>
              <a:rPr b="0" lang="zh-TW" sz="5400" spc="-1" strike="noStrike">
                <a:solidFill>
                  <a:srgbClr val="0099cc"/>
                </a:solidFill>
                <a:latin typeface="Garamond"/>
                <a:ea typeface="細明體"/>
              </a:rPr>
              <a:t>及</a:t>
            </a:r>
            <a:r>
              <a:rPr b="0" lang="en-US" sz="5400" spc="-1" strike="noStrike">
                <a:solidFill>
                  <a:srgbClr val="0099cc"/>
                </a:solidFill>
                <a:latin typeface="Garamond"/>
                <a:ea typeface="細明體"/>
              </a:rPr>
              <a:t>8’)</a:t>
            </a:r>
            <a:r>
              <a:rPr b="0" lang="zh-TW" sz="5400" spc="-1" strike="noStrike">
                <a:solidFill>
                  <a:srgbClr val="0099cc"/>
                </a:solidFill>
                <a:latin typeface="Garamond"/>
                <a:ea typeface="細明體"/>
              </a:rPr>
              <a:t>，因此氣泡排序法是一種穩定排序法。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Bubble-Sort(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氣泡排序法</a:t>
            </a: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15:07:38Z</dcterms:created>
  <dc:creator>JEHN-RUEY JAING</dc:creator>
  <dc:description/>
  <dc:language>en-US</dc:language>
  <cp:lastModifiedBy>江振瑞</cp:lastModifiedBy>
  <dcterms:modified xsi:type="dcterms:W3CDTF">2001-12-25T21:32:49Z</dcterms:modified>
  <cp:revision>25</cp:revision>
  <dc:subject/>
  <dc:title>Bubble Sort(泡泡排序法)</dc:title>
</cp:coreProperties>
</file>