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1.wmf" ContentType="image/x-wmf"/>
  <Override PartName="/ppt/media/image7.png" ContentType="image/png"/>
  <Override PartName="/ppt/media/image15.wmf" ContentType="image/x-wmf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3.wmf" ContentType="image/x-wmf"/>
  <Override PartName="/ppt/media/image20.png" ContentType="image/png"/>
  <Override PartName="/ppt/media/image2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6.png" ContentType="image/png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FFAF7-C38B-4F14-8CE3-3276C25EA6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77157-F0E2-41F2-ABA4-58E5DFCC15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3AB7A-CC53-44AE-A2AC-5D4A5676AA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631E0-A407-428E-B79E-17E18D04F7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A4F4C-7530-4552-87A1-6CEAD3506E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64964-CFEA-4438-B07B-7465C96E5B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02E4E-30B6-4166-A0B8-342DA7EF19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63DE6-7DF5-4036-BD47-8E2E1C6E89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E0FDA-F12D-442F-8B99-B2C8D889A1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BAE6B-F06D-481C-9E18-6FF2A11819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AB2F6-09B5-4F3A-A386-7ACD4FCA47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F3FA6-148E-4AD3-BFD7-D25793C199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024F0-5C54-4DB6-8B03-69D76946BB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FD692-EA2F-4E05-8F2B-4681A3D9A6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8E994-CEB6-4C9B-9D27-37CDD827AF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35274-AF91-41A0-8FD0-A8B24FFCB8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B2DE6-93AD-4D60-91AF-6CE068629A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101FA-390B-4C73-B573-3D4E5079DB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4024A-9323-4EE4-B003-DCCD7F886C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0F702-1977-40D8-91D0-BCE6B1C30A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35001-CC63-4519-AFE5-2B73E0CE55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0335E-A127-4760-AD67-EF9E838350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0E366-7B1B-41DC-A54F-78508070A2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DA508-73D8-48BD-9E2D-1D93549174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e4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3B01-9FCF-436B-933B-E4500DCA3AAC}" type="slidenum">
              <a:rPr b="0" lang="zh-TW" sz="1400" spc="-1" strike="noStrike">
                <a:solidFill>
                  <a:srgbClr val="00e4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7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8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0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1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3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e4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E299-EF28-452B-8677-A9EC5296EEDF}" type="slidenum">
              <a:rPr b="0" lang="zh-TW" sz="1400" spc="-1" strike="noStrike">
                <a:solidFill>
                  <a:srgbClr val="00e4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C2C6-93FB-443B-9475-30B4D5C3118C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Approximation Algorith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8D8E-5315-4CF8-A840-A156DC227904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onhard Euler (April 15, 1707 - September 18, 1783) (pronounced "oiler") was a Swiss mathematician and physicist. He is considered (together with Gauss) to be the greatest mathematician ev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onhard Euler stated and solved the problem of Seven Bridges of 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gsberg in 1736, which is the first formally discussed problem in graph theor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471C-8DD6-41C0-94A1-B5A292FBE613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9" name="Picture 4" descr="ds51-2"/>
          <p:cNvPicPr/>
          <p:nvPr/>
        </p:nvPicPr>
        <p:blipFill>
          <a:blip r:embed="rId1"/>
          <a:stretch/>
        </p:blipFill>
        <p:spPr>
          <a:xfrm>
            <a:off x="971640" y="2357280"/>
            <a:ext cx="5187960" cy="21751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3521160" y="4575240"/>
            <a:ext cx="433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lerian Cycle exists beca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gree(V1) =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gree(V2)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gree(V3) =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gree(V4) = 4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A10A-1D35-4EA0-9E5F-AECD4D2D4ED7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Picture 4" descr="ds51-3"/>
          <p:cNvPicPr/>
          <p:nvPr/>
        </p:nvPicPr>
        <p:blipFill>
          <a:blip r:embed="rId1"/>
          <a:stretch/>
        </p:blipFill>
        <p:spPr>
          <a:xfrm>
            <a:off x="1042920" y="2387520"/>
            <a:ext cx="5116680" cy="21448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7"/>
          <p:cNvSpPr/>
          <p:nvPr/>
        </p:nvSpPr>
        <p:spPr>
          <a:xfrm>
            <a:off x="4263840" y="4737240"/>
            <a:ext cx="37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the Eulerian Cyc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1F03-7321-41D5-85EE-E1C93A8426F5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amiltonian pat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also calle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raceable pat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is a path that visits each vertex exactly o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amiltonian cyc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also calle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amiltonian circu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ertex tou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raph cycle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cycle that visits each vertex exactly once, except for the starting vertex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81A6-8026-4CC7-909B-A382DC6DF6CC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inimal Euclidean Weighted Matching Probl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n a set of points in the plane, the minimal Euclidean weighted matching problem is to join the points in pairs by line segments such that the total length is minimum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B3B2-78B0-410C-B2D2-77064D6220D6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pproximation Algorithm for ETSP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1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1042920" y="3276720"/>
          <a:ext cx="6769080" cy="34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3276720"/>
                    <a:ext cx="6769080" cy="34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090F-D39E-492D-90AE-39C5E45F43EE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7" name="Object 5"/>
          <p:cNvGraphicFramePr/>
          <p:nvPr/>
        </p:nvGraphicFramePr>
        <p:xfrm>
          <a:off x="1692360" y="3284640"/>
          <a:ext cx="5759280" cy="34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3284640"/>
                    <a:ext cx="5759280" cy="34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pproximation Algorithm for ETSP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2:The number of points with odd degrees must be even.             , which is ev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5867280" y="2438280"/>
                <a:ext cx="152424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2" name="Text Box 7"/>
          <p:cNvSpPr/>
          <p:nvPr/>
        </p:nvSpPr>
        <p:spPr>
          <a:xfrm>
            <a:off x="5540400" y="2997360"/>
            <a:ext cx="36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One edge contributes 2 degre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DD90-7D51-467A-A688-FC8AB3D05758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pproximation Algorithm for ETSP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3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6" name="Object 4"/>
          <p:cNvGraphicFramePr/>
          <p:nvPr/>
        </p:nvGraphicFramePr>
        <p:xfrm>
          <a:off x="324000" y="2276640"/>
          <a:ext cx="65530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276640"/>
                    <a:ext cx="65530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5"/>
          <p:cNvGraphicFramePr/>
          <p:nvPr/>
        </p:nvGraphicFramePr>
        <p:xfrm>
          <a:off x="324000" y="4365720"/>
          <a:ext cx="6335640" cy="22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4365720"/>
                    <a:ext cx="63356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6"/>
          <p:cNvSpPr/>
          <p:nvPr/>
        </p:nvSpPr>
        <p:spPr>
          <a:xfrm>
            <a:off x="6443640" y="2144880"/>
            <a:ext cx="270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3 and P4 are visited twi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bypassing P3 and P4 and connecting P6 to P1 directly, we obtain a Hamiltonian cyc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AutoShape 7"/>
          <p:cNvSpPr/>
          <p:nvPr/>
        </p:nvSpPr>
        <p:spPr>
          <a:xfrm>
            <a:off x="3419640" y="3860640"/>
            <a:ext cx="485640" cy="720720"/>
          </a:xfrm>
          <a:prstGeom prst="downArrow">
            <a:avLst>
              <a:gd name="adj1" fmla="val 50000"/>
              <a:gd name="adj2" fmla="val 3710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59B7-40C7-400E-9E44-2DC12B9FEB93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pproximation Algorithm for ETSP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complexity: 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 1: O(nlog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 2: 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 3: O(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lose the approximate solution to an optimal solu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AE4C-38FE-4A80-B3B3-B28C8502E555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good is the solution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46200" y="1905120"/>
            <a:ext cx="752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pproximate tour is within 3/2 of the optimal o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s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: optimal ETSP tour, T: MST, Lp: a path derived by removing one edge from L (Lp is also a spanning tree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ngth(T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ngth(Lp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ngth(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Lp=j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{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is the set of odd-degree vertices in T where indices of vertices in the set are arranged in the same order as they are in the optimal ETSP tour 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593E-06A4-4C03-8F82-3F33C3C42DB6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Approximation Algorith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p to now, the best algorithm for solving an NP-complete problem requires exponential time in the worst case. It is too time-consum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reduce the time required for solving a problem, we can relax the problem, and obtain a feasible solu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o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an optimal s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F7F3-2DCE-43D7-96D2-641A6E8BEFE0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9" name="Object 4"/>
          <p:cNvGraphicFramePr/>
          <p:nvPr/>
        </p:nvGraphicFramePr>
        <p:xfrm>
          <a:off x="7596360" y="3043080"/>
          <a:ext cx="1380960" cy="16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96360" y="3043080"/>
                    <a:ext cx="1380960" cy="16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good is the solution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3640" y="1905120"/>
            <a:ext cx="734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M be the minimal Euclidean weighted match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two matching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{[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,[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[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m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} and M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{[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,[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[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}. We ha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ngth(L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ength(M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+ length(M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(triangular inequality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 length(M 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ngth(M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/2 length(L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 = T</a:t>
            </a:r>
            <a:r>
              <a:rPr b="0" lang="en-US" sz="2400" spc="-1" strike="noStrike">
                <a:solidFill>
                  <a:srgbClr val="000000"/>
                </a:solidFill>
                <a:latin typeface="新細明體"/>
              </a:rPr>
              <a:t>∪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ngth(T) + length(M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ength(L) + 1/2 length(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3/2 length(L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Freeform 5"/>
          <p:cNvSpPr/>
          <p:nvPr/>
        </p:nvSpPr>
        <p:spPr>
          <a:xfrm>
            <a:off x="8458200" y="5257800"/>
            <a:ext cx="228600" cy="380880"/>
          </a:xfrm>
          <a:prstGeom prst="pi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Freeform 6"/>
          <p:cNvSpPr/>
          <p:nvPr/>
        </p:nvSpPr>
        <p:spPr>
          <a:xfrm>
            <a:off x="8381880" y="5638680"/>
            <a:ext cx="304920" cy="45720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7924680" y="5181480"/>
            <a:ext cx="533520" cy="7632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Freeform 8"/>
          <p:cNvSpPr/>
          <p:nvPr/>
        </p:nvSpPr>
        <p:spPr>
          <a:xfrm>
            <a:off x="7620120" y="5257800"/>
            <a:ext cx="304560" cy="533520"/>
          </a:xfrm>
          <a:prstGeom prst="pi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Freeform 9"/>
          <p:cNvSpPr/>
          <p:nvPr/>
        </p:nvSpPr>
        <p:spPr>
          <a:xfrm>
            <a:off x="7924680" y="6095880"/>
            <a:ext cx="457200" cy="152640"/>
          </a:xfrm>
          <a:prstGeom prst="pi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Freeform 10"/>
          <p:cNvSpPr/>
          <p:nvPr/>
        </p:nvSpPr>
        <p:spPr>
          <a:xfrm>
            <a:off x="7620120" y="5791320"/>
            <a:ext cx="304560" cy="38088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投影片編號版面配置區 2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B7C9-3C6A-44FE-9DB6-7DE3F634F08A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0" name="Object 2"/>
          <p:cNvGraphicFramePr/>
          <p:nvPr/>
        </p:nvGraphicFramePr>
        <p:xfrm>
          <a:off x="1332000" y="404640"/>
          <a:ext cx="944856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04640"/>
                    <a:ext cx="944856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投影片編號版面配置區 2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A5D9-CAC2-44B1-8568-F6161964943B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3" name="Object 2"/>
          <p:cNvGraphicFramePr/>
          <p:nvPr/>
        </p:nvGraphicFramePr>
        <p:xfrm>
          <a:off x="1192320" y="907920"/>
          <a:ext cx="7118280" cy="561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2320" y="907920"/>
                    <a:ext cx="7118280" cy="561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投影片編號版面配置區 2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9DA3-5A3C-4A93-B5C8-F07179088FA0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6" name="Object 2"/>
          <p:cNvGraphicFramePr/>
          <p:nvPr/>
        </p:nvGraphicFramePr>
        <p:xfrm>
          <a:off x="826920" y="2060640"/>
          <a:ext cx="7610760" cy="588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060640"/>
                    <a:ext cx="7610760" cy="58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投影片編號版面配置區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0187-64E7-4717-B5DA-B4FCCEF6E560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9" name="Object 2"/>
          <p:cNvGraphicFramePr/>
          <p:nvPr/>
        </p:nvGraphicFramePr>
        <p:xfrm>
          <a:off x="1182600" y="692280"/>
          <a:ext cx="7637400" cy="629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2600" y="692280"/>
                    <a:ext cx="7637400" cy="62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15C4-7ACD-45BF-A869-3D48ED4F5BAA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n Packing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n items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1 for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, which have to be placed in bins of unit capability, the bin packing problem is to determine the minimum number of bins to accommodate all ite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we regard the items of different sizes to be the lengths of time of executing different jobs on a standard processor, the problem becomes to use minimum number of processors which can finish all of the jobs within a fixed ti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BB0B-1976-48B3-91CF-F08984B6220C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900000" y="2708280"/>
            <a:ext cx="5688000" cy="38448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ample of Bin Packing Probl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Given n = 5, {0.3, 0.5, 0.8, 0.2 0.4}, the optimal solution is 3 bi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1187280" y="616572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bin packing problem is NP-hard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4BC1-E0FF-481F-A473-D1D99CFA8DD8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approximation algorithm for the bin packing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approximation algorithm: (first-fit) place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the lowest-indexed bin which can accommodate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(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: the size of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(I): the size of an optimal solution of an instanc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F(I): the size of bins in the first-fit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(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: the sum of the sizes of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 packed in bin 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the first-fit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183B-8608-4ADC-B96D-BC9FF4368847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approximation algorithm for the bin packing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(I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, ceiling of sum of sizes of all i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(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+ C(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1 (Otherwise, the items in 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+1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be put in 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(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+ C(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1 (Otherwise, the items in 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ll be put in 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m nonempty bin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(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+C(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+C(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F(I) = m &lt; 2          = 2   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 OPT(I) FF(I) &lt; 2 OPT(I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4"/>
              <p:cNvSpPr txBox="1"/>
              <p:nvPr/>
            </p:nvSpPr>
            <p:spPr>
              <a:xfrm>
                <a:off x="2568600" y="1947960"/>
                <a:ext cx="17222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⌈"/>
                        <m:endChr m:val="⌉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5"/>
              <p:cNvSpPr txBox="1"/>
              <p:nvPr/>
            </p:nvSpPr>
            <p:spPr>
              <a:xfrm>
                <a:off x="3780000" y="5445000"/>
                <a:ext cx="10666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6"/>
              <p:cNvSpPr txBox="1"/>
              <p:nvPr/>
            </p:nvSpPr>
            <p:spPr>
              <a:xfrm>
                <a:off x="5508720" y="5445000"/>
                <a:ext cx="9903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8481-99C4-4F14-B8F6-B2EE3E8FD8D2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tex Cover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G=(V, E). The subset S of V that meets every edge of E is called th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vertex cov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Vertex Cover problem is to find a vertex cover of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minimu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ze. It is the optimization version of an NP-Complete decision probl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投影片編號版面配置區 2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BE98-6D7B-40B4-9A56-5E422D91D2EA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2" name="Object 2"/>
          <p:cNvGraphicFramePr/>
          <p:nvPr/>
        </p:nvGraphicFramePr>
        <p:xfrm>
          <a:off x="538200" y="2003400"/>
          <a:ext cx="8042400" cy="534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2003400"/>
                    <a:ext cx="8042400" cy="53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AD8F-E6E0-4D1D-9BEC-00D7FEE5F317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s of vertex co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3" name="Picture 6" descr="vimg915"/>
          <p:cNvPicPr/>
          <p:nvPr/>
        </p:nvPicPr>
        <p:blipFill>
          <a:blip r:embed="rId1"/>
          <a:stretch/>
        </p:blipFill>
        <p:spPr>
          <a:xfrm>
            <a:off x="324000" y="2895480"/>
            <a:ext cx="8424720" cy="20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投影片編號版面配置區 2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68D4-B13B-49E1-A76E-9F046246B673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5" name="Object 2"/>
          <p:cNvGraphicFramePr/>
          <p:nvPr/>
        </p:nvGraphicFramePr>
        <p:xfrm>
          <a:off x="826920" y="1941480"/>
          <a:ext cx="7728120" cy="51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941480"/>
                    <a:ext cx="7728120" cy="51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投影片編號版面配置區 2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232A-8D9B-49D1-AFBC-906D518B59F1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8" name="Object 2"/>
          <p:cNvGraphicFramePr/>
          <p:nvPr/>
        </p:nvGraphicFramePr>
        <p:xfrm>
          <a:off x="1332000" y="1787400"/>
          <a:ext cx="6072120" cy="524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787400"/>
                    <a:ext cx="6072120" cy="52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投影片編號版面配置區 2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8CD8-F1DA-4ECA-896E-4BEDA8F0E96F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1" name="Object 2"/>
          <p:cNvGraphicFramePr/>
          <p:nvPr/>
        </p:nvGraphicFramePr>
        <p:xfrm>
          <a:off x="826920" y="1996920"/>
          <a:ext cx="765180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996920"/>
                    <a:ext cx="765180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D59F-2B3C-434F-9E80-E1D19AC624A5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approximation algorithm for convex hul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nvex hull of n points in the plane can be computed in O(nlogn) time in the worst ca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8A4D-6BE0-44DF-B7DE-A8553161B5CA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approximation algorithm for convex hulls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approximation algorithm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tep1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the leftmost and rightmost point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9" name="Object 4"/>
          <p:cNvGraphicFramePr/>
          <p:nvPr/>
        </p:nvGraphicFramePr>
        <p:xfrm>
          <a:off x="2133720" y="3657600"/>
          <a:ext cx="541008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657600"/>
                    <a:ext cx="541008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6AE0-D4E0-4B51-97A1-C4E49498F1B7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approximation algorithm for convex hulls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tep2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ivide the points into K strips. Find the highest and lowest points in each strip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4" name="Object 4"/>
          <p:cNvGraphicFramePr/>
          <p:nvPr/>
        </p:nvGraphicFramePr>
        <p:xfrm>
          <a:off x="2590920" y="3505320"/>
          <a:ext cx="426708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3505320"/>
                    <a:ext cx="426708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27BE-18A0-4188-9E7D-24E5EBBDCBE1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7" name="Object 2"/>
          <p:cNvGraphicFramePr/>
          <p:nvPr/>
        </p:nvGraphicFramePr>
        <p:xfrm>
          <a:off x="3879720" y="4237200"/>
          <a:ext cx="4724640" cy="25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9720" y="4237200"/>
                    <a:ext cx="4724640" cy="25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323640" y="175248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tep3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y the Andr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Monotone Chain Scan, which similar to Graham scan, to those highest and lowest points to construct an approximate convex hull. (The highest and lowest points are already sorted by their x-coordinates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approximation algorithm for convex hulls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9963-0693-4F05-9B4F-D38E92273BB5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lgorithm 9-1 An approximation Algorithm for Convex Hull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04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: A set of n poi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: An approximate convex hull of 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tep 1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ind the leftmost and right most points of S, denoted as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</a:t>
            </a:r>
            <a:r>
              <a:rPr b="0" lang="zh-TW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respectively. (with minimum and maximum x-coordinates respectively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tep 2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ivide the area bounded by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k equally spaced strips and for each strip, select the points with the minimum and maximum y-coordinates. Denote the set of points selected in this step together with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s set 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E82A-3C8B-4281-8B83-E24A33BF307E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lgorithm 9-1 An approximation Algorithm for Convex Hull.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tep 3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truct the convex hull of P and use that as the approximate convex hull of 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complexity: O(n+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 1: O(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 2: O(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 3: O(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投影片編號版面配置區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E627-6825-49A8-AD1A-9AC94456494F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5" name="Object 2"/>
          <p:cNvGraphicFramePr/>
          <p:nvPr/>
        </p:nvGraphicFramePr>
        <p:xfrm>
          <a:off x="539640" y="1909800"/>
          <a:ext cx="8004240" cy="533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09800"/>
                    <a:ext cx="8004240" cy="53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Rectangle 3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proximation ratio bound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5BE9-CC4B-403C-8CAB-293E0B102C8B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good is the solution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far away the points outside are from the approximate convex hull? L/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: the distance between the leftmost and rightmost point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0" name="Object 4"/>
          <p:cNvGraphicFramePr/>
          <p:nvPr/>
        </p:nvGraphicFramePr>
        <p:xfrm>
          <a:off x="1676520" y="3762360"/>
          <a:ext cx="602928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762360"/>
                    <a:ext cx="60292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Text Box 5"/>
          <p:cNvSpPr/>
          <p:nvPr/>
        </p:nvSpPr>
        <p:spPr>
          <a:xfrm>
            <a:off x="4241520" y="4005360"/>
            <a:ext cx="128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outside poi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Line 6"/>
          <p:cNvSpPr/>
          <p:nvPr/>
        </p:nvSpPr>
        <p:spPr>
          <a:xfrm flipH="1">
            <a:off x="5866920" y="5445000"/>
            <a:ext cx="5050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6222960" y="5229360"/>
            <a:ext cx="264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The approximate Convex Hul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Line 8"/>
          <p:cNvSpPr/>
          <p:nvPr/>
        </p:nvSpPr>
        <p:spPr>
          <a:xfrm flipH="1">
            <a:off x="4716360" y="4584600"/>
            <a:ext cx="106560" cy="357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4688640" y="459576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err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投影片編號版面配置區 2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AC63-D43C-45E8-A3AB-12A49ED538C3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Object 2"/>
          <p:cNvGraphicFramePr/>
          <p:nvPr/>
        </p:nvGraphicFramePr>
        <p:xfrm>
          <a:off x="480960" y="2205000"/>
          <a:ext cx="8280360" cy="552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2205000"/>
                    <a:ext cx="8280360" cy="55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3"/>
          <p:cNvSpPr/>
          <p:nvPr/>
        </p:nvSpPr>
        <p:spPr>
          <a:xfrm>
            <a:off x="777600" y="476280"/>
            <a:ext cx="758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1+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-approximation algorith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0F6E-F460-43B5-9763-71A9983B7B0D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n approximation algorithm for Euclidean traveling salesperson problem (ETSP)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TSP is to find a shortest closed path through a set S of n points in the pla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TSP is NP-ha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73EE-5BE1-4942-8DCD-3396389DDFE0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pproximation Algorithm for ETSP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: A set S of n points in the pla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:An approximate traveling salesperson tour of 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tep 1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ind a minimal spanning tree T of 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tep 2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ind a minimal Euclidean weighted matching M on the set of vertices of odd degrees in T. Let G=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∪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tep 3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ind an Eulerian cycle of G and then traverse it to find a Hamiltonian cycle as an approximate tour of ETSP by bypassing all previously visited verti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404E-4D9A-4BC8-B431-3E8DCCB445E5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ulerian Cycle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ulerian pat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ulerian trai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uler wal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in a graph is a path that uses each edge precisely once. If such a path exists, the graph is calle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ravers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ulerian cyc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ulerian circu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uler tou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in a graph is a cycle with uses each edge precisely once. If such a cycle exists, the graph is calle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uler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1A06-B103-45FC-884C-840B77A810CE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. Euler showed that a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ulerian cyc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xists if and only if all vertices in the graph are of even degree and all edges are contained in the same compon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. Euler also showed a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uler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xists, if and only if at most two vertices in the graph are of odd degree and all edges are contained in the same componen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rjiang</cp:lastModifiedBy>
  <dcterms:modified xsi:type="dcterms:W3CDTF">2007-12-25T05:49:31Z</dcterms:modified>
  <cp:revision>24</cp:revision>
  <dc:subject/>
  <dc:title>PowerPoint Presentation</dc:title>
</cp:coreProperties>
</file>