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B8A1-91C8-485B-BB79-D611E7EFD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6536-11AB-4353-AD80-A5FB59C8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EA88-68DB-4F04-B40A-CFE97A76B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26DC-9DB3-4BE0-AFBF-518969DFA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DEEF-C84E-4DEA-AB0F-693CDCB3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53D2-9DAA-48EE-924A-7384E70B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8CF9-BF9B-40C1-B36C-75B247B0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B4E4-06B2-4E78-8CFD-C2945BC7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74C5-269B-42C4-BE0E-3C9A5992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BB08-5D7D-495F-AC0D-88AC1AE0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B624-D515-4ED3-A85E-6619469D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363F-EF67-418B-BD47-970CF191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085F-C986-4BDA-A512-4DB688622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hapter 6: Conditional Proc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55627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1999-2000, Prentice-Hall Incorpor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d 10/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971800"/>
            <a:ext cx="7772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s to Accomp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mbly Language for Intel-Based Computer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152160" y="304920"/>
            <a:ext cx="259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12193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s a boolean OR operation between each of the corresponding bits in two operands and places the result in the first operan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90920" y="3581280"/>
            <a:ext cx="3962160" cy="20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r   ax,b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r   var1,e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r   bl,va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r   dx,02F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r   al,0000111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31240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05120" y="28954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8148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495320" y="31240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55400" y="304920"/>
            <a:ext cx="259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0666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the CapsLock key corresponds to bit 6 in the keyboard status byte. The following turns on the CapsLock k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2971800"/>
            <a:ext cx="731520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ax,40h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; DOS data 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ds,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bx,0017h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; keyboard status 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r  byte ptr[bx],01000000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435040" y="304920"/>
            <a:ext cx="40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olean XOR 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3716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is a truth table, showing the results of XORing individual bi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048120" y="3657600"/>
          <a:ext cx="2819160" cy="1676520"/>
        </p:xfrm>
        <a:graphic>
          <a:graphicData uri="http://schemas.openxmlformats.org/drawingml/2006/table">
            <a:tbl>
              <a:tblPr/>
              <a:tblGrid>
                <a:gridCol w="939600"/>
                <a:gridCol w="939960"/>
                <a:gridCol w="93960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1828800" y="42670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it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38480" y="29718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it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24000" y="304920"/>
            <a:ext cx="28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OR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2971800"/>
            <a:ext cx="5105160" cy="19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p-1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 1 0 1 0 0 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p-2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 1 0 0 1 1 0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result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1 0 0 1 1 1 1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12193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bit in the result is created by XORing each of the input bits in the same 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472428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OR yields a 1 only when the two input bits are differe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24000" y="304920"/>
            <a:ext cx="28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OR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2286000"/>
            <a:ext cx="74678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al,10110011b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or  al,11111111b   ; AL = 010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16765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ORing any bit with 1 toggles (inverts) the b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40384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ORing any bit with 0 leaves the bit unchang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4572000"/>
            <a:ext cx="74678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al,10110011b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or  al,00000000b   ; AL = 10110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24000" y="304920"/>
            <a:ext cx="28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OR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3124080"/>
            <a:ext cx="746784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al,10110011b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or  al,10101100b   ; AL = 00011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or  al,10101100b   ; AL = 10110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137160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XOR operation reverses itself. It is particularly well suited to inverting graphic im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62320" y="3124080"/>
            <a:ext cx="1752480" cy="381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715000" y="3962520"/>
            <a:ext cx="1752480" cy="380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4114800" y="3581280"/>
            <a:ext cx="3808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495680" y="4343040"/>
            <a:ext cx="12193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14800" y="5029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034800" y="304920"/>
            <a:ext cx="282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12193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s a boolean NOT (inversion) operation on each of the bits in the operan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3276720"/>
            <a:ext cx="7086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bh,1100110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t  bh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bh = 001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34800" y="304920"/>
            <a:ext cx="282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G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0666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s the operand to its twos complement. It's a good idea to check the Overflow flag after performing a NEG ope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2666880"/>
            <a:ext cx="7086600" cy="31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bl,0000000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g  b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bl = 11111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ah,1100110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g  ah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ah = 00110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al,-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g  al             ; al = 80h, OF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967840" y="304920"/>
            <a:ext cx="29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ST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0666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s an implied AND operation between corresponding bits in the two operands. Only the flags are aff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2971800"/>
            <a:ext cx="6629400" cy="24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bl,0000000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st bl,00000001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ZF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ah,1100110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st ah,00110010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ZF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967840" y="304920"/>
            <a:ext cx="29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ST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10666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the following will jump to the label PrinterReady if either bit 0, 1, or 2 is set in the AL regis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43000" y="2895480"/>
            <a:ext cx="6629400" cy="20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st al,0000011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nz  PrinterRea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erRea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578760" y="304920"/>
            <a:ext cx="17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1143000"/>
            <a:ext cx="6858000" cy="53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ean and Comparison 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9340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, OR, XOR, NOT, NEG,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9340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T, BTC, BTR, BTS, BSF, BS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9340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P, CMPXCH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tional Ju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93400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93400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tional Lo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93400"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PZ, LOOPE, LOOPNZ, LOOP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-Level Logic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93400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, compound IF, WHILE, REPEAT,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93400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 of procedure off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93400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te-State Machines (FS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3520" y="4572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ble 2. BT, BTC, BTR, and BTS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15720" y="304920"/>
            <a:ext cx="286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MP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3657600"/>
            <a:ext cx="563868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ax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ax,5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ax =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ax,7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ax &lt;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ax,3         ; ax &gt;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121932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s an implied subtraction of the source operand from the target operand. Only the flags are aff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2743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71800" y="2743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28800" y="30481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819520" y="30481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447920"/>
            <a:ext cx="5105520" cy="18334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990720" y="30492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ags Set by the CMP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981080" y="4038480"/>
            <a:ext cx="5334120" cy="19065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62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Sign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22096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Unsign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47320" y="457200"/>
            <a:ext cx="617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1.  Using the CMP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120" y="1905120"/>
            <a:ext cx="5941440" cy="33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al,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  al,10 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CF=1, ZF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ax,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cx,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  cx,ax 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CF=0, ZF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3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si,1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  si,0  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CF=0, ZF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90720" y="45720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ble 3. Do-While Loop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705720" cy="34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62120" y="3049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ble 4. Jumps Based on General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76520" y="1066680"/>
            <a:ext cx="601956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304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ble 5. Jumps Based on Unsigned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23888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94320" y="101520"/>
            <a:ext cx="728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ble 6. Jumps Based On Signed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52480" y="762120"/>
            <a:ext cx="5257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88720" y="2209680"/>
            <a:ext cx="8456040" cy="24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:       mov   small,al      ; assume AL is the small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:       cmp   small,bl      ; if small &lt;= BL 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:       jbe   L1            ;   jump to L1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:       mov   small,bl      ; else move BL to small    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:  L1:  cmp   small,cl      ; if small &lt;= CL then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:       jbe   L2            ;   jump to L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:       mov   small,cl      ; else move CL to small    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:  L2: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45720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ding the Smallest of Three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66800" y="228600"/>
            <a:ext cx="73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 3. Single Character Encryption Using X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7040" y="1143000"/>
            <a:ext cx="786168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ORVAL = 239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any value between 0–2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 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ax,@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ds,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1:  mov   ah,6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direct console input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dl,0FFh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don’t wait for charac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   21h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AL = charac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z    L2 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quit if ZF = 1 (EO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or   al,XO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ah,2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write to 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dl,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   21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   L1 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repeat the 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2:  mov   ax,4C00h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return to 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   21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 en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  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3808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ble 1. Boolean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23888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9400" y="228600"/>
            <a:ext cx="769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4. Testing the Isalpha Procedure (1 of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95080" y="990720"/>
            <a:ext cx="7633080" cy="54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tle Test Alphabetic Input           (ISALPHA.AS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This program reads and displays characters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until a non–alphabetic character is ente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model sm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stack 10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code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 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ax,@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ds,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1: mov  ah,1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input a charac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  21h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AL = charac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Isalpha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test value in 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nz  exit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exit if not alphabe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  L1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continue 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: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ax,4C00h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return to 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   21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 en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9400" y="304920"/>
            <a:ext cx="769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4. Testing the Isalpha Procedure (2 of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8120" y="914400"/>
            <a:ext cx="7450200" cy="51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Isalpha sets ZF = 1 if the charac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in AL is alphabeti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alpha 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 ax  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save 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  al,11011111b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convert to upper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  al,’A’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check ‘A’...’Z’ 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b   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  al,’Z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a   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st ax,0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ZF = 1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1: pop ax   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restore 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alpha en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 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549440" y="304920"/>
            <a:ext cx="57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rgest and Smallest Signed Array Valu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89760" y="2286000"/>
            <a:ext cx="5987160" cy="33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mallest = array[cou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rgest = array[cou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X =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 while CX &gt;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X = array[cou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AX &lt; smallest) then smallest = 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AX &gt; largest) then largest = 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 = count +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X = CX -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0666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eudocode for a simple loop that finds the largest and smallest values in an arr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304920"/>
            <a:ext cx="75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 5. Largest and Smallest Signed Array Values (1 of 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9880" y="2438280"/>
            <a:ext cx="7343640" cy="27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rgest  dw  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mallest dw  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 dw  –1,2000,–421,32767,500,0,–26,–4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Count = ($-array) / (type arr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rgemsg db "Largest value:  ",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mallmsg db "Smallest value: ",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0666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is the algorithm implemented in an assembly language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57150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304920"/>
            <a:ext cx="75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 5. Largest and Smallest Signed Array Values (2 of 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6680" y="1143000"/>
            <a:ext cx="7998840" cy="46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trn Clrscr:proc, Crlf:proc, Writeint_signed:proc, 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ritestring: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 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ax,@data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initialize 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ds,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di,offset 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ax,[di]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get first 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largest,ax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initialize larg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smallest,ax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initialize small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cx,arrayCount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loop 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1: mov  ax,[di]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get array 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  ax,smallest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[DI] &gt;= smalles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ge  A2     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yes: sk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smallest,ax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no: move [DI] to small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63244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76160" y="304920"/>
            <a:ext cx="75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 5. Largest and Smallest Signed Array Values (3 of 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720" y="1828800"/>
            <a:ext cx="777024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2: cmp  ax,largest     ; [DI] &lt;= larges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e  A3             ; yes: sk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largest,ax     ; no: move [DI] to larg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3: add  di,2           ; point to next 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op A1             ; repeat the loop until CX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Show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ax,4C00h       ; return to 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  21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 en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72200" y="55627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160" y="304920"/>
            <a:ext cx="83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5. Largest and Smallest Signed Array Values (4 of 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1143000"/>
            <a:ext cx="7772400" cy="51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Display the largest and smallest valu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owResults proc  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dx,offset largemsg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larg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 Write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ax,larg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 Writeint_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 CrL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dx,offset smallms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small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 Write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ax,small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 Writeint_signed   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 CrL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owResults endp   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 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439000" y="304920"/>
            <a:ext cx="402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ndi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3124080"/>
            <a:ext cx="7924680" cy="20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z   al             ; set AL to 1 if ZF = 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e   al             ; set AL to 1 if ZF = 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nc  myFlag         ; set myFlag to 1 if CF = 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ae  myFlag         ; set myFlag to 1 if CF = 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ge  byte ptr [si]  ; set [si] to 1 if SF = 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nbe byte ptr [si]  ; set [si] to 1 if SF = 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12193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dit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instruction sets a byte operand to 1 if a given condition is true, or to 0 if the condition is false. Here are 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29680" y="304920"/>
            <a:ext cx="66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ditional Loops (LOOPZ and LOOP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2666880"/>
            <a:ext cx="8305920" cy="33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array dw 0,0,0,0,1,20,35,–12,66,4,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Size = ($–intarray) / (type intarr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   bx,offset intarray ; point to the 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   bx,2               ; back up one 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   cx,ArraySize       ; repeat ArraySize times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x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   bx,2               ; point to next 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   word ptr [bx],0    ; compare value to zero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opz next               ; while ZF=1 and CX &gt; 0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120" y="10666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OOPZ and LOOPE instructions allow a loop to continue if ZF =1 and CX &gt; 0. The following example scans an array looking for a nonzero val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57560" y="30492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ditional Loop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2666880"/>
            <a:ext cx="777240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xt: 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   [bx],ax  ; compare array value to z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add   bx,2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  ; point to next entry, ZF = 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opz next     ; error: Zero flag has 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12193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areful not to modify the flags prior to to a conditional LOOP i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444760" y="30492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olean AND 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15238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is a truth table, showing the results of ANDing individual bi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048120" y="3657600"/>
          <a:ext cx="2819160" cy="1676520"/>
        </p:xfrm>
        <a:graphic>
          <a:graphicData uri="http://schemas.openxmlformats.org/drawingml/2006/table">
            <a:tbl>
              <a:tblPr/>
              <a:tblGrid>
                <a:gridCol w="939600"/>
                <a:gridCol w="939960"/>
                <a:gridCol w="93960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1828800" y="42670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it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29718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it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438280" y="304920"/>
            <a:ext cx="40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OPNZ and LOOP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2819520"/>
            <a:ext cx="6477120" cy="30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ytearray db  ‑3,‑6,‑1,‑10,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30,40,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Size  = ($–array)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   si,offset bytearray‑1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   cx,Array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x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   si  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st  byte ptr [si],10000000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opnz next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21932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OOPNZ and LOOPNE instructions continue the loop as long as ZF=0 and CX &gt; 0. The following loop scans an array until a positive integer is f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159640" y="304920"/>
            <a:ext cx="45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gh-Level Logic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09680" y="1676520"/>
            <a:ext cx="4648320" cy="34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und IF Using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und IF Using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0960" indent="-23832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0960" indent="-23832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-WHILE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0960" indent="-23832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-UNTIL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755080" y="304920"/>
            <a:ext cx="338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mple IF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48320" y="2514600"/>
            <a:ext cx="320040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mp  ax,o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e  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mp 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flag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count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1828800"/>
            <a:ext cx="3124080" cy="23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seudoco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AX = op2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flag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count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48320" y="1828800"/>
            <a:ext cx="3124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mplemen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548000" y="304920"/>
            <a:ext cx="581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mple IF Statement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lternate for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00600" y="3276720"/>
            <a:ext cx="3200400" cy="20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mp  ax,o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ne 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flag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count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14400" y="2514600"/>
            <a:ext cx="3124080" cy="23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seudoco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AX = op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flag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count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952880" y="2514600"/>
            <a:ext cx="3124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mplemen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12193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ing the condition enables you to shorten the implementation by one instru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644480" y="304920"/>
            <a:ext cx="562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ound IF Statement Using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00600" y="2286000"/>
            <a:ext cx="2971800" cy="33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al,o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g   L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al,o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ge  L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al,op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e   L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mp  L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1: mov  flag,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count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2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1371600"/>
            <a:ext cx="3048120" cy="38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seudoco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AL &gt; op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(AL &gt;= op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 (AL = op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 flag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 count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52880" y="1523880"/>
            <a:ext cx="3124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mplemen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26400" y="304920"/>
            <a:ext cx="58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ound IF Statement Using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371600"/>
            <a:ext cx="3048120" cy="38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seudoco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AL &gt; op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(AL &gt;= op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(AL = op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 flag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 count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52880" y="1523880"/>
            <a:ext cx="3124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mplemen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24280" y="2286000"/>
            <a:ext cx="2971800" cy="30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al,o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ng  L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al,o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nge L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al,op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ne  L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flag,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count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404440" y="304920"/>
            <a:ext cx="41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bining AND and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371600"/>
            <a:ext cx="3048120" cy="38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seudoco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AL &gt; op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(AL &gt;= op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(AL = B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 flag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 count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1523880"/>
            <a:ext cx="3124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mplemen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24280" y="2286000"/>
            <a:ext cx="2971800" cy="33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al,o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ng  L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al,o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nge L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mp  L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1: cmp  al,b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ne  L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2: mov  flag,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count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3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988640" y="380880"/>
            <a:ext cx="48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 6. Do-While Loop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1600200"/>
            <a:ext cx="7391520" cy="49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ssembly Cod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Pseudo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mp  op1,op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op1 &lt; op2)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nl  L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tatement1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&lt;statement1&gt;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mp op2,op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op2 = op3 then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ne L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tatement2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&lt;statement2&gt;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tatement3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&lt;statement3&gt;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mp L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1: &lt;statement4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&lt;statement4&gt;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2: jmp whi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3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034720" y="38088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4.4.  Repeat-Until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01640" y="2057400"/>
            <a:ext cx="5514840" cy="15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statement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statement2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statement3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til (op1 = op2) or (op1 &gt; op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44197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this loop in assembly langu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55627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4400" y="12952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the following structur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828800" y="3049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-Until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30400" y="1447920"/>
            <a:ext cx="8410320" cy="40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:       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:          &lt;statement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:          &lt;statement2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:          &lt;statement3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:       test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6:          cmp  op1,op2    ; if op1 = op2 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7:          je   endif      ;   exit the 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8:       test2:             ; 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9:          cmp  op1,op3    ;   if op1 &lt;= op3 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:          jng   repeat    ;     repeat the 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:       endif:             ;   end 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2:                          ; end 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34080" y="304920"/>
            <a:ext cx="282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5120" y="2971800"/>
            <a:ext cx="5105160" cy="19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p-1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 1 0 1 0 0 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p-2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 1 0 0 1 1 0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result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0 1 0 0 0 0 0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12193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bit in the result is created by ANDing each of the input bits in the same 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747880" y="22860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4.5  CASE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81080" y="3048120"/>
            <a:ext cx="4724640" cy="20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se input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A'  :Process_A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B'  :Process_B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C'  :Process_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D'  :Process_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121932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SE structure allows a multiway branch by comparing a single value to a list of values. This example is taken from Pasc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371960" y="304920"/>
            <a:ext cx="622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lementing the Case in Assembly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2209680"/>
            <a:ext cx="7772400" cy="24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al,input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case al 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   al,’A’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 ‘A’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e    Process_A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    goto Process_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   al,’B’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 ‘B’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e    Process_B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    goto Process_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   al,’C’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 ‘C’: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e    Process_C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    goto Process_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   al,’D’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 ‘D’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121932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st direct implementation involves CMP and conditional jump instru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90720" y="525780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you can also call procedures and jump to an ending lab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2900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116000" y="304920"/>
            <a:ext cx="67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 9. Case Structure Using Procedure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" y="1057320"/>
            <a:ext cx="8153280" cy="54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 al,input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case al 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    al,’A’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 ‘A’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ne    L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  Process_A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ll Process_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    L4    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      jump to L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1: cmp    al,’B’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 ‘B’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ne    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  Process_B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      call Process_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    L4    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      jump to L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2: cmp    al,’C’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 ‘C’: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ne    L3            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  Process_C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      call Process_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    L4    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      jump to L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3: cmp    al,’D’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 ‘D’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ne    L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  Process_D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      call Process_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:              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 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765000" y="254160"/>
            <a:ext cx="722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 10. Table Containing Offsets of 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0920" y="3254400"/>
            <a:ext cx="8105760" cy="27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seTable  db   ‘A’           ; lookup 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       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   process_A     ; address of proced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       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   ‘B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       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   process_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       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   ‘C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       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   Process_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       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   ‘D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       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   Process_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12193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able may contain lookup values and corresponding procedure offsets. Unlike a case structure, this table can be modified at run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908720" y="380880"/>
            <a:ext cx="528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g 1. Table of Procedure Off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371600" y="3657600"/>
            <a:ext cx="6248520" cy="16336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4400" y="1371600"/>
            <a:ext cx="716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's assume that four different procedures are located at offsets 0120, 0130, 0140, and 0150, respectively. This is how the table would look in memo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105920" y="254160"/>
            <a:ext cx="62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 11. Case Table Lookup Using a L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8720" y="2590920"/>
            <a:ext cx="84560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umberOfEntries = 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put dw 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al,input            ; value to be f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bx,offset CaseTable ; point BX to the 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cx,NumberOfEntries  ; loop counter 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1: 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cmp   al,[bx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         ;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 match foun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ne   L2                  ; no: contin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  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call  word ptr [bx+1]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; 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yes: call the proced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   L3                  ; exit the 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2: add   bx,3                ; point to next 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op  L1                  ; repeat until CX = 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3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990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L matches a character in the table, the following code calls the procedure whose address is located in the table immediately following the matching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212560" y="304920"/>
            <a:ext cx="43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g 2. Finite-State Machi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905120" y="3200400"/>
            <a:ext cx="4572000" cy="28065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09480" y="12193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inite-state mach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FSM) is a connected graph consisting of nodes and directed arcs. Each arc shows a possible transition between states, and each node represents a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267080" y="54100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(terminal st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57200" y="304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 3. FSM for a String Beginning With X and Ending with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905120" y="3048120"/>
            <a:ext cx="4724280" cy="29318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09480" y="1219320"/>
            <a:ext cx="8001000" cy="14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matching string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aabcfg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uytrz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aaaaaaz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erwoiuoeruox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yyyaaayay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299600" y="304920"/>
            <a:ext cx="609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gure 4. Signed Decimal Integer FS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410440" cy="30625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609480" y="121932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matching string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87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5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447920" y="304920"/>
            <a:ext cx="60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 12. FSM for Signed Decimal Input (1 of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4960" y="1295280"/>
            <a:ext cx="7953120" cy="46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tle Finite State Machine           (fsm.as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 Chapter 6 example. Implementation of finite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 state machine that accepts an integer with an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 optional leading sign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model 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stack 100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S_CHAR_INPUT = 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TER_KEY = 0D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validInputMessage db "Invalid input",0dh,0ah,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34080" y="304920"/>
            <a:ext cx="282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12193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s a boolean AND operation between each of the corresponding bits in two operands and places the result in the first operan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3581280"/>
            <a:ext cx="3962160" cy="20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d  ax,b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d  var1,e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d  bl,va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d  dx,02F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d  al,0000111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31240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05120" y="28954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495320" y="31240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295280" y="304920"/>
            <a:ext cx="60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 12. FSM for Signed Decimal Input (2 of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0680" y="1143000"/>
            <a:ext cx="8547480" cy="51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trn Writestring:proc, Crlf:proc, Clrscr: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 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ax,@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ds,ax  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Clrsc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e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Getnext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read next char into 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 al,’+’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leading + sig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e StateB 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go to State 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 al,’–’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leading – sig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e StateB 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go to State 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Isdigit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ZF = 1 if AL contains a dig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z Stat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DisplayError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invalid input f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 Ex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371600" y="228600"/>
            <a:ext cx="60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 12. FSM for Signed Decimal Input (3 of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0680" y="990720"/>
            <a:ext cx="8547480" cy="54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eB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Getnext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read next char into 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Isdigit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ZF = 1 if AL contains a dig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z Stat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DisplayError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invalid input f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 Ex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e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Getnext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read next char into 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z   Exit 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quit if Enter pres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Isdigit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ZF = 1 if AL contains a dig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z Stat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DisplayError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invalid input f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 Ex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Crl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ax,4c0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  21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 en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452160" y="1143000"/>
            <a:ext cx="809028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Read char from standard input into AL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set ZF = 1 if Enter key was re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next 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ah,DOS_CHAR_INPUT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read standard 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  21h      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AL = charac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  al,ENTER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next en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Set ZF = 1 if the character in AL is a dig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digit 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  al,’0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b   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  al,’9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a   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st  ax,0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set ZF = 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1: 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digit en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71600" y="304920"/>
            <a:ext cx="62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 12. FSM for Signed Decimal Input (4 of 5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447920" y="457200"/>
            <a:ext cx="60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 12. FSM for Signed Decimal Input (5 of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78320" y="1806480"/>
            <a:ext cx="6428880" cy="40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 Display error mess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playError pr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 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  dx,offset InvalidInput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 Write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 Cr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  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playError en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 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324480" cy="49118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065600" y="380880"/>
            <a:ext cx="73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7. Conditional Jumps, Flag Settings (Question 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438280" y="21337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505320" y="3200400"/>
            <a:ext cx="129528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36960" y="304920"/>
            <a:ext cx="282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0666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the following will jump to the label PrinterReady if bits 0, 1, and 2 are all set in the AL regis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2895480"/>
            <a:ext cx="6629400" cy="24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d  al,0000011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mp  al,0000011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e   PrinterRea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erRea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563200" y="304920"/>
            <a:ext cx="37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olean OR 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4479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is a truth table, showing the results of ORing individual bi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048120" y="3657600"/>
          <a:ext cx="2819160" cy="1676520"/>
        </p:xfrm>
        <a:graphic>
          <a:graphicData uri="http://schemas.openxmlformats.org/drawingml/2006/table">
            <a:tbl>
              <a:tblPr/>
              <a:tblGrid>
                <a:gridCol w="939600"/>
                <a:gridCol w="939960"/>
                <a:gridCol w="93960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1828800" y="42670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it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038480" y="29718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it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52160" y="304920"/>
            <a:ext cx="259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05120" y="2971800"/>
            <a:ext cx="5105160" cy="19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p-1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 1 0 1 0 0 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p-2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 1 0 0 1 1 0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result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1 1 0 1 1 1 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2193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bit in the result is created by ORing each of the input bits in the same 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6T13:44:54Z</dcterms:created>
  <dc:creator>Kip Irvine</dc:creator>
  <dc:description/>
  <dc:language>en-US</dc:language>
  <cp:lastModifiedBy>Kip Irvine</cp:lastModifiedBy>
  <dcterms:modified xsi:type="dcterms:W3CDTF">2000-10-28T11:56:39Z</dcterms:modified>
  <cp:revision>191</cp:revision>
  <dc:subject/>
  <dc:title>No Slide Title</dc:title>
</cp:coreProperties>
</file>