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CEF-FB6B-4681-9CEF-0FEC6641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A78-9776-4734-A637-D805307D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935-E69F-4A3E-8466-EC8FCFA2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50C-7235-49A4-87CC-FE444B58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52B-D876-456A-9629-C1521E3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B67-AE23-4B77-B5AA-7069C94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6D5-7AED-42DE-9DF1-CA6BB3B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73D-02F9-4CC5-A52E-F35F57F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8CD-2232-465C-8473-7EE82252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AA2-2150-4606-98F4-5EBC1CE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9E2-6A80-439F-A46F-02C0967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277-4B83-445B-8C36-EA0F6C6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1EFA-BBAC-4D77-A416-BBA684519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4: Using the As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19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5040" y="838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Operator Precedenc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47676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ct Operands, Page 1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828800"/>
            <a:ext cx="83822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ist db 10h,20h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db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aList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6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si,offset su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offset of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si],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400" y="68580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Adding Several 8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200400"/>
            <a:ext cx="80010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List dw 1000h,2000h,30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   dw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word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x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firs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con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r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bx+6],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880" y="53352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. Adding 16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3962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676520"/>
            <a:ext cx="81536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db "This is a string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= ($ – string)   ; calculate string 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si,offset string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[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  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crement CX, repeat until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572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Displaying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83059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array dw 100h,200h,300h,4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= ($ – intarray) / 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ero the 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i,offset intarray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ress of int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ax,[d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 an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d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880" y="5335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6. Summing an Integ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772400" cy="269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and Indexed Operands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086600" cy="136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 Example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Operands, Page 1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343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360" y="1828800"/>
            <a:ext cx="8136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WSIZE = 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  db 10h, 20h, 30h, 40h, 50h, 60h, 70h, 80h, 9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 0A0h, B0h, 0C0h, 0D0h, 0E0h, 0F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bx,offset 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the array at 0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bx,ROWSIZ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ose second 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se third 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[bx + 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value at 01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52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7. Two-Dimensional Array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3640" y="1522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Sample Source Listing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8400" y="838080"/>
            <a:ext cx="90504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hange Two Variables          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AMPLE.A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B8 0000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initialize DS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3  8E D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  A0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l,value1 ; load the AL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8  86 06 0001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chg  al,value2 ; exchange AL, 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C  A2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value1,al ; store new value of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F  B8 4C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; return to 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2  CD 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1  db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1  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2  db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010640" cy="139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533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with Displacement, Page 1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90720"/>
            <a:ext cx="678168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 title Mismatching Operand Size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value1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h,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value2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end 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9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0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680" y="30492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8. Program with Mismatching Operand S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74600" y="762120"/>
            <a:ext cx="551484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title Miscellaneous Errors 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        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        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        mov   ax,bx * c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        mov   bx,value1 * 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        mov   byte ptr value3,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        mov   cx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        mov   cs,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        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     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  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:   value2   db   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:   value3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:   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2040" y="2286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9. Program with Miscellaneous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00800" cy="561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" y="228600"/>
            <a:ext cx="76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573588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9400" y="15228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48640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2320" y="380880"/>
            <a:ext cx="66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Data Types for the EXTR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9520" y="673200"/>
            <a:ext cx="69246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tle Link Library Demo Program           (lnkdemo.as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This program calls various I/O proced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 the link libr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iteOnBlue = 1F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Loc = 04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Link Library Demo Program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What is your name? ",0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umberPrompt db 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lease enter a 16–bit integer: 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50 dup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essAnyKey  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ress any key...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trn Clrscr:proc, Crlf:proc, Gotoxy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int:proc, Readstring:proc, Scroll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key:proc, Writeint:proc, Writestring:pro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08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7160" y="762120"/>
            <a:ext cx="67338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Clear the screen, scroll a blue 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04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pper–lef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0B28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lower–righ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h,WhiteOn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Scr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isplay a greeting and ask for the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ser’s 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Greeting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Got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gr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us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ead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762120"/>
            <a:ext cx="62388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Ask the user to enter a signed decimal integ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Redisplay the number in hexadecimal and bin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numberProm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in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put an inte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16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hexadecim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2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bina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pressAny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ax,4c00h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end 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 21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ain endp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28600" y="1371600"/>
            <a:ext cx="907560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rn Randomize:proc, Random_range:proc, WriteInt:proc, Crlf: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1: mov  eax,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_range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EAX = random 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x,10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ecimal rad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Int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 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520" y="4572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1. Generating Random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59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920" y="68724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ing and Linking with MS-DOS Batc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6360" y="99072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Seconds_today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c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, in 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b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start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Y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  eax,eb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ubtract from 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eax,ec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 finished y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DLY1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f not,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8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2. The Delay_second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14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80880"/>
            <a:ext cx="87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emory Models Recognized by MASM (and TAS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4280" y="6858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Overlapping Segments in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8915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00  B8 DC 23 8E D8 B4 09 BA‑00 00 CD 21 B8 00 4C CD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10  21 00 00 00 00 00 00 00‑00 00 00 00 00 00 00 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20  48 65 6C 6C 6F 2C 20 77‑6F 72 6C 64 21 0D 0A 24 Hello, world!..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30  F4 B2 56 F6 E2 8B F0 E8‑34 00 A1 28 50 A9 00 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40  74 1E F6 06 1F 49 06 74‑17 F6 06 1F 49 04 74 0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50  50 56 8A 36 22 49 33 F6‑E8 13 00 5E 58 25 FF 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60  B3 01 E8 C1 C8 8B C6 F6‑F2 07 5E 5A 5B C3 32 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etc.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200" y="99072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Hexadecimal Dump of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9760" y="1522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Target Processor Dir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47144"/>
          <a:stretch/>
        </p:blipFill>
        <p:spPr>
          <a:xfrm>
            <a:off x="1371600" y="8380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2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2860" r="0" b="0"/>
          <a:stretch/>
        </p:blipFill>
        <p:spPr>
          <a:xfrm>
            <a:off x="762120" y="762120"/>
            <a:ext cx="76960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5T01:00:26Z</dcterms:modified>
  <cp:revision>62</cp:revision>
  <dc:subject/>
  <dc:title>No Slide Title</dc:title>
</cp:coreProperties>
</file>