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19E-B960-40D8-B050-63B129B3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594-EF95-4278-9529-16B371E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FD9-DC9B-43D6-ACD8-A60992F3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AB7-D424-4365-BB38-D983D79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665-AB0E-407B-9246-EBCE695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E21-7206-4E26-8997-2212814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D3E-05D2-4756-A035-9E059ED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F6C-2E73-4A48-83A8-83EC34E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CFC-3750-41D2-B713-AB7912E0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573-B580-471C-948D-070A5AA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26D-AA23-4D60-8847-8E5673D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72F-1C84-44AB-9344-D9F3211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BB6F-8AB8-42E6-A186-0595F842E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: Assembly Language Fundamen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53080" cy="469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Memory Operand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479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09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Examples for Review Question 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504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380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 Examples for Review Question 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228600"/>
            <a:ext cx="739152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The Hello World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Hello World Program         (hello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displays “Hello, world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 db “Hello, world!”,0dh,0ah,’$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x,offset 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451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3680" y="53352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tandard Assembler Dir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7924680" cy="223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7000" y="12193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The Assemble-Link-Execute Cycl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315200" cy="303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7880" y="990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Files Created by the Assembler and Lin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553080" cy="340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7621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  Data Allocation 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828800"/>
            <a:ext cx="838188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       = 10 * 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valuates an 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nt   = 7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ax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Int   = 8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in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Int  = 0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16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  = ‘XY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Up to two characters 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  = 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value = count + 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n use a predefined 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ong  = 7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Long  = 80000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in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Long = 0F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.1  Equal-Sign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05520" cy="500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1400" y="457200"/>
            <a:ext cx="62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2. Using the Equal-Sig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0920" y="23004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Exchanging Two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760" y="853920"/>
            <a:ext cx="749592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Exchange Two Variables        (Exchange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1 db 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2 db 1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; initialize DS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value1     ; load the AL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hg value2,al     ; exchange AL and 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value1,al     ; store AL back into 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; exit 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5:53Z</dcterms:modified>
  <cp:revision>54</cp:revision>
  <dc:subject/>
  <dc:title>No Slide Title</dc:title>
</cp:coreProperties>
</file>