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DCA-95C6-40A0-8CB6-636E413D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A8D-C790-45BB-B086-DB27B3E7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4A8-21FC-4EF1-A5B0-732E42EE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3CA-7739-490B-A54D-098E001A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5A7-8375-48B6-9877-69F98909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E1F-8F33-4222-89D3-F5CE31CF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E3E-7B17-41B6-BEFE-3BE3D24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D71-399E-429E-BEE2-EB3A713F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2F5-683A-4A5F-9481-8DC49B9E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981-13CB-46B6-994D-341EAFD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424-9596-48C1-8E08-ACEB3A4F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192-B19D-4BE4-B720-0546D240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F8A0-D667-4470-A305-992795CE8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2: Hardware and Softwar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458640"/>
            <a:ext cx="45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Simplified CPU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641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024520" cy="458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3480" y="53352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Intel 16-bit Regi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2577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990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ags Register, page 2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310000" cy="406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4200" y="838080"/>
            <a:ext cx="44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3. The 32-bit Register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48913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9907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4. Map of the First Megabyte of PC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476892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609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Map of the BIOS Data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78168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8240" y="152388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Serial Port Configu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3T05:04:10Z</dcterms:modified>
  <cp:revision>50</cp:revision>
  <dc:subject/>
  <dc:title>No Slide Title</dc:title>
</cp:coreProperties>
</file>