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748-6D5F-4337-A5C4-1E5BB256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FCB-DF1C-41E6-A00A-C0545F86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DC6-E789-421B-9B7D-E5632969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3FE-1309-426F-969D-9B47C5A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FAA-96D6-4FE1-9005-9A1EE62F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232-F458-476A-8E12-4C18C379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E36-DFF0-4BAF-8022-5758948B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B35-BF8C-4607-A6D5-2A0C2219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AD1-4B98-494B-9FF4-D0D71D8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CF6-4858-4400-92B5-B0F2944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160-CBC2-4F94-B753-F9969F4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A24-76DB-4BB6-8984-FE6617D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F789-CA22-4DE2-BBC7-1649BFBF3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1: Context of Assembl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43000" y="990720"/>
          <a:ext cx="708660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866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1430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Binary Bit Posi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98400" y="122076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3. Converting Binary to Dec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246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5800" y="1981080"/>
          <a:ext cx="78487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4320" y="76212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6. Binary, Decimal, and Hexadecimal Equival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685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7. Powers of 16, in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828800"/>
          <a:ext cx="800100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010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629400" cy="249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3440" y="12970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4.  Converting 3BA4 Hexadecimal to Dec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095880" cy="247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6520" y="838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2: Sign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5320" y="9158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8. Signed Integer Storage and R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543800" cy="232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762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4. ASCII Representation of 1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67480" cy="3505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7520" y="685800"/>
            <a:ext cx="61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5. Sample Program Written in Debu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53352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Debug Commands to Assemble and Test the Sampl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5761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1720" y="45864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Software Hierarch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5200" y="763560"/>
            <a:ext cx="60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9. Commonly Used Debug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2438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Machine Language Generation by ASM and HLL pro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560" y="22860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Comparison of Assembly Language to H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914400"/>
          <a:ext cx="800100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010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Assembly Language Subroutines Used as Hardware Interf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5680" y="68436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7: Bits, Bytes, and Double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5280" y="2286000"/>
          <a:ext cx="64771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4771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4600" y="83988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Storage Sizes and Ranges of Unsigned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2120" y="2743200"/>
          <a:ext cx="754380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54380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991080" y="106848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Digits in Various Numbe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76520"/>
          <a:ext cx="670572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70572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762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9. ASCII Digit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1T23:41:22Z</dcterms:modified>
  <cp:revision>37</cp:revision>
  <dc:subject/>
  <dc:title>No Slide Title</dc:title>
</cp:coreProperties>
</file>